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193B-C116-45CD-80FD-1F14813E0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6167-005F-4C8C-A470-9E76D7FB7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3425-4982-483E-BF72-C30E32C47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88E7-700F-4F93-B694-40C39BA07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D8BF-C782-436C-AA4F-DAB0C70BF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AA9E-631F-4674-B25D-A92AAF994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3633-AC33-4A59-9623-2988FCB9A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F487-B8D0-4C0F-8126-F0E8D9C78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53C1-3243-4401-832C-A5DE7288D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8ED7-7760-41BA-B876-9A3BA5957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2318-8E67-4E83-935E-67B4F6018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7A19-CB77-4BFA-A4E9-696A44FC1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EE3CA-094A-44BF-94F7-7E0612C458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*</a:t>
            </a:r>
            <a:br>
              <a:rPr sz="2800"/>
            </a:br>
            <a:r>
              <a:rPr b="1" i="1" lang="en-GB" sz="4400" spc="-1" strike="noStrike">
                <a:solidFill>
                  <a:srgbClr val="ffff00"/>
                </a:solidFill>
                <a:latin typeface="Arial"/>
                <a:ea typeface="Times New Roman"/>
              </a:rPr>
              <a:t>Latest developments in the EU legislation concerning financial sector</a:t>
            </a: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8th edition</a:t>
            </a:r>
            <a:br>
              <a:rPr sz="2800"/>
            </a:b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*</a:t>
            </a:r>
            <a:br>
              <a:rPr sz="2800"/>
            </a:b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Brussels, 9 December 2004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15764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733920" y="76320"/>
            <a:ext cx="1752480" cy="13492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514600" y="1447920"/>
            <a:ext cx="419112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  <a:ea typeface="Arial"/>
              </a:rPr>
              <a:t>FEDERATION BANCAIRE DE L’UNION EUROPEEN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BANKING FEDERATION OF THE EUROPEAN UNION</a:t>
            </a: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2.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Recommendation on Directors remuneration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50560" y="1700280"/>
            <a:ext cx="856908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recommendation was adopted by the European Commission on 6 October 2004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mber States should ensure that listed companies disclose their policy on directors’ remuneration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vites to adopt measures in four area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remuneration policy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shareholders meetings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disclosure of the remuneration of individual directors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approval of share and share option schem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3.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Recommendation on role of independent Director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560" y="1700280"/>
            <a:ext cx="856908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recommendation was adopted by the European Commission on 6 October 2004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mber States have been invited to reinforce the presence and role of independent non-executive directors on listed companies’ board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ntion to protect shareholders, employees and the public against potential conflicts of interest by an independent check on management decisio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4.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rategy to prevent financial and corporate malpractice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95280" y="1915920"/>
            <a:ext cx="813744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dopted by the European commission on 30 September 2004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ludes co-ordinated action i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financial services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company la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accounting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taxation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supervision and enforcement areas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4.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rategy to prevent financial and corporate malpractice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5280" y="1915920"/>
            <a:ext cx="813744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w policy initiatives in taxation and law enforcement field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ey elements ar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enhanced transparency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improved traceability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better co-ordinated enforcemen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Recent propos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80773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ive to simplify the formation, maintenance and alteration of public LLC capital (Octo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Recent propos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80773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ive to simplify the formation, maintenance and alteration of public LLC capital (Octo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ur key revisions of the EU’s Accounting Directives (Octo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Recent propos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80773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ive to simplify the formation, maintenance and alteration of public LLC capital (Octo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ur key revisions of the EU’s Accounting Directives (Octo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Capital requirements framework for banks and investment firms (July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Recent propos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07732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ive to simplify the formation, maintenance and alteration of public LLC capital (Octo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ur key revisions of the EU’s Accounting Directives (Octo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Capital requirements framework for banks and investment firms (July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pdate of the anti-money laundering Directive (June 2004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4360" y="228600"/>
            <a:ext cx="777384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5. Proposed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rective to amend the Second Company law Directive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95280" y="2060640"/>
            <a:ext cx="835344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proposal for a Directive was presented by the European Commission on 29 October 2004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proposed Directive, once adopted, should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mplify the formation, maintenance and alteration of companies’ capital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mend the related parts of the Second Company law Directiv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This proposal is a part of Commission’s Action Plan on Company Law and Corporate Governan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4360" y="228600"/>
            <a:ext cx="777384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ffff00"/>
                </a:solidFill>
                <a:latin typeface="Times New Roman"/>
              </a:rPr>
              <a:t>6. </a:t>
            </a:r>
            <a:r>
              <a:rPr b="0" lang="en-GB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our key revisions of the EU’s Accounting Directives</a:t>
            </a: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95280" y="1773000"/>
            <a:ext cx="83534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proposal was presented by the European commission on 28 October 2004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 key revision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stablish that board members are collectively responsible for financial statements and key non-financial information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ke unlisted companies’ transactions with related parties more transparen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sure that all companies provide full information about off-balance sheet arrangements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ke listed companies issue an annual “corporate governance statement”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10 most recent issu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520" y="2590920"/>
            <a:ext cx="80773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Adopted measure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(-4-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50560" y="228600"/>
            <a:ext cx="84978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7.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ew Capital requirements framework for banks and investment firms 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95280" y="1844280"/>
            <a:ext cx="83534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proposal was presented by the European commission on 14 July 2004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proposal is aimed at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suring the coherent application throughout the EU of the new international capital requirements framework recently agreed by the Basel Committee (BASEL II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king sure that financial institutions capital is more closely aligned with the risks they fac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hancing consumer protection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inforcing the financial stabilit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55640" y="228600"/>
            <a:ext cx="7416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8.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pdate of the anti-money laundering Directive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95280" y="1844280"/>
            <a:ext cx="8353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proposal was presented by the European commission on 30 June 2004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proposal, once adopted, should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Update and improve the EU’s existing anti-money laundering Directiv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iden the scope of the Directiv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Ensure the coherent application in all Member States of the latest Recommendations of the FATF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Consul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9640" y="1989000"/>
            <a:ext cx="799488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asic shareholders’ rights (Septem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Consul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9640" y="1989000"/>
            <a:ext cx="799488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asic shareholders’ rights (Septem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ll to CESR for technical advise on possible measures concerning the credit rating agencies (July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9640" y="380520"/>
            <a:ext cx="78422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9. Consultation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on Basic shareholders’ rights 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50560" y="2204640"/>
            <a:ext cx="878508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consultation was launched by the European Commission on 16 September 2004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in issu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acilitating the exercise of basic shareholders’ rights in company general meetings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lving the problems in cross-border exercise of such righ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posal for a Directive has been consider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eadline for the responses – 16 December 2004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9640" y="380520"/>
            <a:ext cx="78422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10.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all to CESR for technical advise on possible measures concerning the credit rating agencies 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50920" y="2349000"/>
            <a:ext cx="86104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European commission has provided the CESR with a call for technical advice on 5 July 2004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 core issues to be addressed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tential conflicts of interests within rating agencies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ansparency of rating agencies’ methodologies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gal treatment of rating agencies’ access to inside information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cerns about possible lack of competition in the market for provision of credit rating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requested deadline for delivery of advice is 1 April 2005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24382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Thank you for your attention!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657600" y="304920"/>
            <a:ext cx="1600200" cy="15062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3886200" y="5257800"/>
            <a:ext cx="1157400" cy="1295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10 most recent issu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520" y="2590920"/>
            <a:ext cx="80773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Adopted measure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(-4-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Recent proposal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(-4-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10 most recent issu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520" y="2590920"/>
            <a:ext cx="80773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Adopted measure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(-4-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Recent proposal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(-4-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Consultation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(-2-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Adopted meas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8224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gulation endorsing the IAS 39 on Financial Instruments (Novem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Adopted meas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8224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gulation endorsing the IAS 39 on Financial Instruments (Novem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commendation on directors’ remuneration (Octo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Adopted meas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8224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gulation endorsing the IAS 39 on Financial Instruments (Novem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commendation on directors’ remuneration (Octo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commendation on the role of independent non-executive directors (Octo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Adopted meas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8224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gulation endorsing the IAS 39 on Financial Instruments (Novem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commendation on directors’ remuneration (Octo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commendation on the role of independent non-executive directors (Octo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rategy to prevent financial and corporate malpractice (Septem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1.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gulation endorsing IAS 39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4920" y="1988640"/>
            <a:ext cx="8458200" cy="44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Regulation was adopted on 19 November 2004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 endorses the IAS 39 on financial instruments (Recognition and measurement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ertain provisions on the use of the full fair value option and on hedge accounting are excluded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ll be legally binding from 1 January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3T11:39:59Z</dcterms:created>
  <dc:creator>Fédération Bancaire</dc:creator>
  <dc:description/>
  <dc:language>en-US</dc:language>
  <cp:lastModifiedBy>AlparslanM</cp:lastModifiedBy>
  <dcterms:modified xsi:type="dcterms:W3CDTF">2004-12-15T13:56:13Z</dcterms:modified>
  <cp:revision>479</cp:revision>
  <dc:subject/>
  <dc:title>PROPOSED AMENDMENTS AND LATEST CHANGES IN THE EU DIRECTIVES FOR THE FINANCIAL SECTOR </dc:title>
</cp:coreProperties>
</file>