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4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D37F-7E3C-446A-AD88-6D35E1146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6F2E-2ADB-4523-96E6-E4CAC6BD7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2BDC-E8AE-4C2E-9A97-99B764EF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FD13-B59D-40C9-A855-F8F537886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14A7-57B4-479E-880E-A7358ECF2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C0E9-067E-4118-92C6-9CF6A69F8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2CF5-10CA-4CB6-8056-063A3C35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8CF5-F858-496F-BA80-38519020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FF37-1185-4540-B740-64DF2D6E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63C6-02A6-46DB-B1BC-63CC12DE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34BCF-457C-4203-B2D2-F6521F99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BC49-2FD4-4CFE-881F-260E8747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368B-5A71-40AC-BFE1-EAD9421E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3AC1D-2394-4CCD-9B01-BA979119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4234-F8B1-44B0-A230-D84583B3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F65F-75C7-489C-A6CD-8F7ED103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4B0A-F280-4F41-8A89-A1FED0F25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94D3-5EDD-46B1-82B4-98EC27CB9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6088-0E85-4556-BBE8-49D52C59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9663-A9A6-48D1-9A78-FB1008BA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5C58-4762-4D4E-80DD-28BE78A6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705A-FCCC-4472-A3F6-4E2EE473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1091-0CF7-442C-9727-2C54B856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7704-F4FE-4C66-9589-A3FE8C49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AF3B-B81B-4025-BC76-EDA2A853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AB27-F58E-4470-9A13-1BE430368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7142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 u="sng">
                <a:solidFill>
                  <a:srgbClr val="000099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&lt;footer&gt;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www.fbe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BB0C-6E1A-4316-9993-D177790738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171360"/>
            <a:ext cx="9144000" cy="836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01080" y="-100080"/>
            <a:ext cx="8856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0"/>
            <a:ext cx="4321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European Banking Fed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Fédération bancaire européen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5280" y="6093000"/>
            <a:ext cx="144360" cy="144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9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1640" y="6093000"/>
            <a:ext cx="144360" cy="14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europa.eu.int/comm/scic/images/berlay_aerial.jpg&amp;imgrefurl=http://europa.eu.int/comm/scic/interpreting/tech_booth_en.htm&amp;h=195&amp;w=294&amp;sz=28&amp;tbnid=fgOhovyRgW8J:&amp;tbnh=73&amp;tbnw=110&amp;start=9&amp;prev=/images%3Fq%3DBERLAYMONT%252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be/imgres?imgurl=http://userpage.fu-berlin.de/~tmuehle/europa/eu/eu_dat/justus-lipsius_1.jpg&amp;imgrefurl=http://userpage.fu-berlin.de/~tmuehle/europa/eu/inst_ministerrat.htm&amp;h=221&amp;w=376&amp;sz=22&amp;tbnid=_5QyJXPnZT0J:&amp;tbnh=69&amp;tbnw=117&amp;start=6&amp;prev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be/imgres?imgurl=http://www.labmeps-emids.fsnet.co.uk/ep3.jpg&amp;imgrefurl=http://www.labmeps-emids.fsnet.co.uk/pictures.htm&amp;h=767&amp;w=1208&amp;sz=238&amp;tbnid=Q7SZyG1j73MJ:&amp;tbnh=95&amp;tbnw=149&amp;start=19&amp;prev=/images%3Fq%3DEUROPEAN%2BPARLIAMENT%26hl%3Den%25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www.c-ebs.org/index.htm" TargetMode="External"/><Relationship Id="rId8" Type="http://schemas.openxmlformats.org/officeDocument/2006/relationships/image" Target="../media/image24.png"/><Relationship Id="rId9" Type="http://schemas.openxmlformats.org/officeDocument/2006/relationships/image" Target="../media/image1.pn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www.counton.org/numberland/12/europe.gif&amp;imgrefurl=http://www.counton.org/numberland/12/12.shtml&amp;h=287&amp;w=452&amp;sz=8&amp;tbnid=ltElaBzUZjwJ:&amp;tbnh=78&amp;tbnw=122&amp;start=7&amp;prev=/images%3Fq%3DEUROPEAN%2BFLAG%26hl%3Den%26lr%3D%26s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be/imgres?imgurl=http://europa.eu.int/comm/scic/images/berlay_aerial.jpg&amp;imgrefurl=http://europa.eu.int/comm/scic/interpreting/tech_booth_en.htm&amp;h=195&amp;w=294&amp;sz=28&amp;tbnid=fgOhovyRgW8J:&amp;tbnh=73&amp;tbnw=110&amp;start=9&amp;prev=/images%3Fq%3DBERLAYMONT%252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www.eusa.org.za/images/EU02small.jpg&amp;imgrefurl=http://www.eusa.org.za/Content/Background/TheInstitutions.html&amp;h=249&amp;w=295&amp;sz=31&amp;tbnid=waMxXr8GkzAJ:&amp;tbnh=93&amp;tbnw=110&amp;start=30&amp;prev=/images%3Fq%3DCOUNCIL%2BOF%2BMINISTE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be/imgres?imgurl=http://userpage.fu-berlin.de/~tmuehle/europa/eu/eu_dat/justus-lipsius_1.jpg&amp;imgrefurl=http://userpage.fu-berlin.de/~tmuehle/europa/eu/inst_ministerrat.htm&amp;h=221&amp;w=376&amp;sz=22&amp;tbnid=_5QyJXPnZT0J:&amp;tbnh=69&amp;tbnw=117&amp;start=6&amp;prev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be/imgres?imgurl=http://ue.eu.int/newsroom/eu-council/ireland/pics/jl50.jpg&amp;imgrefurl=http://ue.eu.int/newsroom/eu-council/ireland/index.asp%3Flang%3DES&amp;h=403&amp;w=542&amp;sz=104&amp;tbnid=YAfg5BFABOcJ:&amp;tbnh=96&amp;tbnw=129&amp;start=3&amp;prev=/images%3Fq%3DJUS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www.labmeps-emids.fsnet.co.uk/ep3.jpg&amp;imgrefurl=http://www.labmeps-emids.fsnet.co.uk/pictures.htm&amp;h=767&amp;w=1208&amp;sz=238&amp;tbnid=Q7SZyG1j73MJ:&amp;tbnh=95&amp;tbnw=149&amp;start=19&amp;prev=/images%3Fq%3DEUROPEAN%2BPARLIAMENT%26hl%3Den%25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be/imgres?imgurl=http://europa.eu.int/comm/commissioners/diamantopoulou/photos/ad111103_2.jpg&amp;imgrefurl=http://europa.eu.int/comm/commissioners/diamantopoulou/news_en.html&amp;h=480&amp;w=640&amp;sz=119&amp;tbnid=hA6RgX4FF7YJ:&amp;tbnh=101&amp;tbnw=134&amp;start=24&amp;p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pp-ed.org/" TargetMode="External"/><Relationship Id="rId2" Type="http://schemas.openxmlformats.org/officeDocument/2006/relationships/image" Target="../media/image16.png"/><Relationship Id="rId3" Type="http://schemas.openxmlformats.org/officeDocument/2006/relationships/hyperlink" Target="http://www.socialistgroup.org/" TargetMode="External"/><Relationship Id="rId4" Type="http://schemas.openxmlformats.org/officeDocument/2006/relationships/image" Target="../media/image17.png"/><Relationship Id="rId5" Type="http://schemas.openxmlformats.org/officeDocument/2006/relationships/hyperlink" Target="http://eld.europarl.eu.int/" TargetMode="External"/><Relationship Id="rId6" Type="http://schemas.openxmlformats.org/officeDocument/2006/relationships/image" Target="../media/image18.png"/><Relationship Id="rId7" Type="http://schemas.openxmlformats.org/officeDocument/2006/relationships/hyperlink" Target="http://www.greens-efa.org/" TargetMode="External"/><Relationship Id="rId8" Type="http://schemas.openxmlformats.org/officeDocument/2006/relationships/image" Target="../media/image19.png"/><Relationship Id="rId9" Type="http://schemas.openxmlformats.org/officeDocument/2006/relationships/hyperlink" Target="http://www.europarl.eu.int/gue/" TargetMode="External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OBBYING IN BRUSSELS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n introduction to the European Institutions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68168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19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MEETING OF THE ASSOC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RUSSELS, 9 DECEMBER 2004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Stephen Fishe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SHAPING THE FUTURE OF EUROPE’S BANKING INDUSTRY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3933720"/>
            <a:ext cx="1728720" cy="1148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27280" y="2133720"/>
            <a:ext cx="1728720" cy="1079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92720" y="2133720"/>
            <a:ext cx="1692360" cy="1079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ceb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067280" y="4797360"/>
            <a:ext cx="1152360" cy="936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916360" y="2924280"/>
            <a:ext cx="3456000" cy="2016000"/>
          </a:xfrm>
          <a:prstGeom prst="cloudCallout">
            <a:avLst>
              <a:gd name="adj1" fmla="val -45726"/>
              <a:gd name="adj2" fmla="val 50708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9"/>
          <a:stretch/>
        </p:blipFill>
        <p:spPr>
          <a:xfrm>
            <a:off x="3995640" y="3357720"/>
            <a:ext cx="1368360" cy="1089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-324000" y="5013360"/>
            <a:ext cx="35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Our Members and Associ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0"/>
          <a:stretch/>
        </p:blipFill>
        <p:spPr>
          <a:xfrm>
            <a:off x="1835280" y="3573360"/>
            <a:ext cx="108720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FBE AND ITS KEY INTERLOCUTOR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000" y="2060640"/>
            <a:ext cx="790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Focus on the three major institutio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co-decision proces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uccessfully influencing the EU legislative proces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End resul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EUROPEAN COMMISS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Upholds the collective European interes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A politically independent bod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Guardian of the Treati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Sole right of initiati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25 Commissioners, 36 Directorates Genera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4292640"/>
            <a:ext cx="2663640" cy="1728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8000" y="4292640"/>
            <a:ext cx="2663640" cy="176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KEY DIRECTORATES GENERA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Internal Marke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Enterpris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Competi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Health and Consumer Protec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COUNCIL OF THE EUROPEAN UNIO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280" y="3573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epresenting Member St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Main legislative and decision making body in the EU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otating Presidenc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ole for Permanent Representativ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Co-legislator (with the European Parliament) in financial services dossie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1916280"/>
            <a:ext cx="2303280" cy="1368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2360" y="1916280"/>
            <a:ext cx="2448000" cy="1442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1916280"/>
            <a:ext cx="2448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VOTING &amp; THE PRESIDENC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big – e.g. Germany 29 vo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medium – e.g. Belgium 12 vo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small – e.g. Malta 3 vo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Presidenc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11280" y="5300640"/>
            <a:ext cx="1036440" cy="576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63640" y="5300640"/>
            <a:ext cx="1008000" cy="576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492360" y="5300640"/>
            <a:ext cx="1008360" cy="560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572000" y="5300640"/>
            <a:ext cx="1079640" cy="573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6300720" y="5300640"/>
            <a:ext cx="935280" cy="576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7308720" y="5300640"/>
            <a:ext cx="935280" cy="573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406160" y="4869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14520" y="4869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51240" y="4941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EUROPEAN PARLIAMEN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epresenting the citizens of Europ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Directly elected to seven political group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Plenary sessions in Brussels and Strasbourg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EU’s primary debating chambe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Co-legislator (with the Council) in financial services dossiers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4365720"/>
            <a:ext cx="2664000" cy="1698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4365720"/>
            <a:ext cx="26640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POLITICAL GROUPING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9" name="" descr="PPE-D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6000" y="3068640"/>
            <a:ext cx="847440" cy="809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P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76360" y="3789360"/>
            <a:ext cx="828720" cy="800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ALDE/ADL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88000" y="1844640"/>
            <a:ext cx="857160" cy="743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Vert/AL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763640" y="5013360"/>
            <a:ext cx="857160" cy="809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GUE/NGL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835280" y="2708280"/>
            <a:ext cx="847440" cy="799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IND/DEM"/>
          <p:cNvPicPr/>
          <p:nvPr/>
        </p:nvPicPr>
        <p:blipFill>
          <a:blip r:embed="rId11"/>
          <a:stretch/>
        </p:blipFill>
        <p:spPr>
          <a:xfrm>
            <a:off x="2843280" y="191628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UEN"/>
          <p:cNvPicPr/>
          <p:nvPr/>
        </p:nvPicPr>
        <p:blipFill>
          <a:blip r:embed="rId12"/>
          <a:stretch/>
        </p:blipFill>
        <p:spPr>
          <a:xfrm>
            <a:off x="7020000" y="4581360"/>
            <a:ext cx="857160" cy="800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Seats in the EP"/>
          <p:cNvPicPr/>
          <p:nvPr/>
        </p:nvPicPr>
        <p:blipFill>
          <a:blip r:embed="rId13"/>
          <a:stretch/>
        </p:blipFill>
        <p:spPr>
          <a:xfrm>
            <a:off x="2627280" y="2565360"/>
            <a:ext cx="4419720" cy="3210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356000" y="5516640"/>
            <a:ext cx="129564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INSTITUTIONAL TRIANG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92360" y="3933720"/>
            <a:ext cx="3097080" cy="1800360"/>
          </a:xfrm>
          <a:prstGeom prst="triangle">
            <a:avLst>
              <a:gd name="adj" fmla="val 50000"/>
            </a:avLst>
          </a:prstGeom>
          <a:solidFill>
            <a:srgbClr val="2a0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Coun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59280" y="3933720"/>
            <a:ext cx="3097440" cy="1800360"/>
          </a:xfrm>
          <a:prstGeom prst="triangle">
            <a:avLst>
              <a:gd name="adj" fmla="val 50000"/>
            </a:avLst>
          </a:prstGeom>
          <a:solidFill>
            <a:srgbClr val="2a0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Parli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2133720"/>
            <a:ext cx="3097080" cy="1800000"/>
          </a:xfrm>
          <a:prstGeom prst="triangle">
            <a:avLst>
              <a:gd name="adj" fmla="val 50000"/>
            </a:avLst>
          </a:prstGeom>
          <a:solidFill>
            <a:srgbClr val="2a0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Com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9158000">
            <a:off x="6732720" y="2781000"/>
            <a:ext cx="1439640" cy="2087640"/>
          </a:xfrm>
          <a:custGeom>
            <a:avLst/>
            <a:gdLst>
              <a:gd name="textAreaLeft" fmla="*/ 192600 w 1439640"/>
              <a:gd name="textAreaRight" fmla="*/ 1247040 w 1439640"/>
              <a:gd name="textAreaTop" fmla="*/ 365400 h 2087640"/>
              <a:gd name="textAreaBottom" fmla="*/ 151380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2008800">
            <a:off x="1042560" y="2852280"/>
            <a:ext cx="1800360" cy="1863720"/>
          </a:xfrm>
          <a:custGeom>
            <a:avLst/>
            <a:gdLst>
              <a:gd name="textAreaLeft" fmla="*/ 241200 w 1800360"/>
              <a:gd name="textAreaRight" fmla="*/ 1559160 w 1800360"/>
              <a:gd name="textAreaTop" fmla="*/ 326160 h 1863720"/>
              <a:gd name="textAreaBottom" fmla="*/ 1351440 h 186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4283640" y="4221360"/>
            <a:ext cx="1081080" cy="936720"/>
          </a:xfrm>
          <a:prstGeom prst="rightArrowCallout">
            <a:avLst>
              <a:gd name="adj1" fmla="val 25002"/>
              <a:gd name="adj2" fmla="val 25000"/>
              <a:gd name="adj3" fmla="val 19235"/>
              <a:gd name="adj4" fmla="val 6666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41880" y="2637000"/>
            <a:ext cx="24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mmission proposes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74240" y="2637000"/>
            <a:ext cx="24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mmission proposes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54920" y="472428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-dec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25160" y="3933720"/>
            <a:ext cx="349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mmission acts as the Guardian of the Trea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0:08:06Z</dcterms:created>
  <dc:creator>Johnson</dc:creator>
  <dc:description/>
  <dc:language>en-US</dc:language>
  <cp:lastModifiedBy>AlparslanM</cp:lastModifiedBy>
  <dcterms:modified xsi:type="dcterms:W3CDTF">2004-12-15T13:57:58Z</dcterms:modified>
  <cp:revision>46</cp:revision>
  <dc:subject/>
  <dc:title> CAPITAL REQUIREMENTS DIRECTIVE: OPPORTUNITIES AND CHALLENGES</dc:title>
</cp:coreProperties>
</file>