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png" ContentType="image/png"/>
  <Override PartName="/ppt/media/image4.jpeg" ContentType="image/jpe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B982-EA83-4CE6-9B3C-3369061C02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38880" cy="446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08C-39FA-44EA-A6E7-41AA9149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4F8-76C9-4E87-922D-E9617DAE4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BC6-D4D4-488F-B574-2AAE0515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1E2E-6A9D-43E1-9964-929DB324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CDA5-31E0-4E54-8D35-8C7AB9B15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C5F2-2B40-4A58-B222-F07E5EC7D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16ABD-02A4-404D-8D97-4D8381E0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F4F8-69F7-4650-BA53-690252D6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3197-EF2F-4D36-BC12-6331E2F2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74A7-C853-44DD-B8A8-1E0357D7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15B7-B1BD-47B9-B6AF-2C1BFC7A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3D7-31BF-4081-AEC6-D0ECF8F84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4A66-AAA2-4B77-8B8E-623AF6D1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B647-737A-41FE-825A-315B4929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67F3-B241-44CE-BC6A-C372A204F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EF9C-E06B-4AB6-8CB5-9C1669FE5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5080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33240" y="19159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836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5080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33240" y="4173120"/>
            <a:ext cx="264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D75C-B66E-442A-A571-0DDEC1E4F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C336-D55D-4711-A4C4-A06D88B4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AD87-B6C0-499C-995E-2455EEDE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9D21-8A3B-4DBD-91CE-0E155678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836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1585-BCBD-407A-8C9E-4EFE3F58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6BA-AC5C-4BD9-B2EC-9F06BE3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41731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0257-0A4D-4B3C-A856-3E58B1F1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915920"/>
            <a:ext cx="40158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4173120"/>
            <a:ext cx="8229600" cy="20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703B-43CC-4D1D-8F1C-B2D5410D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770B-9490-4243-8E8A-5BA594CDD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72400" y="5943600"/>
            <a:ext cx="71424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 u="sng">
                <a:solidFill>
                  <a:srgbClr val="000099"/>
                </a:solidFill>
                <a:uFillTx/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&lt;footer&gt;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Times New Roman"/>
              </a:rPr>
              <a:t>www.fbe.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557D8-C09D-41BD-A3F6-B4271FFD13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-171360"/>
            <a:ext cx="9144000" cy="8366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8101080" y="-100080"/>
            <a:ext cx="885600" cy="638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4920" y="0"/>
            <a:ext cx="432108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European Banking Feder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ffffff"/>
                </a:solidFill>
                <a:latin typeface="Century Gothic"/>
              </a:rPr>
              <a:t>Fédération bancaire européen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30864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15280" y="6093000"/>
            <a:ext cx="144360" cy="144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604360" y="6093000"/>
            <a:ext cx="144360" cy="144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91640" y="6093000"/>
            <a:ext cx="144360" cy="144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www.c-ebs.org/index.htm" TargetMode="External"/><Relationship Id="rId8" Type="http://schemas.openxmlformats.org/officeDocument/2006/relationships/image" Target="../media/image24.png"/><Relationship Id="rId9" Type="http://schemas.openxmlformats.org/officeDocument/2006/relationships/image" Target="../media/image1.png"/><Relationship Id="rId10" Type="http://schemas.openxmlformats.org/officeDocument/2006/relationships/image" Target="../media/image25.jpeg"/><Relationship Id="rId1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counton.org/numberland/12/europe.gif&amp;imgrefurl=http://www.counton.org/numberland/12/12.shtml&amp;h=287&amp;w=452&amp;sz=8&amp;tbnid=ltElaBzUZjwJ:&amp;tbnh=78&amp;tbnw=122&amp;start=7&amp;prev=/images%3Fq%3DEUROPEAN%2BFLAG%26hl%3Den%26lr%3D%26s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be/imgres?imgurl=http://europa.eu.int/comm/scic/images/berlay_aerial.jpg&amp;imgrefurl=http://europa.eu.int/comm/scic/interpreting/tech_booth_en.htm&amp;h=195&amp;w=294&amp;sz=28&amp;tbnid=fgOhovyRgW8J:&amp;tbnh=73&amp;tbnw=110&amp;start=9&amp;prev=/images%3Fq%3DBERLAYMONT%252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5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eusa.org.za/images/EU02small.jpg&amp;imgrefurl=http://www.eusa.org.za/Content/Background/TheInstitutions.html&amp;h=249&amp;w=295&amp;sz=31&amp;tbnid=waMxXr8GkzAJ:&amp;tbnh=93&amp;tbnw=110&amp;start=30&amp;prev=/images%3Fq%3DCOUNCIL%2BOF%2BMINISTE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s.google.be/imgres?imgurl=http://userpage.fu-berlin.de/~tmuehle/europa/eu/eu_dat/justus-lipsius_1.jpg&amp;imgrefurl=http://userpage.fu-berlin.de/~tmuehle/europa/eu/inst_ministerrat.htm&amp;h=221&amp;w=376&amp;sz=22&amp;tbnid=_5QyJXPnZT0J:&amp;tbnh=69&amp;tbnw=117&amp;start=6&amp;prev" TargetMode="External"/><Relationship Id="rId4" Type="http://schemas.openxmlformats.org/officeDocument/2006/relationships/image" Target="../media/image6.jpeg"/><Relationship Id="rId5" Type="http://schemas.openxmlformats.org/officeDocument/2006/relationships/hyperlink" Target="http://images.google.be/imgres?imgurl=http://ue.eu.int/newsroom/eu-council/ireland/pics/jl50.jpg&amp;imgrefurl=http://ue.eu.int/newsroom/eu-council/ireland/index.asp%3Flang%3DES&amp;h=403&amp;w=542&amp;sz=104&amp;tbnid=YAfg5BFABOcJ:&amp;tbnh=96&amp;tbnw=129&amp;start=3&amp;prev=/images%3Fq%3DJU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be/imgres?imgurl=http://www.labmeps-emids.fsnet.co.uk/ep3.jpg&amp;imgrefurl=http://www.labmeps-emids.fsnet.co.uk/pictures.htm&amp;h=767&amp;w=1208&amp;sz=238&amp;tbnid=Q7SZyG1j73MJ:&amp;tbnh=95&amp;tbnw=149&amp;start=19&amp;prev=/images%3Fq%3DEUROPEAN%2BPARLIAMENT%26hl%3Den%25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images.google.be/imgres?imgurl=http://europa.eu.int/comm/commissioners/diamantopoulou/photos/ad111103_2.jpg&amp;imgrefurl=http://europa.eu.int/comm/commissioners/diamantopoulou/news_en.html&amp;h=480&amp;w=640&amp;sz=119&amp;tbnid=hA6RgX4FF7YJ:&amp;tbnh=101&amp;tbnw=134&amp;start=24&amp;p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pp-ed.org/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socialistgroup.org/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eld.europarl.eu.int/" TargetMode="External"/><Relationship Id="rId6" Type="http://schemas.openxmlformats.org/officeDocument/2006/relationships/image" Target="../media/image18.png"/><Relationship Id="rId7" Type="http://schemas.openxmlformats.org/officeDocument/2006/relationships/hyperlink" Target="http://www.greens-efa.org/" TargetMode="External"/><Relationship Id="rId8" Type="http://schemas.openxmlformats.org/officeDocument/2006/relationships/image" Target="../media/image19.png"/><Relationship Id="rId9" Type="http://schemas.openxmlformats.org/officeDocument/2006/relationships/hyperlink" Target="http://www.europarl.eu.int/gue/" TargetMode="External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34136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BBYING IN BRUSSELS 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n introduction to the European Institutions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640" y="3212640"/>
            <a:ext cx="768168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1" lang="en-GB" sz="24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 MEETING OF THE ASSOCI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BRUSSELS, 9 DECEMBER 2004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99"/>
                </a:solidFill>
                <a:latin typeface="Arial"/>
              </a:rPr>
              <a:t>Stephen Fish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SHAPING THE FUTURE OF EUROPE’S BANKING INDUSTRY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5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3933720"/>
            <a:ext cx="1728720" cy="1148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27280" y="2133720"/>
            <a:ext cx="1728720" cy="10792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292720" y="2133720"/>
            <a:ext cx="1692360" cy="10792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ceb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067280" y="4797360"/>
            <a:ext cx="1152360" cy="9367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916360" y="2924280"/>
            <a:ext cx="3456000" cy="2016000"/>
          </a:xfrm>
          <a:prstGeom prst="cloudCallout">
            <a:avLst>
              <a:gd name="adj1" fmla="val -45726"/>
              <a:gd name="adj2" fmla="val 50708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9"/>
          <a:stretch/>
        </p:blipFill>
        <p:spPr>
          <a:xfrm>
            <a:off x="3995640" y="3357720"/>
            <a:ext cx="1368360" cy="1089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-324000" y="5013360"/>
            <a:ext cx="35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Our Members and Associ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1835280" y="3573360"/>
            <a:ext cx="1087200" cy="10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FBE AND ITS KEY INTERLOCUTOR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790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Focus on the three major institution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co-decision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Successfully influencing the EU legislative proces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End result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COMMISS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Upholds the collective European interes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A politically independent bod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Guardian of the Treati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Sole right of initiati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25 Commissioners, 36 Directorates Genera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0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4292640"/>
            <a:ext cx="2663640" cy="1728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88000" y="4292640"/>
            <a:ext cx="2663640" cy="176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KEY DIRECTORATES GENERAL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Internal Marke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Enterpris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Competi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DG Health and Consumer Protection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COUNCIL OF THE EUROPEAN UNION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71280" y="357336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Member Stat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Main legislative and decision making body in the EU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tating Presid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ole for Permanent Representative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European Parliament) in financial services dossi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916280"/>
            <a:ext cx="2303280" cy="1368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492360" y="1916280"/>
            <a:ext cx="2448000" cy="14428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95280" y="1916280"/>
            <a:ext cx="244800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VOTING &amp; 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big – e.g. Germany 29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medium – e.g. Belgium 12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small – e.g. Malta 3 vot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Arial"/>
              </a:rPr>
              <a:t>The Presidencie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11280" y="5300640"/>
            <a:ext cx="1036440" cy="576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5300640"/>
            <a:ext cx="1008000" cy="5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492360" y="5300640"/>
            <a:ext cx="1008360" cy="5605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1079640" cy="5731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300720" y="5300640"/>
            <a:ext cx="935280" cy="576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308720" y="5300640"/>
            <a:ext cx="935280" cy="5731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616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14520" y="4869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51240" y="4941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EUROPEAN PARLIAMENT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Representing the citizens of Europ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Directly elected to seven political group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Plenary sessions in Brussels and Strasbourg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EU’s primary debating chambe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Co-legislator (with the Council) in financial services dossier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6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47640" y="4365720"/>
            <a:ext cx="2664000" cy="1698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4365720"/>
            <a:ext cx="26640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POLITICAL GROUPINGS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29" name="" descr="PPE-D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236000" y="3068640"/>
            <a:ext cx="847440" cy="809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P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76360" y="3789360"/>
            <a:ext cx="828720" cy="8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ALDE/ADL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788000" y="1844640"/>
            <a:ext cx="857160" cy="7430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Vert/AL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763640" y="5013360"/>
            <a:ext cx="857160" cy="80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GUE/NGL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835280" y="2708280"/>
            <a:ext cx="847440" cy="799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IND/DEM"/>
          <p:cNvPicPr/>
          <p:nvPr/>
        </p:nvPicPr>
        <p:blipFill>
          <a:blip r:embed="rId11"/>
          <a:stretch/>
        </p:blipFill>
        <p:spPr>
          <a:xfrm>
            <a:off x="2843280" y="1916280"/>
            <a:ext cx="57132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UEN"/>
          <p:cNvPicPr/>
          <p:nvPr/>
        </p:nvPicPr>
        <p:blipFill>
          <a:blip r:embed="rId12"/>
          <a:stretch/>
        </p:blipFill>
        <p:spPr>
          <a:xfrm>
            <a:off x="7020000" y="4581360"/>
            <a:ext cx="857160" cy="800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Seats in the EP"/>
          <p:cNvPicPr/>
          <p:nvPr/>
        </p:nvPicPr>
        <p:blipFill>
          <a:blip r:embed="rId13"/>
          <a:stretch/>
        </p:blipFill>
        <p:spPr>
          <a:xfrm>
            <a:off x="2627280" y="2565360"/>
            <a:ext cx="4419720" cy="32101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356000" y="5516640"/>
            <a:ext cx="1295640" cy="217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99"/>
                </a:solidFill>
                <a:latin typeface="Arial"/>
              </a:rPr>
              <a:t>THE INSTITUTIONAL TRIANGLE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92360" y="3933720"/>
            <a:ext cx="309708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unc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859280" y="3933720"/>
            <a:ext cx="3097440" cy="180036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Parlia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76720" y="2133720"/>
            <a:ext cx="3097080" cy="1800000"/>
          </a:xfrm>
          <a:prstGeom prst="triangle">
            <a:avLst>
              <a:gd name="adj" fmla="val 50000"/>
            </a:avLst>
          </a:prstGeom>
          <a:solidFill>
            <a:srgbClr val="2a0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Com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9158000">
            <a:off x="6732720" y="2781000"/>
            <a:ext cx="1439640" cy="2087640"/>
          </a:xfrm>
          <a:custGeom>
            <a:avLst/>
            <a:gdLst>
              <a:gd name="textAreaLeft" fmla="*/ 192600 w 1439640"/>
              <a:gd name="textAreaRight" fmla="*/ 1247040 w 1439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2008800">
            <a:off x="1042560" y="2852280"/>
            <a:ext cx="1800360" cy="1863720"/>
          </a:xfrm>
          <a:custGeom>
            <a:avLst/>
            <a:gdLst>
              <a:gd name="textAreaLeft" fmla="*/ 241200 w 1800360"/>
              <a:gd name="textAreaRight" fmla="*/ 1559160 w 1800360"/>
              <a:gd name="textAreaTop" fmla="*/ 326160 h 1863720"/>
              <a:gd name="textAreaBottom" fmla="*/ 1351440 h 1863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4283640" y="4221360"/>
            <a:ext cx="1081080" cy="936720"/>
          </a:xfrm>
          <a:prstGeom prst="rightArrowCallout">
            <a:avLst>
              <a:gd name="adj1" fmla="val 25002"/>
              <a:gd name="adj2" fmla="val 25000"/>
              <a:gd name="adj3" fmla="val 19235"/>
              <a:gd name="adj4" fmla="val 66667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188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74240" y="2637000"/>
            <a:ext cx="24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proposes legi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4920" y="472428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-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125160" y="3933720"/>
            <a:ext cx="349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mmission acts as the Guardian of the Trea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30T10:08:06Z</dcterms:created>
  <dc:creator>Johnson</dc:creator>
  <dc:description/>
  <dc:language>en-US</dc:language>
  <cp:lastModifiedBy>AlparslanM</cp:lastModifiedBy>
  <dcterms:modified xsi:type="dcterms:W3CDTF">2004-12-15T13:57:58Z</dcterms:modified>
  <cp:revision>46</cp:revision>
  <dc:subject/>
  <dc:title> CAPITAL REQUIREMENTS DIRECTIVE: OPPORTUNITIES AND CHALLENGES</dc:title>
</cp:coreProperties>
</file>