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C054-CC65-4CB9-AD2E-E73517F25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413-1328-464F-B943-D558DDA1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BCE-E2ED-4C81-987A-1309FA47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D57B-D2F9-4378-8456-6A8894E3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2C4-D9DE-4443-A609-04DC76EF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2358-0651-4C01-8BBF-1C40364E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8B15-284C-498A-85EF-D939A41A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6C6D-01C0-4CC0-858F-4255F808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3169-9941-4AFF-A79E-00CC6682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2945-A4DE-4FE3-A9B1-91EE2E1D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EA55-57B4-488B-9F9B-E762378D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3A61-459E-4ACE-9889-0942E1D6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DC73-A0CB-4882-8586-304B4A4C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191B-CC09-4404-A953-2E9098F0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5E3E-A4F7-4006-84AA-80A5DDEE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53A6-7FA0-4F7C-9B15-9E427016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8DDE-A966-484C-93A2-F9976AAE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E722-A0DB-4EA2-935B-2DECCD57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10C-E20B-4443-93C9-51FAE7AD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C533-A47C-4A22-AB7A-4A86A5F6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2B05-61DD-4C35-9D06-EEF06068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55C2-A45A-4151-93FB-996D2D37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774-998B-4157-B830-5B18915F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C2A-B136-47AB-AAF4-05BDA3AC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3D0-54C0-4589-A03A-7DF43748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3CA7-9134-4D84-BB78-7A3BC8135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BEA6-FC48-4419-848F-00DC176AE7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c-ebs.org/index.htm" TargetMode="External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counton.org/numberland/12/europe.gif&amp;imgrefurl=http://www.counton.org/numberland/12/12.shtml&amp;h=287&amp;w=452&amp;sz=8&amp;tbnid=ltElaBzUZjwJ:&amp;tbnh=78&amp;tbnw=122&amp;start=7&amp;prev=/images%3Fq%3DEUROPEAN%2BFLAG%26hl%3Den%26lr%3D%26s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eusa.org.za/images/EU02small.jpg&amp;imgrefurl=http://www.eusa.org.za/Content/Background/TheInstitutions.html&amp;h=249&amp;w=295&amp;sz=31&amp;tbnid=waMxXr8GkzAJ:&amp;tbnh=93&amp;tbnw=110&amp;start=30&amp;prev=/images%3Fq%3DCOUNCIL%2BOF%2BMINIST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ue.eu.int/newsroom/eu-council/ireland/pics/jl50.jpg&amp;imgrefurl=http://ue.eu.int/newsroom/eu-council/ireland/index.asp%3Flang%3DES&amp;h=403&amp;w=542&amp;sz=104&amp;tbnid=YAfg5BFABOcJ:&amp;tbnh=96&amp;tbnw=129&amp;start=3&amp;prev=/images%3Fq%3DJUS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be/imgres?imgurl=http://europa.eu.int/comm/commissioners/diamantopoulou/photos/ad111103_2.jpg&amp;imgrefurl=http://europa.eu.int/comm/commissioners/diamantopoulou/news_en.html&amp;h=480&amp;w=640&amp;sz=119&amp;tbnid=hA6RgX4FF7YJ:&amp;tbnh=101&amp;tbnw=134&amp;start=24&amp;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pp-ed.org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www.socialistgroup.org/" TargetMode="External"/><Relationship Id="rId4" Type="http://schemas.openxmlformats.org/officeDocument/2006/relationships/image" Target="../media/image17.png"/><Relationship Id="rId5" Type="http://schemas.openxmlformats.org/officeDocument/2006/relationships/hyperlink" Target="http://eld.europarl.eu.int/" TargetMode="External"/><Relationship Id="rId6" Type="http://schemas.openxmlformats.org/officeDocument/2006/relationships/image" Target="../media/image18.png"/><Relationship Id="rId7" Type="http://schemas.openxmlformats.org/officeDocument/2006/relationships/hyperlink" Target="http://www.greens-efa.org/" TargetMode="External"/><Relationship Id="rId8" Type="http://schemas.openxmlformats.org/officeDocument/2006/relationships/image" Target="../media/image19.png"/><Relationship Id="rId9" Type="http://schemas.openxmlformats.org/officeDocument/2006/relationships/hyperlink" Target="http://www.europarl.eu.int/gue/" TargetMode="External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BBYING IN BRUSSEL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n introduction to the European Institution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RUSSELS, 9 DECEMBER 2004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ephen Fish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SHAPING THE FUTURE OF EUROPE’S BANKING INDUST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393372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2133720"/>
            <a:ext cx="1728720" cy="107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133720"/>
            <a:ext cx="1692360" cy="107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eb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4797360"/>
            <a:ext cx="1152360" cy="93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16360" y="2924280"/>
            <a:ext cx="3456000" cy="2016000"/>
          </a:xfrm>
          <a:prstGeom prst="cloudCallout">
            <a:avLst>
              <a:gd name="adj1" fmla="val -45726"/>
              <a:gd name="adj2" fmla="val 50708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995640" y="3357720"/>
            <a:ext cx="1368360" cy="1089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24000" y="501336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ur Members and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835280" y="3573360"/>
            <a:ext cx="10872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FBE AND ITS KEY INTERLOCUTO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90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cus on the three major institu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co-decision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ccessfully influencing the EU legislative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nd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COMMISS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pholds the collective European intere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 politically independent bod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Guardian of the Treat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ole right of initiat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25 Commissioners, 36 Directorates Gener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4292640"/>
            <a:ext cx="266364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292640"/>
            <a:ext cx="266364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KEY DIRECTORATES GENER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Internal Mark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Enterpri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Competi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Health and Consumer Prote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COUNCIL OF THE EUROPEAN UN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35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Member St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Main legislative and decision making body in the EU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tating Presid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le for Permanent Representativ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European Parliament) in financial services dossi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16280"/>
            <a:ext cx="230328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916280"/>
            <a:ext cx="2448000" cy="144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916280"/>
            <a:ext cx="2448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VOTING &amp; 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big – e.g. Germany 29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medium – e.g. Belgium 12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mall – e.g. Malta 3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103644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530064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100836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107964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300720" y="5300640"/>
            <a:ext cx="93528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308720" y="5300640"/>
            <a:ext cx="935280" cy="573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616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4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240" y="4941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PARLIA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the citizens of Europ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irectly elected to seven political group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lenary sessions in Brussels and Strasbour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U’s primary debating chamb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Council) in financial services dossier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4365720"/>
            <a:ext cx="2664000" cy="169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4365720"/>
            <a:ext cx="2664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POLITICAL GROUPING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9" name="" descr="PPE-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068640"/>
            <a:ext cx="847440" cy="80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P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3789360"/>
            <a:ext cx="828720" cy="8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LDE/AD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1844640"/>
            <a:ext cx="857160" cy="743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Vert/A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501336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UE/NG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35280" y="2708280"/>
            <a:ext cx="847440" cy="799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IND/DEM"/>
          <p:cNvPicPr/>
          <p:nvPr/>
        </p:nvPicPr>
        <p:blipFill>
          <a:blip r:embed="rId11"/>
          <a:stretch/>
        </p:blipFill>
        <p:spPr>
          <a:xfrm>
            <a:off x="2843280" y="19162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UEN"/>
          <p:cNvPicPr/>
          <p:nvPr/>
        </p:nvPicPr>
        <p:blipFill>
          <a:blip r:embed="rId12"/>
          <a:stretch/>
        </p:blipFill>
        <p:spPr>
          <a:xfrm>
            <a:off x="7020000" y="458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eats in the EP"/>
          <p:cNvPicPr/>
          <p:nvPr/>
        </p:nvPicPr>
        <p:blipFill>
          <a:blip r:embed="rId13"/>
          <a:stretch/>
        </p:blipFill>
        <p:spPr>
          <a:xfrm>
            <a:off x="2627280" y="2565360"/>
            <a:ext cx="4419720" cy="3210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56000" y="5516640"/>
            <a:ext cx="1295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INSTITUTIONAL TRIANG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3933720"/>
            <a:ext cx="309708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3933720"/>
            <a:ext cx="309744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3097080" cy="180000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9158000">
            <a:off x="6732720" y="2781000"/>
            <a:ext cx="1439640" cy="208764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08800">
            <a:off x="1042560" y="2852280"/>
            <a:ext cx="1800360" cy="18637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26160 h 1863720"/>
              <a:gd name="textAreaBottom" fmla="*/ 1351440 h 18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283640" y="4221360"/>
            <a:ext cx="1081080" cy="936720"/>
          </a:xfrm>
          <a:prstGeom prst="rightArrowCallout">
            <a:avLst>
              <a:gd name="adj1" fmla="val 25002"/>
              <a:gd name="adj2" fmla="val 25000"/>
              <a:gd name="adj3" fmla="val 19235"/>
              <a:gd name="adj4" fmla="val 6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188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7424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4920" y="472428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-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5160" y="3933720"/>
            <a:ext cx="34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acts as the Guardian of the Trea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4-12-15T13:57:58Z</dcterms:modified>
  <cp:revision>46</cp:revision>
  <dc:subject/>
  <dc:title> CAPITAL REQUIREMENTS DIRECTIVE: OPPORTUNITIES AND CHALLENGES</dc:title>
</cp:coreProperties>
</file>