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66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316B-276E-41AB-8F46-CD00C0DB79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2355-79BC-4497-B448-2B80F35F2E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47A4-0B2D-46DB-A9B2-C2DC4A201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E722-B08F-46E8-AEE6-5E01D30F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A96F-EE7D-465C-8678-21DA1CAA8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AFD9-4AE4-42ED-B566-A628254C7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C51C-2DE0-428C-8C6A-94CDDE95C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C921-D385-4044-BB0C-91E98D50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F8A5-8AF4-4CEC-8103-E7292E70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1784-36C2-4DDD-83D4-A1963C2E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2491-950E-4224-98D1-2E9B88FE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7877-180C-46C1-9990-725B6B77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FD4D-0FA6-4389-BF6D-432CEFE5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0334-108C-4E96-A839-CC03D51E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A51B-C58B-4CAC-A673-4A0955BB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13B2-30D5-42E4-BF44-02950710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0753-E09C-4988-AE23-1BC727A5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C9B4-6732-4908-BB1E-1FFCD7382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04D2-A975-46D6-883B-9A6E3CB36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5823-BB6D-4F63-A8EB-E2407172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4B23-F0CD-430B-9314-5990E282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0FA0-BF18-480C-AD31-FB1E2940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0982-A937-4B06-8503-7355F155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DC55-C266-4D01-97C8-EAB320A3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A89D-77DC-4C72-A1A4-E93A0000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9D5B-317D-46A5-8BDB-C7D73B3F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E8A2-8E99-42D0-8A29-62C9C7B7D9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EBF-FINAL_noWhiteBorder.GIF"/>
          <p:cNvPicPr/>
          <p:nvPr/>
        </p:nvPicPr>
        <p:blipFill>
          <a:blip r:embed="rId4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E422-5050-4339-9E6D-349350C717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Internet Financial Top-level Domains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Associates Meeting 8 December 2011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46c0a"/>
                </a:solidFill>
                <a:latin typeface="Calibri"/>
              </a:rPr>
              <a:t>Background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Internet Corporation fro Assigned Names and Numbers (ICANN) controls the establishment of valid Top Level Domains names (TLDs) such as “.com” or “.org”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No availabilities. New generic Top Level Domains (gTLDs) names program launched by ICANN : “anyone can apply for anything” (.bank ; .banque, …)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Applications open from 12 January to 12 April 2012. Evaluation afterwards (9–20 months). New gTLDs will likely be delegated in early 2013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Raises concerns on Fraud and Intellectual property 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46c0a"/>
                </a:solidFill>
                <a:latin typeface="Calibri"/>
              </a:rPr>
              <a:t>Background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564000" y="1916280"/>
            <a:ext cx="201600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ICAN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635280" y="3284640"/>
            <a:ext cx="194472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476360" y="3284640"/>
            <a:ext cx="194328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5796000" y="3284640"/>
            <a:ext cx="194472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684360" y="4653000"/>
            <a:ext cx="129528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2124000" y="4653000"/>
            <a:ext cx="129564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3564000" y="4653000"/>
            <a:ext cx="129528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611280" y="5732640"/>
            <a:ext cx="1368360" cy="4330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1835280" y="6165720"/>
            <a:ext cx="1368360" cy="43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Oval 12"/>
          <p:cNvSpPr/>
          <p:nvPr/>
        </p:nvSpPr>
        <p:spPr>
          <a:xfrm>
            <a:off x="2050920" y="5589720"/>
            <a:ext cx="1368720" cy="4316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traight Connector 23"/>
          <p:cNvSpPr/>
          <p:nvPr/>
        </p:nvSpPr>
        <p:spPr>
          <a:xfrm>
            <a:off x="4211640" y="285264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Straight Connector 25"/>
          <p:cNvCxnSpPr>
            <a:endCxn id="103" idx="0"/>
          </p:cNvCxnSpPr>
          <p:nvPr/>
        </p:nvCxnSpPr>
        <p:spPr>
          <a:xfrm flipV="1" rot="10800000">
            <a:off x="2447280" y="2203920"/>
            <a:ext cx="1116720" cy="108036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13" name="Straight Connector 27"/>
          <p:cNvCxnSpPr>
            <a:endCxn id="104" idx="0"/>
          </p:cNvCxnSpPr>
          <p:nvPr/>
        </p:nvCxnSpPr>
        <p:spPr>
          <a:xfrm>
            <a:off x="5579640" y="2276640"/>
            <a:ext cx="1188360" cy="100872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114" name="Straight Connector 30"/>
          <p:cNvSpPr/>
          <p:nvPr/>
        </p:nvSpPr>
        <p:spPr>
          <a:xfrm>
            <a:off x="1619280" y="422100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traight Connector 34"/>
          <p:cNvSpPr/>
          <p:nvPr/>
        </p:nvSpPr>
        <p:spPr>
          <a:xfrm>
            <a:off x="2771640" y="4149720"/>
            <a:ext cx="0" cy="503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Connector 36"/>
          <p:cNvCxnSpPr/>
          <p:nvPr/>
        </p:nvCxnSpPr>
        <p:spPr>
          <a:xfrm>
            <a:off x="3276720" y="4221000"/>
            <a:ext cx="791280" cy="432720"/>
          </a:xfrm>
          <a:prstGeom prst="bentConnector3">
            <a:avLst>
              <a:gd name="adj1" fmla="val 4997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17" name="Straight Arrow Connector 43"/>
          <p:cNvCxnSpPr/>
          <p:nvPr/>
        </p:nvCxnSpPr>
        <p:spPr>
          <a:xfrm flipV="1">
            <a:off x="2555640" y="5228640"/>
            <a:ext cx="108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45"/>
          <p:cNvCxnSpPr>
            <a:stCxn id="109" idx="1"/>
          </p:cNvCxnSpPr>
          <p:nvPr/>
        </p:nvCxnSpPr>
        <p:spPr>
          <a:xfrm flipH="1" flipV="1">
            <a:off x="1834920" y="5229000"/>
            <a:ext cx="20232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9" name="Straight Arrow Connector 47"/>
          <p:cNvCxnSpPr>
            <a:stCxn id="108" idx="0"/>
          </p:cNvCxnSpPr>
          <p:nvPr/>
        </p:nvCxnSpPr>
        <p:spPr>
          <a:xfrm flipH="1" flipV="1">
            <a:off x="1115640" y="5229000"/>
            <a:ext cx="18000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Actions  undertaken </a:t>
            </a:r>
            <a:br>
              <a:rPr sz="3200"/>
            </a:b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by the Industry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IBfed and EBF tried to convince ICANN to refrain from proceeding with new gTLD such as “.bank” or at least  to create a process with additional safeguards. In response, ICANN amended  its guidebook acknowledging that financial Top-level domains will require higher level of security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ABA/BITS and ?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WG on Security Standards (minimum evaluation criteria that ICANN evaluators should use to judge applicants)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(+ VeriSign) NewCo </a:t>
            </a:r>
            <a:r>
              <a:rPr b="0" lang="nl-BE" sz="2400" spc="-1" strike="noStrike">
                <a:solidFill>
                  <a:srgbClr val="1f497d"/>
                </a:solidFill>
                <a:latin typeface="Calibri"/>
              </a:rPr>
              <a:t>fTLD Registry Services, LLC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o apply as registry operator for “.</a:t>
            </a:r>
            <a:r>
              <a:rPr b="0" lang="nl-BE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bank”  (March 2012) </a:t>
            </a:r>
            <a:r>
              <a:rPr b="0" lang="en-US" sz="24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Raising awareness (GAC, Basle Cttee, European Commission, …) 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Next steps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EBF endorsement of the minimum security standards ?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Elevated security standards are primarily policies on how the Registry Operator (wholesaler of domain names) and their Registrars (retailer of domain names) must act and operat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Policie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ypes of nam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Eligibility requirement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Validation prior activ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100 % accurate registrant inform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ompliance  : Registry agreement with ICANN/ Registry-Registrar agreements, registration agreement etc…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Participation in the ABA/BITS NewCo ?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Application for other generic Top Level domains names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(national level, cross-countries ?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Continue to raise awarenes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f497d"/>
                </a:solidFill>
                <a:latin typeface="Calibri"/>
              </a:rPr>
              <a:t>ICANN Governmental Advisory Committee (GAC) Early Warning system</a:t>
            </a:r>
            <a:endParaRPr b="0" lang="en-US" sz="1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1:11:41Z</dcterms:created>
  <dc:creator>Tatyana Ferragallo</dc:creator>
  <dc:description/>
  <dc:language>en-US</dc:language>
  <cp:lastModifiedBy>Dominique Buggenhout</cp:lastModifiedBy>
  <dcterms:modified xsi:type="dcterms:W3CDTF">2011-12-08T12:19:44Z</dcterms:modified>
  <cp:revision>177</cp:revision>
  <dc:subject/>
  <dc:title>Slide 1</dc:title>
</cp:coreProperties>
</file>