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93240" y="767880"/>
            <a:ext cx="51166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0BE1-AD26-4796-BC49-2EFAEAB6FB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999D-A4E7-42DA-B379-D221B1B5C1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7AD1-3B87-404D-A5E1-2D5CD1448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5B5E-CBDF-48EC-9FE3-6FE82F86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51C9-E3D3-4DAA-8F53-BCAAD99C7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6799-BE7D-470B-B626-0083E4429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6ACB-F9E3-4CC0-88EE-42C6C14A3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91A74-0E8A-41EF-A036-D94451AD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E92A4-E3D7-439D-9DCD-D9EDB055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743F-6CE9-4F76-8D8B-5409BE4F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AFED-A025-48EB-BDF1-398E066C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5249-DE66-4CC2-9E98-CAF61820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26F2-FFE8-4BE7-9033-A09FD99D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BE6E-CCDF-438C-ABB1-34F50497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30DF-6561-40C4-B00F-BE40E7D5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44CA-9FC6-4458-9145-B8AD8402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F4EB-AE9B-4183-A126-36014259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C542-B0D4-4335-85BD-2C20DD205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F2C7-90C8-4282-B78C-5B98E22B1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BAD2-9674-47F2-B958-83A2FFFC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3CE9-E260-4A05-B925-DAC584C8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27FE-3D51-4D60-BC9F-FBE49D87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6BAC-F5B2-4190-9D37-3A780264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39E6-F8C5-40A6-B137-5D115F2F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B48A-18D9-4A48-B1F0-6E68BAC4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6137-7CBC-40F6-B4AF-259B4516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6BE2-3E1E-4E63-92EA-56466B0975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0" descr="EBF-FINAL_noWhiteBorder.GIF"/>
          <p:cNvPicPr/>
          <p:nvPr/>
        </p:nvPicPr>
        <p:blipFill>
          <a:blip r:embed="rId4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FC8A-2BB9-491F-AAA9-DD7925B7A3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Internet Financial Top-level Domains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Associates Meeting 8 December 2011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e46c0a"/>
                </a:solidFill>
                <a:latin typeface="Calibri"/>
              </a:rPr>
              <a:t>Background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Internet Corporation fro Assigned Names and Numbers (ICANN) controls the establishment of valid Top Level Domains names (TLDs) such as “.com” or “.org”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No availabilities. New generic Top Level Domains (gTLDs) names program launched by ICANN : “anyone can apply for anything” (.bank ; .banque, …)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Applications open from 12 January to 12 April 2012. Evaluation afterwards (9–20 months). New gTLDs will likely be delegated in early 2013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Raises concerns on Fraud and Intellectual property 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e46c0a"/>
                </a:solidFill>
                <a:latin typeface="Calibri"/>
              </a:rPr>
              <a:t>Background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564000" y="1916280"/>
            <a:ext cx="201600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ICAN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635280" y="3284640"/>
            <a:ext cx="194472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Registry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476360" y="3284640"/>
            <a:ext cx="194328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Registry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5796000" y="3284640"/>
            <a:ext cx="194472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Registry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684360" y="4653000"/>
            <a:ext cx="1295280" cy="576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7f7f7f"/>
                </a:solidFill>
                <a:latin typeface="Calibri"/>
              </a:rPr>
              <a:t>Registr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2124000" y="4653000"/>
            <a:ext cx="1295640" cy="576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7f7f7f"/>
                </a:solidFill>
                <a:latin typeface="Calibri"/>
              </a:rPr>
              <a:t>Registr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3564000" y="4653000"/>
            <a:ext cx="1295280" cy="576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7f7f7f"/>
                </a:solidFill>
                <a:latin typeface="Calibri"/>
              </a:rPr>
              <a:t>Registr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611280" y="5732640"/>
            <a:ext cx="1368360" cy="4330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e46c0a"/>
                </a:solidFill>
                <a:latin typeface="Calibri"/>
              </a:rPr>
              <a:t>Regist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1835280" y="6165720"/>
            <a:ext cx="1368360" cy="43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e46c0a"/>
                </a:solidFill>
                <a:latin typeface="Calibri"/>
              </a:rPr>
              <a:t>Regist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Oval 12"/>
          <p:cNvSpPr/>
          <p:nvPr/>
        </p:nvSpPr>
        <p:spPr>
          <a:xfrm>
            <a:off x="2050920" y="5589720"/>
            <a:ext cx="1368720" cy="4316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e46c0a"/>
                </a:solidFill>
                <a:latin typeface="Calibri"/>
              </a:rPr>
              <a:t>Regist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traight Connector 23"/>
          <p:cNvSpPr/>
          <p:nvPr/>
        </p:nvSpPr>
        <p:spPr>
          <a:xfrm>
            <a:off x="4211640" y="2852640"/>
            <a:ext cx="0" cy="43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Straight Connector 25"/>
          <p:cNvCxnSpPr>
            <a:endCxn id="103" idx="0"/>
          </p:cNvCxnSpPr>
          <p:nvPr/>
        </p:nvCxnSpPr>
        <p:spPr>
          <a:xfrm flipV="1" rot="10800000">
            <a:off x="2447280" y="2203920"/>
            <a:ext cx="1116720" cy="1080360"/>
          </a:xfrm>
          <a:prstGeom prst="bentConnector2">
            <a:avLst/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13" name="Straight Connector 27"/>
          <p:cNvCxnSpPr>
            <a:endCxn id="104" idx="0"/>
          </p:cNvCxnSpPr>
          <p:nvPr/>
        </p:nvCxnSpPr>
        <p:spPr>
          <a:xfrm>
            <a:off x="5579640" y="2276640"/>
            <a:ext cx="1188360" cy="1008720"/>
          </a:xfrm>
          <a:prstGeom prst="bentConnector2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114" name="Straight Connector 30"/>
          <p:cNvSpPr/>
          <p:nvPr/>
        </p:nvSpPr>
        <p:spPr>
          <a:xfrm>
            <a:off x="1619280" y="4221000"/>
            <a:ext cx="0" cy="43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traight Connector 34"/>
          <p:cNvSpPr/>
          <p:nvPr/>
        </p:nvSpPr>
        <p:spPr>
          <a:xfrm>
            <a:off x="2771640" y="4149720"/>
            <a:ext cx="0" cy="503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Straight Connector 36"/>
          <p:cNvCxnSpPr/>
          <p:nvPr/>
        </p:nvCxnSpPr>
        <p:spPr>
          <a:xfrm>
            <a:off x="3276720" y="4221000"/>
            <a:ext cx="791280" cy="432720"/>
          </a:xfrm>
          <a:prstGeom prst="bentConnector3">
            <a:avLst>
              <a:gd name="adj1" fmla="val 4997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17" name="Straight Arrow Connector 43"/>
          <p:cNvCxnSpPr/>
          <p:nvPr/>
        </p:nvCxnSpPr>
        <p:spPr>
          <a:xfrm flipV="1">
            <a:off x="2555640" y="5228640"/>
            <a:ext cx="108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45"/>
          <p:cNvCxnSpPr>
            <a:stCxn id="109" idx="1"/>
          </p:cNvCxnSpPr>
          <p:nvPr/>
        </p:nvCxnSpPr>
        <p:spPr>
          <a:xfrm flipH="1" flipV="1">
            <a:off x="1834920" y="5229000"/>
            <a:ext cx="202320" cy="100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9" name="Straight Arrow Connector 47"/>
          <p:cNvCxnSpPr>
            <a:stCxn id="108" idx="0"/>
          </p:cNvCxnSpPr>
          <p:nvPr/>
        </p:nvCxnSpPr>
        <p:spPr>
          <a:xfrm flipH="1" flipV="1">
            <a:off x="1115640" y="5229000"/>
            <a:ext cx="18000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Actions  undertaken </a:t>
            </a:r>
            <a:br>
              <a:rPr sz="3200"/>
            </a:b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by the Industry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IBfed and EBF tried to convince ICANN to refrain from proceeding with new gTLD such as “.bank” or at least  to create a process with additional safeguards. In response, ICANN amended  its guidebook acknowledging that financial Top-level domains will require higher level of security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ABA/BITS and ?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WG on Security Standards (minimum evaluation criteria that ICANN evaluators should use to judge applicants)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(+ VeriSign) NewCo </a:t>
            </a:r>
            <a:r>
              <a:rPr b="0" lang="nl-BE" sz="2400" spc="-1" strike="noStrike">
                <a:solidFill>
                  <a:srgbClr val="1f497d"/>
                </a:solidFill>
                <a:latin typeface="Calibri"/>
              </a:rPr>
              <a:t>fTLD Registry Services, LLC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o apply as registry operator for “.</a:t>
            </a:r>
            <a:r>
              <a:rPr b="0" lang="nl-BE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bank”  (March 2012) </a:t>
            </a:r>
            <a:r>
              <a:rPr b="0" lang="en-US" sz="24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Raising awareness (GAC, Basle Cttee, European Commission, …) 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Next steps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EBF endorsement of the minimum security standards ?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Elevated security standards are primarily policies on how the Registry Operator (wholesaler of domain names) and their Registrars (retailer of domain names) must act and operate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Policie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Types of nam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Eligibility requirement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Validation prior activ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100 % accurate registrant inform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ompliance  : Registry agreement with ICANN/ Registry-Registrar agreements, registration agreement etc…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Participation in the ABA/BITS NewCo ?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Application for other generic Top Level domains names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(national level, cross-countries ?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Continue to raise awarenes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f497d"/>
                </a:solidFill>
                <a:latin typeface="Calibri"/>
              </a:rPr>
              <a:t>ICANN Governmental Advisory Committee (GAC) Early Warning system</a:t>
            </a:r>
            <a:endParaRPr b="0" lang="en-US" sz="17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1:11:41Z</dcterms:created>
  <dc:creator>Tatyana Ferragallo</dc:creator>
  <dc:description/>
  <dc:language>en-US</dc:language>
  <cp:lastModifiedBy>Dominique Buggenhout</cp:lastModifiedBy>
  <dcterms:modified xsi:type="dcterms:W3CDTF">2011-12-08T12:19:44Z</dcterms:modified>
  <cp:revision>177</cp:revision>
  <dc:subject/>
  <dc:title>Slide 1</dc:title>
</cp:coreProperties>
</file>