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49448-5B27-40A8-B84A-F1B70DF48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FB856-1B89-4B10-B73D-C6C0497CF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0B11D-5732-4745-A57E-0B980DB24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837F4-494C-4239-8C54-4AC181E17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06971-98A7-4757-A33C-A97D78D9C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FFB26-0756-41E3-A9BB-E5E9634AB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8BFC6-D572-44F9-8196-B2CE39DCD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C248D-B0CD-40E2-8DE6-2A97DB329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AF576-A52E-4360-BCEF-8526924D9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EC540-D308-4401-BFEA-01347763E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4DF76-110B-4C31-B832-FF13D1B6C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10BB7-4C2E-477B-A7A0-6125E7D0D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27299-E9A3-49A9-BE0D-5A2B1C9C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65514-9EFF-4160-9776-11546D801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C15F5-0232-4CDE-9145-D79409502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1CD75-6398-4C19-8824-A0910E5E7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070D2-D2FD-4CFD-8599-4F5495E28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EAF7A-331E-4457-BF94-F352FBB80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0B2C5-DBF1-4329-B1BD-F0D3595CE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4F206-E1BA-4ADA-B44E-797D0751F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E7BFF-465E-4B97-8E53-43655372F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6B555-7B02-44DF-A6A9-6C691E4FA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0294C-3BCE-4532-A4AA-882FF903E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7B157-6FF6-4AC7-A54D-9DC31051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2DBB0-0EE9-44BA-B85B-0411883EAC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BCDDB-3C16-478B-9310-5462E02FFB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Financial integration in post-soviet spac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nna Abalkin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aku, 2010, 27 ma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oss-border invest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least 30 CIS banks which have operating subsidiaries in the regio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of banks they control increased to 6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2008 banks’ cross-border investments in the authorized capital of CIS credit institutions reached $4bln (total assets of controlled banks stood at $26,8bln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360" y="1947960"/>
            <a:ext cx="4032360" cy="20574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68360" y="4356000"/>
            <a:ext cx="4032360" cy="20257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0" y="233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9080" y="3789000"/>
            <a:ext cx="27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S host country ba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9080" y="1627920"/>
            <a:ext cx="292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S home country bank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ule of single pri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4436640"/>
            <a:ext cx="822960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st volumes of capital movement among post-Soviet countries are the reason for the high differentiation in monetary parameters, (Vernikov, 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684360" y="1989000"/>
          <a:ext cx="3855960" cy="2186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3855960" cy="21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4643280" y="2104920"/>
            <a:ext cx="403884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harmonized price for credit resources acts as a precondition of the integrated banking market, greater banking cooperation does not lead to such harmoniz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ence of the modern financial crisis indicates that the scale of banking integration increas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financial crisis also promoted inter-governmental discussions on common mechanisms to stabilize econom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se measures are not sufficient to stabilize regional economies during financial breakdow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ghtening credit markets, decreasing export revenues and economic recession   necessitate the reduction of the CIS countries dependence on international financial markets and the development of regional capital and monetary market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sible altern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rasian bond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certain obstacles to its achievement, for instance, the absence of sovereign ratings for some countrie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ital markets can be developed through the redistribution mechanism of multilateral development banks (raising funds through bonds and transforming them into loan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centers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t investment position of selected CIS count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539640" y="1989000"/>
          <a:ext cx="8209080" cy="4214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989000"/>
                    <a:ext cx="8209080" cy="42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1837440" y="23493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ml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onal monetary mark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st usage of local curr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effectiveness of usage of foreign currencies during crisis times because fluctuations of exchange rates of local currencies are less against each other than against US dollar or eur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ishina,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xchange rate of Kazakh tenge vs Russian ruble fell by 1% from 2008, August till 2009,August. At the same time the exchange rate of dollar rose by 26% and euro by 23% against teng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ing the same period the exchange rate of Russian ruble against Ukrainian hryvna rose by 25%, thus dollar rose against hryvna by 65%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eralization of their monetary market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IS banks development tre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ess in financial markets develop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they still remain highly vulnerabl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imited role of banking syste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ence on global financial market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espite considerable improvement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IS regio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banking systems, regional banking markets are quite poor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integrated and differ widely in terms of the structure and size of thei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oper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ancial intermediation: regional comparis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ssets/GDP,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826920" y="2130480"/>
            <a:ext cx="7417080" cy="41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sets of the CIS banking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39640" y="1484280"/>
          <a:ext cx="8353440" cy="493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484280"/>
                    <a:ext cx="8353440" cy="49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2321640" y="172080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 ml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s of financial inte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sis hit financial markets of the CIS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question – stabilization of their financial markets and development of regional capital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models of financial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an financial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: single financial mark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of single p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al of restrictions on market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rastructu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inte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t Asian 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: development of financial market seg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gis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e national legislation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I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count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and bilateral and multilateral agreements between them do 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establish preferential banking regulations for owners of ban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who originate fro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I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favoured nation treatment (MFN) is now granted to bank founders from the CIS countries, as it is to other non-resident shareholders, but MFN allows to apply restrictions for foreign financial organis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asian economic community initiative to built common financial mark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nking cooperation of the C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 soviet space is one of few regions where credit institutions from CIS have favorable perspectives to develop banking busines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evel of development of banking systems of CIS countries doesn’t allow their banks to compete with commercial banks originated from developed countrie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-soviet space corresponds to the possibilities of CIS b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king cooperation is often indicates the level of economic interaction between home and host countrie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, asymmetric participation of CIS banks speaks for fragmentariness of bilateral economic cooperation in the region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IS banks on post-soviet space: regional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al expansion of the CIS banks is asymmetri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banks (mainly Russian) became the key players in mergers and acquisitions in post-soviet space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dit institutions from post-soviet space increase their role in banking systems of neighboring countrie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al banks have emerged whose development strategies involve expansion into post-Soviet count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tinational banks of the CIS reg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1981080"/>
          <a:ext cx="8229600" cy="4392720"/>
        </p:xfrm>
        <a:graphic>
          <a:graphicData uri="http://schemas.openxmlformats.org/drawingml/2006/table">
            <a:tbl>
              <a:tblPr/>
              <a:tblGrid>
                <a:gridCol w="1811160"/>
                <a:gridCol w="1295640"/>
                <a:gridCol w="1871640"/>
                <a:gridCol w="1728720"/>
                <a:gridCol w="1522440"/>
              </a:tblGrid>
              <a:tr h="805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me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assets in the CIS region, $ml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capital in the CIS region, $ml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ber of subsidia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T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887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0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f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608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1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nesheconom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283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1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zakhst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687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5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zcommerz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zakhst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72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er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36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2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nk of Mosc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5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zprom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vat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kra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2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s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4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6T07:44:08Z</dcterms:created>
  <dc:creator>Samsung_Q310</dc:creator>
  <dc:description/>
  <dc:language>en-US</dc:language>
  <cp:lastModifiedBy>Samsung_Q310</cp:lastModifiedBy>
  <dcterms:modified xsi:type="dcterms:W3CDTF">2010-05-27T07:52:45Z</dcterms:modified>
  <cp:revision>31</cp:revision>
  <dc:subject/>
  <dc:title>Financial integration in post soviet space</dc:title>
</cp:coreProperties>
</file>