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E9B16-1E9B-497A-8750-6D4B9196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FD583-49C4-4A9B-8E8C-6FDC9CC1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3044C-F27F-4579-9C5A-10DF67A16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F4F3B-2757-4549-91CC-3EA31D76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AD07-297F-4AAC-A723-0C93F8C43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7F69-3C9D-4330-AD39-47431419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C732-6E31-4323-902B-DA7E30D7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2520-159B-485C-971E-29A15A93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3589-AD55-442F-96CC-310C7C02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CE4A-D83B-4B69-937E-A8BB9649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7547-4BA4-4C92-B942-B0C29BC3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E6DAE-0C7F-4D79-ABD1-7DC9E9E7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7AAC-84C8-4595-944C-403CB516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67C2-7DAE-4416-8BD8-49805363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FA82-9F02-4D0D-85FA-23F9CE91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6EB0-CDC6-470D-970C-7EAEBC97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BF8B-029A-4EF4-8080-B3F0D9C4A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029BB-BD09-41E2-B739-51815CE6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343B5-3C45-495C-A520-1511F1FF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30895-10FF-49DE-AA80-BB563315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128C8-6531-4205-A1FB-7FE7DBAB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A1795-6E58-4ED3-9FA2-6214A0BA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AF174-C557-4DCC-BB38-4E2552EE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7136B-6281-4E30-AB37-A6AB2161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F63A-C37F-490E-95B8-73F11E6E47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809D-E356-4F3E-B7B2-B5856799D0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inancial integration in post-soviet spac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na Abalkin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aku, 2010, 27 m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-border inves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30 CIS banks which have operating subsidiaries in the reg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banks they control increased to 6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8 banks’ cross-border investments in the authorized capital of CIS credit institutions reached $4bln (total assets of controlled banks stood at $26,8bl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1947960"/>
            <a:ext cx="4032360" cy="2057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8360" y="4356000"/>
            <a:ext cx="4032360" cy="2025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23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9080" y="3789000"/>
            <a:ext cx="27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st country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9080" y="1627920"/>
            <a:ext cx="29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me country bank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ule of single pri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st volumes of capital movement among post-Soviet countries are the reason for the high differentiation in monetary parameters, (Vernikov,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4360" y="1989000"/>
          <a:ext cx="3855960" cy="21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385596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4643280" y="2104920"/>
            <a:ext cx="403884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harmonized price for credit resources acts as a precondition of the integrated banking market, greater banking cooperation does not lead to such harmon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 of the modern financial crisis indicates that the scale of banking integration incre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inancial crisis also promoted inter-governmental discussions on common mechanisms to stabilize econom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measures are not sufficient to stabilize regional economies during financial breakdow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ghtening credit markets, decreasing export revenues and economic recession   necessitate the reduction of the CIS countries dependence on international financial markets and the development of regional capital and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asian bond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certain obstacles to its achievement, for instance, the absence of sovereign ratings for some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 markets can be developed through the redistribution mechanism of multilateral development banks (raising funds through bonds and transforming them into loan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center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 investment position of selected CIS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9640" y="1989000"/>
          <a:ext cx="8209080" cy="42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89000"/>
                    <a:ext cx="820908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837440" y="2349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al monetary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st usage of local curr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ffectiveness of usage of foreign currencies during crisis times because fluctuations of exchange rates of local currencies are less against each other than against US dollar or eur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shina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change rate of Kazakh tenge vs Russian ruble fell by 1% from 2008, August till 2009,August. At the same time the exchange rate of dollar rose by 26% and euro by 23% against ten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e same period the exchange rate of Russian ruble against Ukrainian hryvna rose by 25%, thus dollar rose against hryvna by 65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eralization of their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development tr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in financial markets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y still remain highly vulnerabl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mited role of banking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e on global financial market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spite considerable improvement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S regi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banking systems, regional banking markets are quite poor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egrated and differ widely in terms of the structure and size of the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ncial intermediation: regional comparis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sets/GDP,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2130480"/>
            <a:ext cx="741708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ets of the CIS banking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9640" y="1484280"/>
          <a:ext cx="8353440" cy="49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8353440" cy="49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321640" y="17208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 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 of financial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sis hit financial markets of the CIS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question – stabilization of their financial markets and development of regional capital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models of financia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financial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single financial mar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of single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al of restrictions on mark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 Asian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development of financial market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i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 national legisl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nd bilateral and multilateral agreements between them do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stablish preferential banking regulations for owners of ba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ho originate fr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favoured nation treatment (MFN) is now granted to bank founders from the CIS countries, as it is to other non-resident shareholders, but MFN allows to apply restrictions for foreign financial orga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asian economic community initiative to built common financial mar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king cooperation of the C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soviet space is one of few regions where credit institutions from CIS have favorable perspectives to develop banking 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vel of development of banking systems of CIS countries doesn’t allow their banks to compete with commercial banks originated from developed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soviet space corresponds to the possibilities of CIS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cooperation is often indicates the level of economic interaction between home and host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asymmetric participation of CIS banks speaks for fragmentariness of bilateral economic cooperation in the region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on post-soviet space: regional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expansion of the CIS banks is asymmetri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banks (mainly Russian) became the key players in mergers and acquisitions in post-soviet space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institutions from post-soviet space increase their role in banking systems of neighboring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banks have emerged whose development strategies involve expansion into post-Soviet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national banks of the CIS reg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392720"/>
        </p:xfrm>
        <a:graphic>
          <a:graphicData uri="http://schemas.openxmlformats.org/drawingml/2006/table">
            <a:tbl>
              <a:tblPr/>
              <a:tblGrid>
                <a:gridCol w="1811160"/>
                <a:gridCol w="1295640"/>
                <a:gridCol w="1871640"/>
                <a:gridCol w="1728720"/>
                <a:gridCol w="1522440"/>
              </a:tblGrid>
              <a:tr h="80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me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ssets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apital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subsidia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T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88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60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neshecon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28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8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commerz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7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er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3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 of Mosc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zpr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vat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s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7:44:08Z</dcterms:created>
  <dc:creator>Samsung_Q310</dc:creator>
  <dc:description/>
  <dc:language>en-US</dc:language>
  <cp:lastModifiedBy>Samsung_Q310</cp:lastModifiedBy>
  <dcterms:modified xsi:type="dcterms:W3CDTF">2010-05-27T07:52:45Z</dcterms:modified>
  <cp:revision>31</cp:revision>
  <dc:subject/>
  <dc:title>Financial integration in post soviet space</dc:title>
</cp:coreProperties>
</file>