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5B90C-7A7A-4B4D-B025-C51BC1B1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280F3-ACB7-4CBD-BC45-89FE7874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DF62A-C70A-49E6-8E07-7D6D9CFD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21666-D3F9-4562-A8B0-240E28AB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E135-0174-4DB6-9768-B014BA0D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FC44-6FAF-4C00-A6DD-EB2CE067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F211-0D0C-4BD7-8CDE-9D52C53C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B30E-AF5B-4B77-8329-8682883C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641B-B22F-4FB8-851A-F7A0BB35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CA7D-FD9E-4236-8366-33F6FE71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E5C5-97A8-41F2-8C79-207FC1B3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42B5C-D151-4FE1-9CE8-E0891464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AE61-E91D-469A-9539-E3A688D5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A0CE-DB70-489A-9ED2-2074E7A2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829F-49B0-40B3-8735-46E94D6D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59D1-0345-46DA-BD08-642710AC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F8C5-03F4-4061-B1BE-2DAB4260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1943C-E241-4200-8C41-B4F0FC2A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F90E0-EDEA-4C11-BAC1-9EF53DDF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AB0A6-DF2C-4C46-976D-D51BDBC2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8C510-0A2B-4148-A72B-2DC98AFF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C6609-B5E6-4F66-BED0-B21CF55F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FA604-4BEC-4CFD-8950-B1DC5B75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32DCF-7512-4F74-B4BE-14E7BBAF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EF51-0B82-4127-9CCB-CDF5AF0CBE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38ED-9614-4B95-9A11-793FB62D8C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nancial integration in post-soviet spac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a Abalki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aku, 2010, 27 m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border inve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30 CIS banks which have operating subsidiaries in the reg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banks they control increased to 6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8 banks’ cross-border investments in the authorized capital of CIS credit institutions reached $4bln (total assets of controlled banks stood at $26,8bl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1947960"/>
            <a:ext cx="403236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4356000"/>
            <a:ext cx="4032360" cy="2025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3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9080" y="3789000"/>
            <a:ext cx="27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st country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9080" y="162792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me country bank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ule of single pr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st volumes of capital movement among post-Soviet countries are the reason for the high differentiation in monetary parameters, (Vernikov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1989000"/>
          <a:ext cx="3855960" cy="21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385596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643280" y="2104920"/>
            <a:ext cx="403884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harmonized price for credit resources acts as a precondition of the integrated banking market, greater banking cooperation does not lead to such harmo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of the modern financial crisis indicates that the scale of banking integration incre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inancial crisis also promoted inter-governmental discussions on common mechanisms to stabilize econo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measures are not sufficient to stabilize regional economies during financial breakdow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ening credit markets, decreasing export revenues and economic recession   necessitate the reduction of the CIS countries dependence on international financial markets and the development of regional capital and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asian bon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certain obstacles to its achievement, for instance, the absence of sovereign ratings for some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markets can be developed through the redistribution mechanism of multilateral development banks (raising funds through bonds and transforming them into loan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center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 investment position of selected CIS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9640" y="1989000"/>
          <a:ext cx="8209080" cy="42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89000"/>
                    <a:ext cx="82090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837440" y="234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monetary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st usage of local cur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ectiveness of usage of foreign currencies during crisis times because fluctuations of exchange rates of local currencies are less against each other than against US dollar or eur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shina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hange rate of Kazakh tenge vs Russian ruble fell by 1% from 2008, August till 2009,August. At the same time the exchange rate of dollar rose by 26% and euro by 23% against ten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same period the exchange rate of Russian ruble against Ukrainian hryvna rose by 25%, thus dollar rose against hryvna by 65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alization of their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development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in financial markets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y still remain highly vulnerab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mited role of banking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e on global financial marke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spite considerable improvement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S regi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banking systems, regional banking markets are quite poor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egrated and differ widely in terms of the structure and size of the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al intermediation: regional compari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ets/GDP,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2130480"/>
            <a:ext cx="7417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ts of the CIS banking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484280"/>
          <a:ext cx="8353440" cy="49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35344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321640" y="1720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of financial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sis hit financial markets of the CIS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 – stabilization of their financial markets and development of regional capital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dels of financi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financi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single financial 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of singl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al of restrictions on mark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Asian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development of financial market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national legisl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nd bilateral and multilateral agreements between them do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stablish preferential banking regulations for owners of ba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ho originate 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favoured nation treatment (MFN) is now granted to bank founders from the CIS countries, as it is to other non-resident shareholders, but MFN allows to apply restrictions for foreign financial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asian economic community initiative to built common financial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king cooperation of the 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soviet space is one of few regions where credit institutions from CIS have favorable perspectives to develop banking 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vel of development of banking systems of CIS countries doesn’t allow their banks to compete with commercial banks originated from developed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soviet space corresponds to the possibilities of CIS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cooperation is often indicates the level of economic interaction between home and host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asymmetric participation of CIS banks speaks for fragmentariness of bilateral economic cooperation in the region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on post-soviet space: regional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expansion of the CIS banks is asymmetr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banks (mainly Russian) became the key players in mergers and acquisitions in post-soviet space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nstitutions from post-soviet space increase their role in banking systems of neighboring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banks have emerged whose development strategies involve expansion into post-Soviet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national banks of the CIS reg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392720"/>
        </p:xfrm>
        <a:graphic>
          <a:graphicData uri="http://schemas.openxmlformats.org/drawingml/2006/table">
            <a:tbl>
              <a:tblPr/>
              <a:tblGrid>
                <a:gridCol w="1811160"/>
                <a:gridCol w="1295640"/>
                <a:gridCol w="1871640"/>
                <a:gridCol w="1728720"/>
                <a:gridCol w="1522440"/>
              </a:tblGrid>
              <a:tr h="80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e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ssets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apital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subsidi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T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8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0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neshecon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8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8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commerz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er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 of Mosc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pr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7:44:08Z</dcterms:created>
  <dc:creator>Samsung_Q310</dc:creator>
  <dc:description/>
  <dc:language>en-US</dc:language>
  <cp:lastModifiedBy>Samsung_Q310</cp:lastModifiedBy>
  <dcterms:modified xsi:type="dcterms:W3CDTF">2010-05-27T07:52:45Z</dcterms:modified>
  <cp:revision>31</cp:revision>
  <dc:subject/>
  <dc:title>Financial integration in post soviet space</dc:title>
</cp:coreProperties>
</file>