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C6DE-5139-497A-B413-AA405D9D6A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D7AC-EB65-4ED9-BE4E-350282FF87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023D-4676-4181-B54F-550CF4B7CE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E120-D12E-432B-A539-BDAF657642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2DC3-7804-4A75-B5E8-23A54D9ABF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375F-0631-4C92-9E1D-CA8EF51AC8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47F2-6995-4A07-B57C-D83C0E3742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6CBB-5A68-46C4-ABFA-8A092D202AF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593C-65D6-465C-9109-84B9BE8991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AB30-9DC1-47C1-8F36-37C62C38176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7C7A-A9C5-4533-8BAF-1EAD9DEA21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088D-D7FB-420D-BD35-5358A5EC82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EA5E-3940-4138-982B-A258624DE2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D3D-2F96-4E53-A607-EE68C026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4DBB-2831-435A-894F-85FC7D74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B34E-B113-448C-B75D-84991CAB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B00B-69C6-4D5A-844E-B774CB44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AC7E-C1A9-4D84-824F-03B1CB1B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879-07BC-44E7-8EFC-9E47875B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3F1B-174D-4F7B-9F43-30426687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193-0BCB-4A78-8E2E-37F74CAA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3D82-8156-402C-BAE9-A3ED16B1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956D-95BC-4643-9898-17D29F0A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4613-8FFD-413B-A3CE-43665F4E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6863-7E23-4380-A49A-FCEB5EDE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A7C7-A7C5-4D64-930B-A435177A0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BA- EBF Confer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-regional Banking Cooperation: Solid Financial Future</a:t>
            </a:r>
            <a:br>
              <a:rPr sz="3200"/>
            </a:b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levance of the Experience of Financial Integration in Europe to the Eurasian Markets”</a:t>
            </a:r>
            <a:br>
              <a:rPr sz="32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o Ravoet, EBF Secretary Genera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rsday, 27 May 2010 - Baku, Azerbai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508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508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508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4200" y="2571840"/>
              <a:ext cx="131508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9200" y="2571840"/>
              <a:ext cx="131508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280" y="2571840"/>
              <a:ext cx="131508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8920" y="2571840"/>
              <a:ext cx="131508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levance of EU experience for Eur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ut sufficient effort into prepar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joint commit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sure continuous participation &amp; involve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ke into account all regions’ differ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onitor integration of various market’ seg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political stability and sound monetary and fiscal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Per aspera ad a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path might be challenging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benefits are worth the effor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0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16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r attention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18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2" name="Rectangle 39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42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3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5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9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EB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98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18" descr="Carte Europe.jpg"/>
          <p:cNvPicPr/>
          <p:nvPr/>
        </p:nvPicPr>
        <p:blipFill>
          <a:blip r:embed="rId2"/>
          <a:stretch/>
        </p:blipFill>
        <p:spPr>
          <a:xfrm>
            <a:off x="1214280" y="1285920"/>
            <a:ext cx="5126040" cy="5559480"/>
          </a:xfrm>
          <a:prstGeom prst="rect">
            <a:avLst/>
          </a:prstGeom>
          <a:ln w="0">
            <a:noFill/>
          </a:ln>
        </p:spPr>
      </p:pic>
      <p:sp>
        <p:nvSpPr>
          <p:cNvPr id="66" name="Text Placeholder 3"/>
          <p:cNvSpPr/>
          <p:nvPr/>
        </p:nvSpPr>
        <p:spPr>
          <a:xfrm>
            <a:off x="6357960" y="1428840"/>
            <a:ext cx="2571840" cy="52862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BE" sz="1800" spc="-1" strike="noStrike">
                <a:solidFill>
                  <a:srgbClr val="1f497d"/>
                </a:solidFill>
                <a:latin typeface="Calibri"/>
              </a:rPr>
              <a:t>31 national member associ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27 EU Member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4 EFTA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13 Associ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787"/>
          <p:cNvSpPr/>
          <p:nvPr/>
        </p:nvSpPr>
        <p:spPr>
          <a:xfrm>
            <a:off x="6429240" y="318132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788"/>
          <p:cNvSpPr/>
          <p:nvPr/>
        </p:nvSpPr>
        <p:spPr>
          <a:xfrm>
            <a:off x="6429240" y="407196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789"/>
          <p:cNvSpPr/>
          <p:nvPr/>
        </p:nvSpPr>
        <p:spPr>
          <a:xfrm>
            <a:off x="6429240" y="496728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19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820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21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22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23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824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825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26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Definition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market for a given set of financial instruments and/or services is fully integrated if all potential market participants with the same relevant character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ace a single set of rules when they decide to deal with those financial instruments and/or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ave equal access to the above-mentioned set of financial instruments and/or servic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treated equally when they are active in the mar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enefits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opportunities for risk sharing and risk diversific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etter allocation of capit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mproved liquidity of markets and strengthened resilience to shock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ooth operation of payment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nhanced information and competitiveness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otential for higher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onditions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o benefit from financial integration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inter alia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wo core conditions must be me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mpletion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all segments of financial integration in the region,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stabilit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this financially integrated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eps towards EU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60s – removal of restrictions on freedom of establishment and freedom of provision of servi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87 – Single European Ac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0 – Economic Monetary Union (freedom of the movement of capital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9 – Financial Services Action Plan and introduction of the eur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2005 – White Paper of Financial Services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igns of increasing integration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transaction volu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diversified reserve currency syste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ond market integr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quities market integration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sector integ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ability and financial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integration and development can increase the efficiency of a financial system, if it is accompanied by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dequate legal and regulatory framework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rporate governance, market infrastructur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supervision should assess, in real ti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build-up of within-market r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cross-market contagion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linkages between large and complex financial instit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6-01T08:16:21Z</dcterms:modified>
  <cp:revision>115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