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FA1E-5E36-4D3E-A03B-AD308CA24E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E32B-EAE2-4BA7-8666-A98D6FA7F81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DC87-6CA9-4348-A589-2DCC17C82BA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EC1C-437B-410A-B0C5-02C6D69B48E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C49E-9CC1-45C8-B0A4-F62F336BC04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0798-F7AC-4EAD-B662-650EE8A466E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8C91-2DB8-4CF2-B5AC-F52AB40AEF3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B4EF-9700-485C-9912-ABEEB642ED9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13E5-A781-4CCC-91F9-606EE2AD6E3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A789-6089-4BFF-8252-B3106C2EADB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02AA-1F3A-4F4E-B3A2-B9ACB8E7FE6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4192-D68E-4E9C-9C4F-F8FFFE7EF5E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CC0A-8A36-4F00-873A-9130D3DFAE2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48BB-1C20-486C-9020-2CE8B24373E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AF99-E2F4-4559-A15C-00AAD4F18FF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D66C-8DB8-416F-9058-83FC860D699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EC6D-244C-44B8-AFAE-8CB859B611E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16F8-6BAA-4236-A70A-7059B2E000F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6733-AD0A-40A2-BD3C-10D58353B42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AB00-71F0-471B-8F5B-69AF2858E37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3EA2-1961-4FA7-9E75-12291195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7AF3-F5FB-4CBA-A5B0-17562141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71C0-C765-4EEA-B7C2-C26E19889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5DA0-C35B-4455-87D0-0B1BB9CB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87BE-14A0-4D93-8E9D-EE3ED479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9DB5-2CB2-40E5-B1C1-D979D775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39DB-E07F-43EE-9AD1-9F4E1B33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8DB2-4971-489C-A960-9260103B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5C0A-1F70-4124-88AC-5B92CA51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81F6-BE28-4BA7-80B4-180BCB9C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78D9-C72C-4176-9A61-DE3C65FE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1317-AE84-4160-9A9D-D7E57A0D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C0A9-ED10-4889-8DF7-F92F8526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BD2E-71A7-43A3-A2AE-02B22A9E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A109-427F-4956-B0B8-3A2A73A7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6290-75E6-421D-844B-5A161E01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732F-96A0-4B7E-BEBA-3A7DB346D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9004-224F-442F-B86B-7D44C820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C485-58B2-4186-A273-52659F6D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C060-72B0-4494-A1AE-09880117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8AA4-34CD-4510-A5DD-6BFA8569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D95E-014F-4C17-B39A-53F27F20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AABE-9DC4-4A3F-8376-FE5D8C7C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2A96-00A4-42EA-AA3C-D8600C13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58E8-C07A-4854-A688-6A4FC535925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B349-F706-4F9F-A308-DF8E1B124C8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g.gasos@ebf-fbe.eu" TargetMode="External"/><Relationship Id="rId2" Type="http://schemas.openxmlformats.org/officeDocument/2006/relationships/hyperlink" Target="mailto:g.gasos@ebf-fbe.eu" TargetMode="External"/><Relationship Id="rId3" Type="http://schemas.openxmlformats.org/officeDocument/2006/relationships/hyperlink" Target="mailto:g.gasos@ebf-fbe.eu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3142800"/>
            <a:ext cx="64818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mmary of EBF response to the </a:t>
            </a: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Basel Committee proposal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Gonzalo Gasos, EBF Adviser</a:t>
            </a:r>
            <a:br>
              <a:rPr sz="2800"/>
            </a:b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0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000"/>
            </a:br>
            <a:r>
              <a:rPr b="0" lang="fr-FR" sz="16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14360" y="259920"/>
            <a:ext cx="514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Real economy.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Objectives and challeng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5E8D-9D3F-4451-99D7-CB1EC565FEA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00040" y="1571760"/>
            <a:ext cx="8229600" cy="48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EBF arguments with a credible analysis of the likely global macroeconomic impact of proposed regulatory chang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o do so in a time frame that will allow for an input into key decisions (e.g. before mid-year 2010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a framework for discussion of this topic in the broader public environ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ed regulatory changes ill-defined. Need for scenarios and simulation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ventional macro models not much help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data from reliable consistent source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9" name="Picture 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389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Summary of intended approach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8C21-2F63-48DF-8734-BB7205F6A31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00040" y="1571760"/>
            <a:ext cx="8229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34" name="Group 13"/>
          <p:cNvGrpSpPr/>
          <p:nvPr/>
        </p:nvGrpSpPr>
        <p:grpSpPr>
          <a:xfrm>
            <a:off x="571680" y="2063880"/>
            <a:ext cx="8358120" cy="1769760"/>
            <a:chOff x="571680" y="2063880"/>
            <a:chExt cx="8358120" cy="1769760"/>
          </a:xfrm>
        </p:grpSpPr>
        <p:sp>
          <p:nvSpPr>
            <p:cNvPr id="135" name="Text Box 5"/>
            <p:cNvSpPr/>
            <p:nvPr/>
          </p:nvSpPr>
          <p:spPr>
            <a:xfrm>
              <a:off x="571680" y="2063880"/>
              <a:ext cx="1396440" cy="17697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dentify and quantify proposed change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6" name="AutoShape 7"/>
            <p:cNvSpPr/>
            <p:nvPr/>
          </p:nvSpPr>
          <p:spPr>
            <a:xfrm>
              <a:off x="2082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7" name="Text Box 8"/>
            <p:cNvSpPr/>
            <p:nvPr/>
          </p:nvSpPr>
          <p:spPr>
            <a:xfrm>
              <a:off x="2711520" y="2446920"/>
              <a:ext cx="132660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odel of banking sector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8" name="AutoShape 9"/>
            <p:cNvSpPr/>
            <p:nvPr/>
          </p:nvSpPr>
          <p:spPr>
            <a:xfrm>
              <a:off x="4071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4714920" y="2268360"/>
              <a:ext cx="1785960" cy="14486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Assump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cenario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imula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657252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7180920" y="2268360"/>
              <a:ext cx="174888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acro impact, especially growth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sp>
        <p:nvSpPr>
          <p:cNvPr id="142" name="Text Box 12"/>
          <p:cNvSpPr/>
          <p:nvPr/>
        </p:nvSpPr>
        <p:spPr>
          <a:xfrm>
            <a:off x="533520" y="4417920"/>
            <a:ext cx="7848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Expected end result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 magic number, but a framework (and supporting report) that will allow for discussion and debate, both with the public sector and within the private sector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Lots of sensitivity analysi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3" name="Picture 1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374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Modelling approach in outlin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E928-247C-4743-8CA1-38CD28B2630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57200" y="1828800"/>
            <a:ext cx="822960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EBF is collaborating with the IIF to use a simple, spreadsheet-based model with a heavy emphasis on the banking sector. Five blocks: Euro area, U.K., U.S., Japan and Canada.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odels have four components: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balance-shee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 capital supply funct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profit and loss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acroeconomic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models allow a fairly precise articulation and quantification of the key regulatory changes being proposed and their simultaneous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side from providing some quantitative estimates of changes, the framework provides a helpful, historic dataset, upon which to base discuss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072040" y="2786040"/>
            <a:ext cx="3929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nd three key behavioral links: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Cost of bank capital/new issuanc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Private credit demand/lending rat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minal GDP/credit supply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9" name="Picture 7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410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E657-D506-4D9F-9520-8D2ACEA3615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642960" y="1819440"/>
            <a:ext cx="8298000" cy="4109760"/>
            <a:chOff x="642960" y="1819440"/>
            <a:chExt cx="8298000" cy="4109760"/>
          </a:xfrm>
        </p:grpSpPr>
        <p:sp>
          <p:nvSpPr>
            <p:cNvPr id="154" name="Text Box 4"/>
            <p:cNvSpPr/>
            <p:nvPr/>
          </p:nvSpPr>
          <p:spPr>
            <a:xfrm>
              <a:off x="642960" y="2475720"/>
              <a:ext cx="1438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To achieve higher required capital ratio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5" name="AutoShape 5"/>
            <p:cNvSpPr/>
            <p:nvPr/>
          </p:nvSpPr>
          <p:spPr>
            <a:xfrm rot="2430600">
              <a:off x="2225160" y="42746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6" name="Text Box 6"/>
            <p:cNvSpPr/>
            <p:nvPr/>
          </p:nvSpPr>
          <p:spPr>
            <a:xfrm>
              <a:off x="2945160" y="2726280"/>
              <a:ext cx="122292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ssue new equity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4312080" y="285660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8" name="Text Box 8"/>
            <p:cNvSpPr/>
            <p:nvPr/>
          </p:nvSpPr>
          <p:spPr>
            <a:xfrm>
              <a:off x="5103360" y="2287080"/>
              <a:ext cx="143856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cost of funding to bank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9" name="AutoShape 9"/>
            <p:cNvSpPr/>
            <p:nvPr/>
          </p:nvSpPr>
          <p:spPr>
            <a:xfrm>
              <a:off x="6686280" y="32162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0" name="Text Box 10"/>
            <p:cNvSpPr/>
            <p:nvPr/>
          </p:nvSpPr>
          <p:spPr>
            <a:xfrm>
              <a:off x="7430400" y="2857320"/>
              <a:ext cx="1510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lending spread to private sector borrower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1" name="Text Box 12"/>
            <p:cNvSpPr/>
            <p:nvPr/>
          </p:nvSpPr>
          <p:spPr>
            <a:xfrm>
              <a:off x="2967480" y="3949200"/>
              <a:ext cx="131904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ncrease retained profit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2" name="AutoShape 13"/>
            <p:cNvSpPr/>
            <p:nvPr/>
          </p:nvSpPr>
          <p:spPr>
            <a:xfrm rot="19168800">
              <a:off x="2225160" y="323136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3" name="AutoShape 7"/>
            <p:cNvSpPr/>
            <p:nvPr/>
          </p:nvSpPr>
          <p:spPr>
            <a:xfrm>
              <a:off x="4383720" y="4511520"/>
              <a:ext cx="2661840" cy="215640"/>
            </a:xfrm>
            <a:prstGeom prst="rightArrow">
              <a:avLst>
                <a:gd name="adj1" fmla="val 50000"/>
                <a:gd name="adj2" fmla="val 308598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4" name="Rectangle 2"/>
            <p:cNvSpPr/>
            <p:nvPr/>
          </p:nvSpPr>
          <p:spPr>
            <a:xfrm>
              <a:off x="714600" y="5137920"/>
              <a:ext cx="8184960" cy="791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Do banks have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Which route to higher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pricing power to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    equity will be chosen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raise lending rate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5" name="AutoShape 13"/>
            <p:cNvSpPr/>
            <p:nvPr/>
          </p:nvSpPr>
          <p:spPr>
            <a:xfrm rot="19168800">
              <a:off x="2225160" y="226008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6" name="Text Box 6"/>
            <p:cNvSpPr/>
            <p:nvPr/>
          </p:nvSpPr>
          <p:spPr>
            <a:xfrm>
              <a:off x="2945160" y="1819440"/>
              <a:ext cx="1222920" cy="764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Cut RWA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4312080" y="1900080"/>
              <a:ext cx="4604400" cy="215640"/>
            </a:xfrm>
            <a:prstGeom prst="rightArrow">
              <a:avLst>
                <a:gd name="adj1" fmla="val 50000"/>
                <a:gd name="adj2" fmla="val 533806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68" name="Picture 2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403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11E7-31ED-4427-A59B-E5EE3D5FFDE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500040" y="1643040"/>
            <a:ext cx="8501040" cy="4714560"/>
            <a:chOff x="500040" y="1643040"/>
            <a:chExt cx="8501040" cy="4714560"/>
          </a:xfrm>
        </p:grpSpPr>
        <p:sp>
          <p:nvSpPr>
            <p:cNvPr id="173" name="Text Box 4"/>
            <p:cNvSpPr/>
            <p:nvPr/>
          </p:nvSpPr>
          <p:spPr>
            <a:xfrm>
              <a:off x="793080" y="4472280"/>
              <a:ext cx="2491560" cy="10087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vailability of credit from non-bank sources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4" name="AutoShape 5"/>
            <p:cNvSpPr/>
            <p:nvPr/>
          </p:nvSpPr>
          <p:spPr>
            <a:xfrm rot="19807200">
              <a:off x="3358080" y="454356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4000320" y="3071880"/>
              <a:ext cx="1407600" cy="16185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ggregate whole economy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6" name="AutoShape 9"/>
            <p:cNvSpPr/>
            <p:nvPr/>
          </p:nvSpPr>
          <p:spPr>
            <a:xfrm>
              <a:off x="5410080" y="375804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7" name="Text Box 10"/>
            <p:cNvSpPr/>
            <p:nvPr/>
          </p:nvSpPr>
          <p:spPr>
            <a:xfrm>
              <a:off x="5996520" y="2900520"/>
              <a:ext cx="1392120" cy="19234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Nominal GDP driven by aggregate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8" name="Line 11"/>
            <p:cNvSpPr/>
            <p:nvPr/>
          </p:nvSpPr>
          <p:spPr>
            <a:xfrm>
              <a:off x="719640" y="1643040"/>
              <a:ext cx="7841520" cy="0"/>
            </a:xfrm>
            <a:prstGeom prst="line">
              <a:avLst/>
            </a:prstGeom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9" name="AutoShape 13"/>
            <p:cNvSpPr/>
            <p:nvPr/>
          </p:nvSpPr>
          <p:spPr>
            <a:xfrm rot="2058000">
              <a:off x="3431160" y="28288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grpSp>
          <p:nvGrpSpPr>
            <p:cNvPr id="180" name="Group 29"/>
            <p:cNvGrpSpPr/>
            <p:nvPr/>
          </p:nvGrpSpPr>
          <p:grpSpPr>
            <a:xfrm>
              <a:off x="795960" y="1643040"/>
              <a:ext cx="2781360" cy="2451960"/>
              <a:chOff x="795960" y="1643040"/>
              <a:chExt cx="2781360" cy="2451960"/>
            </a:xfrm>
          </p:grpSpPr>
          <p:sp>
            <p:nvSpPr>
              <p:cNvPr id="181" name="Line 15"/>
              <p:cNvSpPr/>
              <p:nvPr/>
            </p:nvSpPr>
            <p:spPr>
              <a:xfrm>
                <a:off x="795960" y="1829160"/>
                <a:ext cx="0" cy="192852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2" name="Line 16"/>
              <p:cNvSpPr/>
              <p:nvPr/>
            </p:nvSpPr>
            <p:spPr>
              <a:xfrm>
                <a:off x="795960" y="3757680"/>
                <a:ext cx="2418480" cy="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3" name="Line 17"/>
              <p:cNvSpPr/>
              <p:nvPr/>
            </p:nvSpPr>
            <p:spPr>
              <a:xfrm>
                <a:off x="1088640" y="2043360"/>
                <a:ext cx="1832040" cy="1356840"/>
              </a:xfrm>
              <a:prstGeom prst="line">
                <a:avLst/>
              </a:prstGeom>
              <a:ln w="19080">
                <a:solidFill>
                  <a:srgbClr val="f6801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4" name="Line 18"/>
              <p:cNvSpPr/>
              <p:nvPr/>
            </p:nvSpPr>
            <p:spPr>
              <a:xfrm flipV="1">
                <a:off x="1497960" y="229176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5" name="Line 19"/>
              <p:cNvSpPr/>
              <p:nvPr/>
            </p:nvSpPr>
            <p:spPr>
              <a:xfrm flipV="1">
                <a:off x="917640" y="184104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6" name="Text Box 20"/>
              <p:cNvSpPr/>
              <p:nvPr/>
            </p:nvSpPr>
            <p:spPr>
              <a:xfrm>
                <a:off x="2994480" y="3266280"/>
                <a:ext cx="366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7" name="Text Box 21"/>
              <p:cNvSpPr/>
              <p:nvPr/>
            </p:nvSpPr>
            <p:spPr>
              <a:xfrm>
                <a:off x="3137760" y="207756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8" name="Text Box 22"/>
              <p:cNvSpPr/>
              <p:nvPr/>
            </p:nvSpPr>
            <p:spPr>
              <a:xfrm>
                <a:off x="2531880" y="164304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9" name="Text Box 23"/>
              <p:cNvSpPr/>
              <p:nvPr/>
            </p:nvSpPr>
            <p:spPr>
              <a:xfrm>
                <a:off x="21880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0" name="Line 24"/>
              <p:cNvSpPr/>
              <p:nvPr/>
            </p:nvSpPr>
            <p:spPr>
              <a:xfrm>
                <a:off x="2322360" y="2986560"/>
                <a:ext cx="0" cy="77076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1" name="Line 25"/>
              <p:cNvSpPr/>
              <p:nvPr/>
            </p:nvSpPr>
            <p:spPr>
              <a:xfrm>
                <a:off x="1724040" y="2528280"/>
                <a:ext cx="0" cy="122904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2" name="Text Box 26"/>
              <p:cNvSpPr/>
              <p:nvPr/>
            </p:nvSpPr>
            <p:spPr>
              <a:xfrm>
                <a:off x="14554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3" name="Line 27"/>
              <p:cNvSpPr/>
              <p:nvPr/>
            </p:nvSpPr>
            <p:spPr>
              <a:xfrm flipH="1">
                <a:off x="1841400" y="3927240"/>
                <a:ext cx="346320" cy="0"/>
              </a:xfrm>
              <a:prstGeom prst="line">
                <a:avLst/>
              </a:prstGeom>
              <a:ln w="9360">
                <a:solidFill>
                  <a:srgbClr val="005cad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</p:grpSp>
        <p:sp>
          <p:nvSpPr>
            <p:cNvPr id="194" name="Text Box 10"/>
            <p:cNvSpPr/>
            <p:nvPr/>
          </p:nvSpPr>
          <p:spPr>
            <a:xfrm>
              <a:off x="8121960" y="3472200"/>
              <a:ext cx="879120" cy="7038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Real GDP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5" name="AutoShape 9"/>
            <p:cNvSpPr/>
            <p:nvPr/>
          </p:nvSpPr>
          <p:spPr>
            <a:xfrm>
              <a:off x="7462080" y="37666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6" name="Rectangle 2"/>
            <p:cNvSpPr/>
            <p:nvPr/>
          </p:nvSpPr>
          <p:spPr>
            <a:xfrm>
              <a:off x="500040" y="5572080"/>
              <a:ext cx="8337960" cy="7855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How much can non-banks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substitute for bank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97" name="Picture 4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Preliminary results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IIF approach</a:t>
            </a:r>
            <a:br>
              <a:rPr sz="3400"/>
            </a:b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00040" y="1643040"/>
            <a:ext cx="807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 the regulatory change scenario, the real GDP is projected to b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2.5% lower in the US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1.9% lower in Japan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4% lower in the Euro Area – the largest banking system -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s of these 3 economies will need to raise $0.8 trillion of common equity and issue $3.7 trillion of long-term debt in 2010-2015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banks lending spread to the private sector in the Euro Area would increase as much as 180 bp at the peak (2013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B8C0-8C25-4A01-BB56-84F00386E5F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Real bank lending rat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ore equity shadow price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989000" y="1643040"/>
            <a:ext cx="4789800" cy="2428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1984320" y="4214880"/>
            <a:ext cx="4802400" cy="2500200"/>
          </a:xfrm>
          <a:prstGeom prst="rect">
            <a:avLst/>
          </a:prstGeom>
          <a:ln w="0">
            <a:noFill/>
          </a:ln>
        </p:spPr>
      </p:pic>
      <p:sp>
        <p:nvSpPr>
          <p:cNvPr id="2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9A23-0ED7-40D0-B75D-014B0A8A8F0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 credit growth to private sector (top)</a:t>
            </a:r>
            <a:br>
              <a:rPr sz="2600"/>
            </a:b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s’ return on equity (bottom)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6576-7713-40EB-89B9-6D0AE04E6B9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2143080" y="1714680"/>
            <a:ext cx="4659480" cy="2417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2143080" y="4286160"/>
            <a:ext cx="46436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GDP cumulativ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mployment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0E85-82DD-4933-9DC6-3C161C1CA84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2071800" y="1714680"/>
            <a:ext cx="4811760" cy="2447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2071800" y="4272120"/>
            <a:ext cx="482760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anks for your atten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oubts, comments, opinions would be welcome 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g.gasos@ebf-fbe.eu</a:t>
            </a: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8DE9-2BD2-45D3-B01B-76946B9083C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20" name="Picture 5" descr="Logo IIF.JPG"/>
          <p:cNvPicPr/>
          <p:nvPr/>
        </p:nvPicPr>
        <p:blipFill>
          <a:blip r:embed="rId4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40A3-E574-4639-A59B-CC455C87C89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welcomes the willingness to strengthen the resilience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Firstly, need for improved supervis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wness and complexity of proposals require further analysis and a second consult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ay heed to the interplays between different measur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Assessment of the overall impac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0165-C492-4C17-86CF-224F97A5CDE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00040" y="193212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INCIPL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ation of banks’ lending capacity in the EU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sistency in regulations (single rulebook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national level playing fiel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anking sector competitive edge notably the ability to raise new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E2A7-5CAB-457D-BC54-632858EB08B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00040" y="191628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ransition perio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Grandfathering arrang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Minority interes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Deferred tax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ension fund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B85C-FF54-4ED1-8ADA-50585D67F9F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39640" y="1628640"/>
            <a:ext cx="8229600" cy="49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overlapping el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mote the use of central clering counterparties without penalizing OTC derivativ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e the right incentives to risk manage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he appropriateness of Pillar 2: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everage ratio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apital buffer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63A1-821D-4F75-8B22-4D4509C50FF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00040" y="209376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supports the provisioning based on expected los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 not the downturn probability of default in pillar 1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Restrictions to dividend pay-ou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xcessive credit growth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6B13-62F1-47A7-84DB-A372CEE9293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iquidity ratio accepted but need to review the detai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t stable funding ratio would distort maturity transform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re-thinking the NSFR propos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plays: the combination of liquidity ratios, capital buffers and stringent definition of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3142800"/>
            <a:ext cx="77724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ing the Cumulative Impact of Proposed Regulatory Changes 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Banking sector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5672-881A-4C79-95A1-9678C36A550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627200" y="1643040"/>
            <a:ext cx="59450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13:41Z</dcterms:created>
  <dc:creator>Gonzalo Gasos</dc:creator>
  <dc:description/>
  <dc:language>en-US</dc:language>
  <cp:lastModifiedBy>Viktorija Proskurovska</cp:lastModifiedBy>
  <dcterms:modified xsi:type="dcterms:W3CDTF">2010-06-01T07:14:05Z</dcterms:modified>
  <cp:revision>421</cp:revision>
  <dc:subject/>
  <dc:title>ICAAP Seminar Rome, 20-22 October 2009</dc:title>
</cp:coreProperties>
</file>