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1C07-65D6-49F5-90D3-0FC19697B3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BB23-FF83-4B03-A891-06CE4035F70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6C8E-3BE0-460B-A082-3C5D37D3D52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AB3B-7395-486B-BC88-3438310EBA9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C033-6C85-4ECA-807C-7BC12357B70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4EC0-5457-4A47-AFF0-5E116B481E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1778-9D36-417D-A76C-6858EABB2A8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BD99-5F75-4F12-80C0-E5BFBC4634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227B-9124-42E7-839D-31CDA81246C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F4BF-6903-4C62-B7CD-0621F211B2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704B-A379-4ECB-88C3-5E740326F1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7AAC-07B9-4D1B-949A-2EE0C7B8E85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DB52-54C7-4FA3-9A50-FF36E0E4A41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3A7E-6557-45DE-8698-1F82405B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8193-44E6-4718-8586-5A42E52D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667B-9CED-4D5F-A94A-747962A0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09BC-B92B-4091-865C-ECC98CCE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77BD-8F51-48C0-9528-3761575D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69C6-87F8-45E9-ACF4-22D7368B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E21E-37E4-4184-9B46-497E5412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5F23-0E73-4D22-9FBE-82702DF1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490B-EA30-4347-A4C7-532EC777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7CEA-4213-42D9-8C6E-9C74BBED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3FB3-BE82-4A36-B9D9-49C64C8A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54F7-F554-4857-A2C6-9EBBAD62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4E84-A6FF-4045-9E8D-884283381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BA- EBF Confer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-regional Banking Cooperation: Solid Financial Future</a:t>
            </a:r>
            <a:br>
              <a:rPr sz="3200"/>
            </a:br>
            <a:br>
              <a:rPr sz="2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levance of the Experience of Financial Integration in Europe to the Eurasian Markets”</a:t>
            </a:r>
            <a:br>
              <a:rPr sz="3200"/>
            </a:br>
            <a:br>
              <a:rPr sz="18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uido Ravoet, EBF Secretary General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ursday, 27 May 2010 - Baku, Azerbaij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508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508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508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4200" y="2571840"/>
              <a:ext cx="131508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9200" y="2571840"/>
              <a:ext cx="131508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280" y="2571840"/>
              <a:ext cx="131508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8920" y="2571840"/>
              <a:ext cx="131508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levance of EU experience for Eura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Put sufficient effort into prepara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joint commit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Ensure continuous participation &amp; involve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ke into account all regions’ differ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onitor integration of various market’ seg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political stability and sound monetary and fiscal poli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Per aspera ad a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path might be challenging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benefits are worth the effor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0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16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r attention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1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18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2" name="Rectangle 39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40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Rectangle 41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tangle 42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Rectangle 43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44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45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97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EBF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98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18" descr="Carte Europe.jpg"/>
          <p:cNvPicPr/>
          <p:nvPr/>
        </p:nvPicPr>
        <p:blipFill>
          <a:blip r:embed="rId2"/>
          <a:stretch/>
        </p:blipFill>
        <p:spPr>
          <a:xfrm>
            <a:off x="1214280" y="1285920"/>
            <a:ext cx="5126040" cy="5559480"/>
          </a:xfrm>
          <a:prstGeom prst="rect">
            <a:avLst/>
          </a:prstGeom>
          <a:ln w="0">
            <a:noFill/>
          </a:ln>
        </p:spPr>
      </p:pic>
      <p:sp>
        <p:nvSpPr>
          <p:cNvPr id="66" name="Text Placeholder 3"/>
          <p:cNvSpPr/>
          <p:nvPr/>
        </p:nvSpPr>
        <p:spPr>
          <a:xfrm>
            <a:off x="6357960" y="1428840"/>
            <a:ext cx="2571840" cy="52862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BE" sz="1800" spc="-1" strike="noStrike">
                <a:solidFill>
                  <a:srgbClr val="1f497d"/>
                </a:solidFill>
                <a:latin typeface="Calibri"/>
              </a:rPr>
              <a:t>31 national member associa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27 EU Member St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4 EFTA count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13 Associ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unded Rectangle 787"/>
          <p:cNvSpPr/>
          <p:nvPr/>
        </p:nvSpPr>
        <p:spPr>
          <a:xfrm>
            <a:off x="6429240" y="318132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788"/>
          <p:cNvSpPr/>
          <p:nvPr/>
        </p:nvSpPr>
        <p:spPr>
          <a:xfrm>
            <a:off x="6429240" y="407196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789"/>
          <p:cNvSpPr/>
          <p:nvPr/>
        </p:nvSpPr>
        <p:spPr>
          <a:xfrm>
            <a:off x="6429240" y="496728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819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820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821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822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823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824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825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826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Definition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market for a given set of financial instruments and/or services is fully integrated if all potential market participants with the same relevant characteristic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face a single set of rules when they decide to deal with those financial instruments and/or servic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ave equal access to the above-mentioned set of financial instruments and/or services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re treated equally when they are active in the mark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enefits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opportunities for risk sharing and risk diversific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etter allocation of capital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mproved liquidity of markets and strengthened resilience to shock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ooth operation of payment system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nhanced information and competitiveness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Potential for higher grow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onditions for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o benefit from financial integration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inter alia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wo core conditions must be me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mpletion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all segments of financial integration in the region,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stability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this financially integrated reg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eps towards EU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60s – removal of restrictions on freedom of establishment and freedom of provision of servi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87 – Single European Act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0 – Economic Monetary Union (freedom of the movement of capital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9 – Financial Services Action Plan and introduction of the eur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2005 – White Paper of Financial Services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igns of increasing integration i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transaction volum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diversified reserve currency system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ond market integr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quities market integration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sector integr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ability and financial super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integration and development can increase the efficiency of a financial system, if it is accompanied by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dequate legal and regulatory framework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rporate governance, market infrastructur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supervision should assess, in real tim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the build-up of within-market ris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cross-market contagion,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linkages between large and complex financial institu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6-01T08:16:21Z</dcterms:modified>
  <cp:revision>115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