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D44F-9652-44EF-A308-24A3A083A8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C031-28A9-4033-9FCA-A868C19A8D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6D97-A5BB-44F9-A370-01FED50655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820E-AB54-438E-AB99-B53D5D2D5E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72D2-6F59-4F44-80DF-70DBEEC9AC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B392-33D4-4E55-A8FC-1E0BA9326D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8529-2B9D-4646-B88E-E9F52A93DC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F3AC-7DB1-48E4-ABDE-ADC9586A02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1812-F645-4333-AF31-C876556804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9D29-F6C2-474E-B907-9A13FBA8DF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3BE4-82C2-4E18-A050-E4F2FD4C83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6E63-6300-4F4C-85A6-0420751472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C4B-E364-4C9F-A2B4-0ED13405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774C-167C-448B-8C52-7A4B1DBB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BBD-1D01-48CD-AABB-7DA8AA22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AEE-D24D-4ADF-8A09-A2FE4096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62B7-A32F-4519-9304-378CFDF5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21C-46B0-4E50-9DFC-0787E225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4A1-B2B6-4FB9-A64B-C9199886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041A-9A59-488B-8A62-A06B4AD8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F05C-50CA-46A0-88AB-01CE891F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2B04-E3FC-48B2-ACBE-404E4018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610-619F-4716-83E6-F6DED3A0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E527-997C-4B69-85C9-26749256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2FFD-B943-45C3-B334-66EC70269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5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500076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Guido RAVOET, EBF Secretar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30th EBF Associates’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Baku, Azerbaijan - 28 May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Financial Modernisation Project in the EBF Associate countries and their alignment with the EU </a:t>
            </a:r>
            <a:r>
              <a:rPr b="1" i="1" lang="en-GB" sz="3600" spc="-1" strike="noStrike">
                <a:solidFill>
                  <a:srgbClr val="1f497d"/>
                </a:solidFill>
                <a:latin typeface="Calibri"/>
              </a:rPr>
              <a:t>Acq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ssociates’ participation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"/>
          <p:cNvSpPr/>
          <p:nvPr/>
        </p:nvSpPr>
        <p:spPr>
          <a:xfrm>
            <a:off x="214200" y="1571760"/>
            <a:ext cx="8572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evelop a national agenda of implementation on the EU financial services </a:t>
            </a:r>
            <a:r>
              <a:rPr b="0" i="1" lang="en-GB" sz="2000" spc="-1" strike="noStrike">
                <a:solidFill>
                  <a:srgbClr val="1f497d"/>
                </a:solidFill>
                <a:latin typeface="Calibri"/>
              </a:rPr>
              <a:t>acquis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, based on cooperation between your NA and respective auth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rrelate your agendas with those of other NBAs of the reg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ssess the extent of your participation in the pro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cquire full backing of your respective Boa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Follow the procedure for the EU Grant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tribute necessary documentation for the specific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required co-fund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continuous commitment to the project (max duration 24 mont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ply with the EU rules applicable to the co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8581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Question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xpressions of inter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7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8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2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142920" y="1928880"/>
            <a:ext cx="8858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igh demand for EU co-fund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ocal points of the EU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Quality of particip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inimum threshold number of Project Partn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trict co-funding requir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EBF commit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Your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EU funds are in high de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7"/>
          <p:cNvSpPr/>
          <p:nvPr/>
        </p:nvSpPr>
        <p:spPr>
          <a:xfrm>
            <a:off x="142920" y="1932120"/>
            <a:ext cx="8858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rox. 200 project applicants from all sectors in 20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ward will be granted to a max of 15 proj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ound 150 applications would not pass the Concept Note stag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importance of a top quality, easily readable and highly relevant project proposal cannot be under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Focal points of the EU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142920" y="187020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participation of national banking associations (NBAs) in decision-making, policy implementation and monito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cooperation between NBAs inter se on the one    hand and NBAs and public authorities on the oth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understanding among employers and employees of the relevant EU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its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Quality of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42920" y="1857240"/>
            <a:ext cx="8858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gional cooper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Project Partners’ agendas must be  correlated, geared towards jointly meeting the Project’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rength of the public dialogu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NBAs must develop their  national agendas for action ahead of the project, to tackle jointly with their respectiv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should be at the core of the Project’s work progra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umber of Projec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142920" y="192888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order to ensure minimum regional co-oper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 least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ree NBAs from the Western Balkans and Turkey must be Project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BAs from neighbouring regions (e.g., Armenia, Azerbaijan, Moldova, Ukraine, etc.) can participate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rict co-fun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"/>
          <p:cNvSpPr/>
          <p:nvPr/>
        </p:nvSpPr>
        <p:spPr>
          <a:xfrm>
            <a:off x="142920" y="195732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ach of the Project Consortium Partners should be able to ensure the required co-funding, subject to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sts of staff assigned to the action may be considered as co-financing in the budget of the action when paid by the Beneficiary or its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he EBF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142920" y="2055960"/>
            <a:ext cx="8786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Given sufficient interest from the Associates, the EBF stands ready to apply for and run the Project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gage the necessary staff to administer and coordinate th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its part of co-fun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the necessary reporting to the European Com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Maintain relations with DG Enlar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BI &amp; BdB maintain their interest supporting thi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5-20T15:43:03Z</dcterms:modified>
  <cp:revision>117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