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6.jpeg" ContentType="image/jpe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6DE7C-0612-4EBE-B15E-8F19347AC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351D0-AE83-493D-94BF-E90BB8F6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543C6-3962-48AE-9414-D81EF2AA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9D21D-D755-4877-828E-7A9ABB1B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5C4FE-6C91-4434-9A34-FDAB993F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D0038-8578-4307-9717-466BCFC7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A992F-01C5-4BE8-80C5-644DDAD0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916CC-D30F-472D-BEBC-AAFDB346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52411-BB96-456D-8C1E-C72ECE60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7115D-CB8E-41E6-A092-F1605CDF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0EDC0-1FB0-48B0-89FE-2ADD5B83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C833F-632D-4F1E-A7FF-E12AF87D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E41C2-E277-45B9-A1B3-D57C27D52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32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0F6924-D7C2-4320-889A-98BAFA5D2F42}" type="slidenum">
              <a:rPr b="0" lang="en-US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6160" y="635796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61280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35880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601956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125280" y="635796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5E488FF-80B3-4A13-A001-5485510C560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160360" y="5056200"/>
            <a:ext cx="61894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67320" bIns="46080" anchor="t">
            <a:noAutofit/>
          </a:bodyPr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Item III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Zoran Bohače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8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 V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01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82720" y="1341360"/>
            <a:ext cx="7378560" cy="1538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-324360" y="323964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972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Croatia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7160" y="610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CBA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0000" y="1955880"/>
            <a:ext cx="8209080" cy="41637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 fontScale="99000"/>
          </a:bodyPr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tremely active role (continu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tensive media coverage (reduc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st questions to banks ended up with us - coordinating respon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BA “vademecum” since February 2009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ublished analyses, outlook, viewpoin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 far, maintained positive ro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 addition, coordination of CRD, PSD, CCD transposition and many more...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BA in Media (from January 1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8680" y="1436760"/>
            <a:ext cx="82087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3344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wspapers 131 - “value” close to €240K (2009-534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V 21 presences - “value” above €500K (2009-132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dio 22, additional web porta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dia classification – 98% “neutral”, 2% “positive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28680" y="198576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Seems we survived the first wave......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Good luck and thank you!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2120" y="3794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Real GDP growth rat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844640"/>
            <a:ext cx="39592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1844640"/>
            <a:ext cx="39592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16360" y="515772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verage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nnual growth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rate, 199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9 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200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ources: Eurostat, CNB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, national statistical offi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5157720"/>
            <a:ext cx="39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data until 2006 are harmonised with final annual calculation of the GD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2611440"/>
            <a:ext cx="4038480" cy="2506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648320" y="2610000"/>
            <a:ext cx="4038480" cy="2509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987480"/>
            <a:ext cx="3780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Banks' loan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72880" y="5219640"/>
            <a:ext cx="206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87280" y="2422440"/>
            <a:ext cx="4175280" cy="2584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859280" y="2411280"/>
            <a:ext cx="3959280" cy="2605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040360" y="988920"/>
            <a:ext cx="3862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Average lending interest ra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98920" y="540072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0000" y="1068120"/>
            <a:ext cx="3598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urrent account deficit and FDI inflows in Croatia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93760" y="2987640"/>
            <a:ext cx="4043160" cy="2519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680000" y="3005280"/>
            <a:ext cx="3924360" cy="2485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632480" y="1438200"/>
            <a:ext cx="4187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External debt by debt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82920" y="5400720"/>
            <a:ext cx="21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0360" y="590040"/>
            <a:ext cx="38275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Total assets of all bank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60360" y="2340000"/>
            <a:ext cx="4016520" cy="2519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788000" y="2340000"/>
            <a:ext cx="3992400" cy="25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680000" y="1035000"/>
            <a:ext cx="4367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apital adequacy of bank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5075280"/>
            <a:ext cx="4103640" cy="3070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egulatory capital</a:t>
            </a:r>
            <a:r>
              <a:rPr b="0" lang="hr-HR" sz="14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total exposure to risk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19640" y="547848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9880" y="723960"/>
            <a:ext cx="3078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RO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A and RO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E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0120" y="2421000"/>
            <a:ext cx="4168800" cy="2584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726080" y="2441520"/>
            <a:ext cx="4093920" cy="2543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319640" y="1106640"/>
            <a:ext cx="47275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assification of placements</a:t>
            </a:r>
            <a:r>
              <a:rPr b="0" lang="hr-HR" sz="32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d contingent liabil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64000" y="540072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monetary authorities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8680" y="1796760"/>
            <a:ext cx="820872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nd 2008 – relaxed some constraints to increase liquidity –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targeted to public sector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arly 2009 – increased regulatory burden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Controlled exchange rate and liquidity on open market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Declared that exchange rate stability is priority, opening pressures on interest rat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arly 2010 – further relaxation of reserve requirement – targeted to increase credit availability through government plan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aintained stable exchange rate and low inflation in spite of the pressur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Continuously called on structural reforms and fiscal response to monetary mov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government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0000" y="1800000"/>
            <a:ext cx="82090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alls on government since October 2008 to make decisive mov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cognized recession 6 months la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nounced 10 “Anti-Recession Measures”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balanced the budget 3 times – from March to July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troduced “crisis tax” and increased VAT by 1%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untry rating slightly decrease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sued 750 mill € bonds in May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sued 1,5 bill $ bonds in October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nd 2009 – announced several models to increase lending/decrease interest rat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pril 2010 – announced a complete, hopefully more concrete plan to make necessary reforms and fiscal adjustmen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549360"/>
            <a:ext cx="86374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banks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2087640"/>
            <a:ext cx="8208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Unlike some other countries – banks helped bail out the government – 2,8 bln €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o squeezing out of private sec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intained reasonable credit activit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yndicated loan to government – 750 mill €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aised interest rat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price (due to risk) on international marke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competition on domestic marke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uccessfully avoided financial crisis, but risks lie in real sec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1:39:33Z</dcterms:created>
  <dc:creator>Zoran Bohaček</dc:creator>
  <dc:description/>
  <dc:language>en-US</dc:language>
  <cp:lastModifiedBy>Zoran Bohacek</cp:lastModifiedBy>
  <cp:lastPrinted>2009-06-16T13:41:08Z</cp:lastPrinted>
  <dcterms:modified xsi:type="dcterms:W3CDTF">2010-05-26T10:22:12Z</dcterms:modified>
  <cp:revision>75</cp:revision>
  <dc:subject/>
  <dc:title>KREDITNI REGISTAR KAO INSTITUCIJA RAZVIJENOG FINANCIJSKOG TRŽIŠ</dc:title>
</cp:coreProperties>
</file>