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3ABB0-E812-46BD-9596-86BC3D5C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BF66C-B839-426B-9D3E-5C591ABB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BBD5C-AA02-4676-8097-300A41A7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91F64-D27F-4083-9935-1BC95E42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E471-497D-48D1-8902-9BB058A5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CCFD-475D-45BC-8AA8-A36D548C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B114-D306-43BB-AD9F-090C8EBE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2C0E-E830-49B9-92A2-8DCEBDCB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71A1-44E6-4E81-9871-CA0B9786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7E41-0511-4D00-8F40-F1658D82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C2A7-E008-4612-817B-91A97C95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4ABE3-8BC2-4469-81D8-9E906D69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379A-98E7-4FF7-99D9-E15E49CA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1F9E-E779-43D2-A8E6-F92287FF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481A-9990-4648-9DF3-CCEB6635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7F02-AD9D-4FD4-991F-E852D3A3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D09F-1E8E-44E0-9DA5-14A6FAC0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D8295-EE14-4E59-A9FB-9912DEA5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D1C48-376D-4BC1-9421-55B74E42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DBA99-AB22-485C-8ED4-24CDBA55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40598-29CA-4D25-9F9A-C3FAC9B8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729F7-5C9F-49EF-ADB4-7EFCF519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2FD08-3954-46F6-AFA0-46D6753F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CA2CE-AE85-43AF-9077-BFB28639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4201-DFCD-44CC-A3B2-665776F3BB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36F2-4943-47A3-85D5-DFD9E17C02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nancial integration in post-soviet spac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a Abalki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aku, 2010, 27 m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border inve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30 CIS banks which have operating subsidiaries in the reg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banks they control increased to 6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8 banks’ cross-border investments in the authorized capital of CIS credit institutions reached $4bln (total assets of controlled banks stood at $26,8bl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1947960"/>
            <a:ext cx="403236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4356000"/>
            <a:ext cx="4032360" cy="2025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3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9080" y="3789000"/>
            <a:ext cx="27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st country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9080" y="162792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me country bank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ule of single pr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st volumes of capital movement among post-Soviet countries are the reason for the high differentiation in monetary parameters, (Vernikov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1989000"/>
          <a:ext cx="3855960" cy="21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385596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643280" y="2104920"/>
            <a:ext cx="403884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harmonized price for credit resources acts as a precondition of the integrated banking market, greater banking cooperation does not lead to such harmo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of the modern financial crisis indicates that the scale of banking integration incre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inancial crisis also promoted inter-governmental discussions on common mechanisms to stabilize econo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measures are not sufficient to stabilize regional economies during financial breakdow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ening credit markets, decreasing export revenues and economic recession   necessitate the reduction of the CIS countries dependence on international financial markets and the development of regional capital and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asian bon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certain obstacles to its achievement, for instance, the absence of sovereign ratings for some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markets can be developed through the redistribution mechanism of multilateral development banks (raising funds through bonds and transforming them into loan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center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 investment position of selected CIS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9640" y="1989000"/>
          <a:ext cx="8209080" cy="42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89000"/>
                    <a:ext cx="82090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837440" y="234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monetary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st usage of local cur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ectiveness of usage of foreign currencies during crisis times because fluctuations of exchange rates of local currencies are less against each other than against US dollar or eur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shina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hange rate of Kazakh tenge vs Russian ruble fell by 1% from 2008, August till 2009,August. At the same time the exchange rate of dollar rose by 26% and euro by 23% against ten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same period the exchange rate of Russian ruble against Ukrainian hryvna rose by 25%, thus dollar rose against hryvna by 65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alization of their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development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in financial markets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y still remain highly vulnerab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mited role of banking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e on global financial marke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spite considerable improvement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S regi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banking systems, regional banking markets are quite poor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egrated and differ widely in terms of the structure and size of the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al intermediation: regional compari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ets/GDP,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2130480"/>
            <a:ext cx="7417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ts of the CIS banking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484280"/>
          <a:ext cx="8353440" cy="49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35344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321640" y="1720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of financial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sis hit financial markets of the CIS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 – stabilization of their financial markets and development of regional capital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dels of financi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financi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single financial 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of singl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al of restrictions on mark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Asian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development of financial market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national legisl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nd bilateral and multilateral agreements between them do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stablish preferential banking regulations for owners of ba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ho originate 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favoured nation treatment (MFN) is now granted to bank founders from the CIS countries, as it is to other non-resident shareholders, but MFN allows to apply restrictions for foreign financial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asian economic community initiative to built common financial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king cooperation of the 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soviet space is one of few regions where credit institutions from CIS have favorable perspectives to develop banking 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vel of development of banking systems of CIS countries doesn’t allow their banks to compete with commercial banks originated from developed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soviet space corresponds to the possibilities of CIS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cooperation is often indicates the level of economic interaction between home and host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asymmetric participation of CIS banks speaks for fragmentariness of bilateral economic cooperation in the region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on post-soviet space: regional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expansion of the CIS banks is asymmetr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banks (mainly Russian) became the key players in mergers and acquisitions in post-soviet space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nstitutions from post-soviet space increase their role in banking systems of neighboring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banks have emerged whose development strategies involve expansion into post-Soviet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national banks of the CIS reg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392720"/>
        </p:xfrm>
        <a:graphic>
          <a:graphicData uri="http://schemas.openxmlformats.org/drawingml/2006/table">
            <a:tbl>
              <a:tblPr/>
              <a:tblGrid>
                <a:gridCol w="1811160"/>
                <a:gridCol w="1295640"/>
                <a:gridCol w="1871640"/>
                <a:gridCol w="1728720"/>
                <a:gridCol w="1522440"/>
              </a:tblGrid>
              <a:tr h="80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e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ssets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apital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subsidi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T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8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0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neshecon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8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8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commerz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er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 of Mosc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pr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7:44:08Z</dcterms:created>
  <dc:creator>Samsung_Q310</dc:creator>
  <dc:description/>
  <dc:language>en-US</dc:language>
  <cp:lastModifiedBy>Samsung_Q310</cp:lastModifiedBy>
  <dcterms:modified xsi:type="dcterms:W3CDTF">2010-05-27T07:52:45Z</dcterms:modified>
  <cp:revision>31</cp:revision>
  <dc:subject/>
  <dc:title>Financial integration in post soviet space</dc:title>
</cp:coreProperties>
</file>