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47817-63E3-43D1-84AB-A6AC25657A7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BE2D6-8E28-44DE-95D8-88ED37E027C3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D0C1B-C5D0-4112-AA73-AFC7008EEC68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B755-F757-4BEE-9A2B-E6D81F2B2C5E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B4D22-EDB8-4912-B82E-76F2C51BAB16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5F2DD-AF74-47EF-8AD3-249C34AAD394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D8A3B-C7BE-458B-8BDA-540E23D17882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B8808-C5FF-4D76-9A45-DA01A10E3F75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24831-58F7-46C0-9D93-86568F647E75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402D9-0A8F-43C9-A321-53DBF59E75AD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CB049-B10A-44F4-BE0D-EBC9CC5B185C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E0572-4AA0-4712-A729-1EC94C192032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CC768-E679-45A8-B846-FB6DF640ECBF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42E44-3642-4A24-A365-FF85617ED09B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91E09-E7D0-4C8A-A7AA-5739E8BE4D0A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D7543-1B7B-484F-B2DC-0601C5D1C12B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7AB9B-F9C7-4BA9-83FB-4CA760029459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5FE92-6D8E-40AA-9FA4-6E71B3ED6A51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98608-1937-46B6-ADDF-B6B503F5407F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031E0-07D1-4631-B03E-ECEA950F9A22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C272-7392-4090-88AE-06562164A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1A4D-E190-4766-8C52-C2744C876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5188-6CEB-4076-95F2-C064C8C84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FB13-125B-4D5A-9CCE-9072227D0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5665A-59E5-4A61-B7BB-7836AE8D8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12D5B-DFB4-4FA8-84BB-2B3FB6D06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53C59-4CE6-4107-BC60-38E223D20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1A4CE-3393-4BFE-98B9-DDABBAD2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89391-020D-43F6-A0F7-E0709C326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C323C-B963-427A-8E98-77CD408B8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0895E-B0CB-4352-A44F-F0AB6EDC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3815-235C-4E53-8FEC-DEB96B9DA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6206F-A463-493D-B805-30320BFE2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D78F9-DBBB-4364-95CD-21FC04DF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79964-570B-42E4-A846-47D37B9DE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49FAA-5A15-46A9-B778-FC58B1B50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B696A-7DDB-464F-9817-945BC3D54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9270-758B-4B4E-B225-7F6DDE380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635F-185A-4208-91EA-175F64CBF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D48A-B28D-4D9E-986E-1317BF387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B3D3-9667-4510-BE2E-263557F9A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7618-9A6C-471B-8925-ECDAEF49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E13A-5D98-4107-B055-66D5CEC3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8E3F-49E3-4ED1-92FE-9F7395EB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8EC30-B393-43C1-A102-C8A0FE2E9414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8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Line 9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Picture 11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6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6" name="Picture 8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F628F-2608-4054-A38E-98F11E2DDC53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mailto:g.gasos@ebf-fbe.eu" TargetMode="External"/><Relationship Id="rId2" Type="http://schemas.openxmlformats.org/officeDocument/2006/relationships/hyperlink" Target="mailto:g.gasos@ebf-fbe.eu" TargetMode="External"/><Relationship Id="rId3" Type="http://schemas.openxmlformats.org/officeDocument/2006/relationships/hyperlink" Target="mailto:g.gasos@ebf-fbe.eu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3142800"/>
            <a:ext cx="6481800" cy="115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Summary of EBF response to the </a:t>
            </a:r>
            <a:br>
              <a:rPr sz="2800"/>
            </a:b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Basel Committee proposals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Gonzalo Gasos, EBF Adviser</a:t>
            </a:r>
            <a:br>
              <a:rPr sz="2800"/>
            </a:br>
            <a:br>
              <a:rPr sz="2800"/>
            </a:br>
            <a:r>
              <a:rPr b="0" lang="fr-FR" sz="2000" spc="-1" strike="noStrike">
                <a:solidFill>
                  <a:srgbClr val="0066cc"/>
                </a:solidFill>
                <a:latin typeface="Times New Roman"/>
              </a:rPr>
              <a:t>EBF Associates Meeting</a:t>
            </a:r>
            <a:br>
              <a:rPr sz="2000"/>
            </a:br>
            <a:r>
              <a:rPr b="0" lang="fr-FR" sz="2000" spc="-1" strike="noStrike">
                <a:solidFill>
                  <a:srgbClr val="0066cc"/>
                </a:solidFill>
                <a:latin typeface="Times New Roman"/>
              </a:rPr>
              <a:t>Baku - Azerbaijan</a:t>
            </a:r>
            <a:br>
              <a:rPr sz="2000"/>
            </a:br>
            <a:r>
              <a:rPr b="0" lang="fr-FR" sz="1600" spc="-1" strike="noStrike">
                <a:solidFill>
                  <a:srgbClr val="0066cc"/>
                </a:solidFill>
                <a:latin typeface="Times New Roman"/>
              </a:rPr>
              <a:t>28 May 2010</a:t>
            </a:r>
            <a:endParaRPr b="0" lang="en-US" sz="16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14360" y="259920"/>
            <a:ext cx="5143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Cumulative impact assessment: Real economy.</a:t>
            </a:r>
            <a:br>
              <a:rPr sz="3000"/>
            </a:b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Objectives and challenge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6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13631-EB75-419C-BE12-CCEEDF67BA15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500040" y="1571760"/>
            <a:ext cx="8229600" cy="48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vide EBF arguments with a credible analysis of the likely global macroeconomic impact of proposed regulatory change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To do so in a time frame that will allow for an input into key decisions (e.g. before mid-year 2010)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vide a framework for discussion of this topic in the broader public environment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BUT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ed regulatory changes ill-defined. Need for scenarios and simulation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onventional macro models not much help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Need for data from reliable consistent source 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129" name="Picture 5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93680" y="259920"/>
            <a:ext cx="389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Summary of intended approach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1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B50CE-2D33-4619-B7E5-727E4DD2793B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00040" y="1571760"/>
            <a:ext cx="8229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grpSp>
        <p:nvGrpSpPr>
          <p:cNvPr id="134" name="Group 13"/>
          <p:cNvGrpSpPr/>
          <p:nvPr/>
        </p:nvGrpSpPr>
        <p:grpSpPr>
          <a:xfrm>
            <a:off x="571680" y="2063880"/>
            <a:ext cx="8358120" cy="1769760"/>
            <a:chOff x="571680" y="2063880"/>
            <a:chExt cx="8358120" cy="1769760"/>
          </a:xfrm>
        </p:grpSpPr>
        <p:sp>
          <p:nvSpPr>
            <p:cNvPr id="135" name="Text Box 5"/>
            <p:cNvSpPr/>
            <p:nvPr/>
          </p:nvSpPr>
          <p:spPr>
            <a:xfrm>
              <a:off x="571680" y="2063880"/>
              <a:ext cx="1396440" cy="176976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Identify and quantify proposed change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36" name="AutoShape 7"/>
            <p:cNvSpPr/>
            <p:nvPr/>
          </p:nvSpPr>
          <p:spPr>
            <a:xfrm>
              <a:off x="2082960" y="2888280"/>
              <a:ext cx="558360" cy="239760"/>
            </a:xfrm>
            <a:prstGeom prst="rightArrow">
              <a:avLst>
                <a:gd name="adj1" fmla="val 50000"/>
                <a:gd name="adj2" fmla="val 58221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37" name="Text Box 8"/>
            <p:cNvSpPr/>
            <p:nvPr/>
          </p:nvSpPr>
          <p:spPr>
            <a:xfrm>
              <a:off x="2711520" y="2446920"/>
              <a:ext cx="1326600" cy="109944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Model of banking sector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38" name="AutoShape 9"/>
            <p:cNvSpPr/>
            <p:nvPr/>
          </p:nvSpPr>
          <p:spPr>
            <a:xfrm>
              <a:off x="4071960" y="2888280"/>
              <a:ext cx="558360" cy="239760"/>
            </a:xfrm>
            <a:prstGeom prst="rightArrow">
              <a:avLst>
                <a:gd name="adj1" fmla="val 50000"/>
                <a:gd name="adj2" fmla="val 58221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39" name="Text Box 10"/>
            <p:cNvSpPr/>
            <p:nvPr/>
          </p:nvSpPr>
          <p:spPr>
            <a:xfrm>
              <a:off x="4714920" y="2268360"/>
              <a:ext cx="1785960" cy="144864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Assumption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Scenario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Simulation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40" name="AutoShape 11"/>
            <p:cNvSpPr/>
            <p:nvPr/>
          </p:nvSpPr>
          <p:spPr>
            <a:xfrm>
              <a:off x="6572520" y="2888280"/>
              <a:ext cx="558360" cy="239760"/>
            </a:xfrm>
            <a:prstGeom prst="rightArrow">
              <a:avLst>
                <a:gd name="adj1" fmla="val 50000"/>
                <a:gd name="adj2" fmla="val 58221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41" name="Text Box 12"/>
            <p:cNvSpPr/>
            <p:nvPr/>
          </p:nvSpPr>
          <p:spPr>
            <a:xfrm>
              <a:off x="7180920" y="2268360"/>
              <a:ext cx="1748880" cy="143460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Macro impact, especially growth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</p:grpSp>
      <p:sp>
        <p:nvSpPr>
          <p:cNvPr id="142" name="Text Box 12"/>
          <p:cNvSpPr/>
          <p:nvPr/>
        </p:nvSpPr>
        <p:spPr>
          <a:xfrm>
            <a:off x="533520" y="4417920"/>
            <a:ext cx="7848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Expected end results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No magic number, but a framework (and supporting report) that will allow for discussion and debate, both with the public sector and within the private sector 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Lots of sensitivity analysis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143" name="Picture 15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374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Modelling approach in outlin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5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0D2A0-C4F7-4269-A1BE-A42EA447D670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457200" y="1828800"/>
            <a:ext cx="8229600" cy="48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The EBF is collaborating with the IIF to use a simple, spreadsheet-based model with a heavy emphasis on the banking sector. Five blocks: Euro area, U.K., U.S., Japan and Canada.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Models have four components: 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lvl="1" marL="447840" indent="-86040">
              <a:lnSpc>
                <a:spcPct val="100000"/>
              </a:lnSpc>
              <a:spcBef>
                <a:spcPts val="1125"/>
              </a:spcBef>
              <a:buClr>
                <a:srgbClr val="005cad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Banking sector balance-sheet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lvl="1" marL="447840" indent="-86040">
              <a:lnSpc>
                <a:spcPct val="100000"/>
              </a:lnSpc>
              <a:spcBef>
                <a:spcPts val="1125"/>
              </a:spcBef>
              <a:buClr>
                <a:srgbClr val="005cad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Bank capital supply function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lvl="1" marL="447840" indent="-86040">
              <a:lnSpc>
                <a:spcPct val="100000"/>
              </a:lnSpc>
              <a:spcBef>
                <a:spcPts val="1125"/>
              </a:spcBef>
              <a:buClr>
                <a:srgbClr val="005cad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Banking sector profit and loss block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lvl="1" marL="447840" indent="-86040">
              <a:lnSpc>
                <a:spcPct val="100000"/>
              </a:lnSpc>
              <a:spcBef>
                <a:spcPts val="1125"/>
              </a:spcBef>
              <a:buClr>
                <a:srgbClr val="005cad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Macroeconomic block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The models allow a fairly precise articulation and quantification of the key regulatory changes being proposed and their simultaneous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impact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Aside from providing some quantitative estimates of changes, the framework provides a helpful, historic dataset, upon which to base discussion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5072040" y="2786040"/>
            <a:ext cx="39290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And three key behavioral links: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5cad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Cost of bank capital/new issuance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5cad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Private credit demand/lending rate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5cad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Nominal GDP/credit supply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149" name="Picture 7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410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How does the model work?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1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06DC1-42E2-4F18-B760-FC7064C2430A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grpSp>
        <p:nvGrpSpPr>
          <p:cNvPr id="153" name="Group 20"/>
          <p:cNvGrpSpPr/>
          <p:nvPr/>
        </p:nvGrpSpPr>
        <p:grpSpPr>
          <a:xfrm>
            <a:off x="642960" y="1819440"/>
            <a:ext cx="8298000" cy="4109760"/>
            <a:chOff x="642960" y="1819440"/>
            <a:chExt cx="8298000" cy="4109760"/>
          </a:xfrm>
        </p:grpSpPr>
        <p:sp>
          <p:nvSpPr>
            <p:cNvPr id="154" name="Text Box 4"/>
            <p:cNvSpPr/>
            <p:nvPr/>
          </p:nvSpPr>
          <p:spPr>
            <a:xfrm>
              <a:off x="642960" y="2475720"/>
              <a:ext cx="1438560" cy="210492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To achieve higher required capital ratio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5" name="AutoShape 5"/>
            <p:cNvSpPr/>
            <p:nvPr/>
          </p:nvSpPr>
          <p:spPr>
            <a:xfrm rot="2430600">
              <a:off x="2225160" y="427464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6" name="Text Box 6"/>
            <p:cNvSpPr/>
            <p:nvPr/>
          </p:nvSpPr>
          <p:spPr>
            <a:xfrm>
              <a:off x="2945160" y="2726280"/>
              <a:ext cx="1222920" cy="109944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Issue new equity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7" name="AutoShape 7"/>
            <p:cNvSpPr/>
            <p:nvPr/>
          </p:nvSpPr>
          <p:spPr>
            <a:xfrm>
              <a:off x="4312080" y="285660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8" name="Text Box 8"/>
            <p:cNvSpPr/>
            <p:nvPr/>
          </p:nvSpPr>
          <p:spPr>
            <a:xfrm>
              <a:off x="5103360" y="2287080"/>
              <a:ext cx="1438560" cy="143460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Higher cost of funding to bank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9" name="AutoShape 9"/>
            <p:cNvSpPr/>
            <p:nvPr/>
          </p:nvSpPr>
          <p:spPr>
            <a:xfrm>
              <a:off x="6686280" y="321624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0" name="Text Box 10"/>
            <p:cNvSpPr/>
            <p:nvPr/>
          </p:nvSpPr>
          <p:spPr>
            <a:xfrm>
              <a:off x="7430400" y="2857320"/>
              <a:ext cx="1510560" cy="210492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Higher lending spread to private sector borrower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1" name="Text Box 12"/>
            <p:cNvSpPr/>
            <p:nvPr/>
          </p:nvSpPr>
          <p:spPr>
            <a:xfrm>
              <a:off x="2967480" y="3949200"/>
              <a:ext cx="1319040" cy="109944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Increase retained profit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2" name="AutoShape 13"/>
            <p:cNvSpPr/>
            <p:nvPr/>
          </p:nvSpPr>
          <p:spPr>
            <a:xfrm rot="19168800">
              <a:off x="2225160" y="323136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3" name="AutoShape 7"/>
            <p:cNvSpPr/>
            <p:nvPr/>
          </p:nvSpPr>
          <p:spPr>
            <a:xfrm>
              <a:off x="4383720" y="4511520"/>
              <a:ext cx="2661840" cy="215640"/>
            </a:xfrm>
            <a:prstGeom prst="rightArrow">
              <a:avLst>
                <a:gd name="adj1" fmla="val 50000"/>
                <a:gd name="adj2" fmla="val 308598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4" name="Rectangle 2"/>
            <p:cNvSpPr/>
            <p:nvPr/>
          </p:nvSpPr>
          <p:spPr>
            <a:xfrm>
              <a:off x="714600" y="5137920"/>
              <a:ext cx="8184960" cy="79128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Complications: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Do banks have 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Which route to higher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pricing power to 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        equity will be chosen?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    raise lending rates?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5" name="AutoShape 13"/>
            <p:cNvSpPr/>
            <p:nvPr/>
          </p:nvSpPr>
          <p:spPr>
            <a:xfrm rot="19168800">
              <a:off x="2225160" y="226008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6" name="Text Box 6"/>
            <p:cNvSpPr/>
            <p:nvPr/>
          </p:nvSpPr>
          <p:spPr>
            <a:xfrm>
              <a:off x="2945160" y="1819440"/>
              <a:ext cx="1222920" cy="76428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Cut RWA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7" name="AutoShape 7"/>
            <p:cNvSpPr/>
            <p:nvPr/>
          </p:nvSpPr>
          <p:spPr>
            <a:xfrm>
              <a:off x="4312080" y="1900080"/>
              <a:ext cx="4604400" cy="215640"/>
            </a:xfrm>
            <a:prstGeom prst="rightArrow">
              <a:avLst>
                <a:gd name="adj1" fmla="val 50000"/>
                <a:gd name="adj2" fmla="val 533806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</p:grpSp>
      <p:pic>
        <p:nvPicPr>
          <p:cNvPr id="168" name="Picture 21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893680" y="259920"/>
            <a:ext cx="403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How does the model work?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70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B1960-80BE-4781-B202-61F432F6D173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grpSp>
        <p:nvGrpSpPr>
          <p:cNvPr id="172" name="Group 43"/>
          <p:cNvGrpSpPr/>
          <p:nvPr/>
        </p:nvGrpSpPr>
        <p:grpSpPr>
          <a:xfrm>
            <a:off x="500040" y="1643040"/>
            <a:ext cx="8501040" cy="4714560"/>
            <a:chOff x="500040" y="1643040"/>
            <a:chExt cx="8501040" cy="4714560"/>
          </a:xfrm>
        </p:grpSpPr>
        <p:sp>
          <p:nvSpPr>
            <p:cNvPr id="173" name="Text Box 4"/>
            <p:cNvSpPr/>
            <p:nvPr/>
          </p:nvSpPr>
          <p:spPr>
            <a:xfrm>
              <a:off x="793080" y="4472280"/>
              <a:ext cx="2491560" cy="100872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cad"/>
                  </a:solidFill>
                  <a:latin typeface="Arial"/>
                </a:rPr>
                <a:t>Availability of credit from non-bank sources</a:t>
              </a:r>
              <a:endParaRPr b="0" lang="en-US" sz="20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4" name="AutoShape 5"/>
            <p:cNvSpPr/>
            <p:nvPr/>
          </p:nvSpPr>
          <p:spPr>
            <a:xfrm rot="19807200">
              <a:off x="3358080" y="4543560"/>
              <a:ext cx="586080" cy="214200"/>
            </a:xfrm>
            <a:prstGeom prst="rightArrow">
              <a:avLst>
                <a:gd name="adj1" fmla="val 50000"/>
                <a:gd name="adj2" fmla="val 68403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5" name="Text Box 8"/>
            <p:cNvSpPr/>
            <p:nvPr/>
          </p:nvSpPr>
          <p:spPr>
            <a:xfrm>
              <a:off x="4000320" y="3071880"/>
              <a:ext cx="1407600" cy="161856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cad"/>
                  </a:solidFill>
                  <a:latin typeface="Arial"/>
                </a:rPr>
                <a:t>Aggregate whole economy credit supply</a:t>
              </a:r>
              <a:endParaRPr b="0" lang="en-US" sz="20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6" name="AutoShape 9"/>
            <p:cNvSpPr/>
            <p:nvPr/>
          </p:nvSpPr>
          <p:spPr>
            <a:xfrm>
              <a:off x="5410080" y="3758040"/>
              <a:ext cx="586080" cy="214200"/>
            </a:xfrm>
            <a:prstGeom prst="rightArrow">
              <a:avLst>
                <a:gd name="adj1" fmla="val 50000"/>
                <a:gd name="adj2" fmla="val 68403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7" name="Text Box 10"/>
            <p:cNvSpPr/>
            <p:nvPr/>
          </p:nvSpPr>
          <p:spPr>
            <a:xfrm>
              <a:off x="5996520" y="2900520"/>
              <a:ext cx="1392120" cy="192348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cad"/>
                  </a:solidFill>
                  <a:latin typeface="Arial"/>
                </a:rPr>
                <a:t>Nominal GDP driven by aggregate credit supply</a:t>
              </a:r>
              <a:endParaRPr b="0" lang="en-US" sz="20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8" name="Line 11"/>
            <p:cNvSpPr/>
            <p:nvPr/>
          </p:nvSpPr>
          <p:spPr>
            <a:xfrm>
              <a:off x="719640" y="1643040"/>
              <a:ext cx="7841520" cy="0"/>
            </a:xfrm>
            <a:prstGeom prst="line">
              <a:avLst/>
            </a:prstGeom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9" name="AutoShape 13"/>
            <p:cNvSpPr/>
            <p:nvPr/>
          </p:nvSpPr>
          <p:spPr>
            <a:xfrm rot="2058000">
              <a:off x="3431160" y="2828880"/>
              <a:ext cx="586080" cy="214200"/>
            </a:xfrm>
            <a:prstGeom prst="rightArrow">
              <a:avLst>
                <a:gd name="adj1" fmla="val 50000"/>
                <a:gd name="adj2" fmla="val 68403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grpSp>
          <p:nvGrpSpPr>
            <p:cNvPr id="180" name="Group 29"/>
            <p:cNvGrpSpPr/>
            <p:nvPr/>
          </p:nvGrpSpPr>
          <p:grpSpPr>
            <a:xfrm>
              <a:off x="795960" y="1643040"/>
              <a:ext cx="2781360" cy="2451960"/>
              <a:chOff x="795960" y="1643040"/>
              <a:chExt cx="2781360" cy="2451960"/>
            </a:xfrm>
          </p:grpSpPr>
          <p:sp>
            <p:nvSpPr>
              <p:cNvPr id="181" name="Line 15"/>
              <p:cNvSpPr/>
              <p:nvPr/>
            </p:nvSpPr>
            <p:spPr>
              <a:xfrm>
                <a:off x="795960" y="1829160"/>
                <a:ext cx="0" cy="1928520"/>
              </a:xfrm>
              <a:prstGeom prst="line">
                <a:avLst/>
              </a:prstGeom>
              <a:ln w="19080">
                <a:solidFill>
                  <a:srgbClr val="005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2" name="Line 16"/>
              <p:cNvSpPr/>
              <p:nvPr/>
            </p:nvSpPr>
            <p:spPr>
              <a:xfrm>
                <a:off x="795960" y="3757680"/>
                <a:ext cx="2418480" cy="0"/>
              </a:xfrm>
              <a:prstGeom prst="line">
                <a:avLst/>
              </a:prstGeom>
              <a:ln w="19080">
                <a:solidFill>
                  <a:srgbClr val="005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3" name="Line 17"/>
              <p:cNvSpPr/>
              <p:nvPr/>
            </p:nvSpPr>
            <p:spPr>
              <a:xfrm>
                <a:off x="1088640" y="2043360"/>
                <a:ext cx="1832040" cy="1356840"/>
              </a:xfrm>
              <a:prstGeom prst="line">
                <a:avLst/>
              </a:prstGeom>
              <a:ln w="19080">
                <a:solidFill>
                  <a:srgbClr val="f6801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4" name="Line 18"/>
              <p:cNvSpPr/>
              <p:nvPr/>
            </p:nvSpPr>
            <p:spPr>
              <a:xfrm flipV="1">
                <a:off x="1497960" y="2291760"/>
                <a:ext cx="1612440" cy="1357200"/>
              </a:xfrm>
              <a:prstGeom prst="line">
                <a:avLst/>
              </a:prstGeom>
              <a:ln w="19080">
                <a:solidFill>
                  <a:srgbClr val="005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5" name="Line 19"/>
              <p:cNvSpPr/>
              <p:nvPr/>
            </p:nvSpPr>
            <p:spPr>
              <a:xfrm flipV="1">
                <a:off x="917640" y="1841040"/>
                <a:ext cx="1612440" cy="1357200"/>
              </a:xfrm>
              <a:prstGeom prst="line">
                <a:avLst/>
              </a:prstGeom>
              <a:ln w="19080">
                <a:solidFill>
                  <a:srgbClr val="005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6" name="Text Box 20"/>
              <p:cNvSpPr/>
              <p:nvPr/>
            </p:nvSpPr>
            <p:spPr>
              <a:xfrm>
                <a:off x="2994480" y="3266280"/>
                <a:ext cx="366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7" name="Text Box 21"/>
              <p:cNvSpPr/>
              <p:nvPr/>
            </p:nvSpPr>
            <p:spPr>
              <a:xfrm>
                <a:off x="3137760" y="2077560"/>
                <a:ext cx="439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S</a:t>
                </a:r>
                <a:r>
                  <a:rPr b="0" lang="en-US" sz="1000" spc="-1" strike="noStrike">
                    <a:solidFill>
                      <a:srgbClr val="005cad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8" name="Text Box 22"/>
              <p:cNvSpPr/>
              <p:nvPr/>
            </p:nvSpPr>
            <p:spPr>
              <a:xfrm>
                <a:off x="2531880" y="1643040"/>
                <a:ext cx="439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S</a:t>
                </a:r>
                <a:r>
                  <a:rPr b="0" lang="en-US" sz="1000" spc="-1" strike="noStrike">
                    <a:solidFill>
                      <a:srgbClr val="005cad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9" name="Text Box 23"/>
              <p:cNvSpPr/>
              <p:nvPr/>
            </p:nvSpPr>
            <p:spPr>
              <a:xfrm>
                <a:off x="2188080" y="3757680"/>
                <a:ext cx="532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Q</a:t>
                </a:r>
                <a:r>
                  <a:rPr b="0" lang="en-US" sz="1000" spc="-1" strike="noStrike">
                    <a:solidFill>
                      <a:srgbClr val="005cad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90" name="Line 24"/>
              <p:cNvSpPr/>
              <p:nvPr/>
            </p:nvSpPr>
            <p:spPr>
              <a:xfrm>
                <a:off x="2322360" y="2986560"/>
                <a:ext cx="0" cy="770760"/>
              </a:xfrm>
              <a:prstGeom prst="line">
                <a:avLst/>
              </a:prstGeom>
              <a:ln w="9360">
                <a:solidFill>
                  <a:srgbClr val="005c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91" name="Line 25"/>
              <p:cNvSpPr/>
              <p:nvPr/>
            </p:nvSpPr>
            <p:spPr>
              <a:xfrm>
                <a:off x="1724040" y="2528280"/>
                <a:ext cx="0" cy="1229040"/>
              </a:xfrm>
              <a:prstGeom prst="line">
                <a:avLst/>
              </a:prstGeom>
              <a:ln w="9360">
                <a:solidFill>
                  <a:srgbClr val="005c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92" name="Text Box 26"/>
              <p:cNvSpPr/>
              <p:nvPr/>
            </p:nvSpPr>
            <p:spPr>
              <a:xfrm>
                <a:off x="1455480" y="3757680"/>
                <a:ext cx="532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Q</a:t>
                </a:r>
                <a:r>
                  <a:rPr b="0" lang="en-US" sz="1000" spc="-1" strike="noStrike">
                    <a:solidFill>
                      <a:srgbClr val="005cad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93" name="Line 27"/>
              <p:cNvSpPr/>
              <p:nvPr/>
            </p:nvSpPr>
            <p:spPr>
              <a:xfrm flipH="1">
                <a:off x="1841400" y="3927240"/>
                <a:ext cx="346320" cy="0"/>
              </a:xfrm>
              <a:prstGeom prst="line">
                <a:avLst/>
              </a:prstGeom>
              <a:ln w="9360">
                <a:solidFill>
                  <a:srgbClr val="005cad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</p:grpSp>
        <p:sp>
          <p:nvSpPr>
            <p:cNvPr id="194" name="Text Box 10"/>
            <p:cNvSpPr/>
            <p:nvPr/>
          </p:nvSpPr>
          <p:spPr>
            <a:xfrm>
              <a:off x="8121960" y="3472200"/>
              <a:ext cx="879120" cy="70380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cad"/>
                  </a:solidFill>
                  <a:latin typeface="Arial"/>
                </a:rPr>
                <a:t>Real GDP</a:t>
              </a:r>
              <a:endParaRPr b="0" lang="en-US" sz="20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95" name="AutoShape 9"/>
            <p:cNvSpPr/>
            <p:nvPr/>
          </p:nvSpPr>
          <p:spPr>
            <a:xfrm>
              <a:off x="7462080" y="3766680"/>
              <a:ext cx="586080" cy="214200"/>
            </a:xfrm>
            <a:prstGeom prst="rightArrow">
              <a:avLst>
                <a:gd name="adj1" fmla="val 50000"/>
                <a:gd name="adj2" fmla="val 68403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96" name="Rectangle 2"/>
            <p:cNvSpPr/>
            <p:nvPr/>
          </p:nvSpPr>
          <p:spPr>
            <a:xfrm>
              <a:off x="500040" y="5572080"/>
              <a:ext cx="8337960" cy="78552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Complications: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How much can non-banks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   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substitute for banks?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</p:grpSp>
      <p:pic>
        <p:nvPicPr>
          <p:cNvPr id="197" name="Picture 41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Preliminary results</a:t>
            </a:r>
            <a:br>
              <a:rPr sz="3000"/>
            </a:b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IIF approach</a:t>
            </a:r>
            <a:br>
              <a:rPr sz="3400"/>
            </a:b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00040" y="1643040"/>
            <a:ext cx="8072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 the regulatory change scenario, the real GDP is projected to be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2.5% lower in the US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1.9% lower in Japan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4% lower in the Euro Area – the largest banking system -.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Banks of these 3 economies will need to raise $0.8 trillion of common equity and issue $3.7 trillion of long-term debt in 2010-2015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banks lending spread to the private sector in the Euro Area would increase as much as 180 bp at the peak (2013)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0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01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4BA8B-6801-4867-B53A-D4B9815A839D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Real bank lending rate (top)</a:t>
            </a:r>
            <a:br>
              <a:rPr sz="3000"/>
            </a:b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Core equity shadow price (bottom)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1989000" y="1643040"/>
            <a:ext cx="4789800" cy="24289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"/>
          <p:cNvPicPr/>
          <p:nvPr/>
        </p:nvPicPr>
        <p:blipFill>
          <a:blip r:embed="rId2"/>
          <a:stretch/>
        </p:blipFill>
        <p:spPr>
          <a:xfrm>
            <a:off x="1984320" y="4214880"/>
            <a:ext cx="4802400" cy="2500200"/>
          </a:xfrm>
          <a:prstGeom prst="rect">
            <a:avLst/>
          </a:prstGeom>
          <a:ln w="0">
            <a:noFill/>
          </a:ln>
        </p:spPr>
      </p:pic>
      <p:sp>
        <p:nvSpPr>
          <p:cNvPr id="206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A77AF-8DBA-433D-8EC3-9B231E59F2F2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Bank credit growth to private sector (top)</a:t>
            </a:r>
            <a:br>
              <a:rPr sz="2600"/>
            </a:b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Banks’ return on equity (bottom)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09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58D55-7AA5-4276-8ED5-EFB610FC42C0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2143080" y="1714680"/>
            <a:ext cx="4659480" cy="24177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"/>
          <p:cNvPicPr/>
          <p:nvPr/>
        </p:nvPicPr>
        <p:blipFill>
          <a:blip r:embed="rId2"/>
          <a:stretch/>
        </p:blipFill>
        <p:spPr>
          <a:xfrm>
            <a:off x="2143080" y="4286160"/>
            <a:ext cx="464364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GDP cumulative (top)</a:t>
            </a:r>
            <a:br>
              <a:rPr sz="3000"/>
            </a:b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mployment (bottom)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13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14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1EF42-EB21-450A-AC9D-39927B9DC9A0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2071800" y="1714680"/>
            <a:ext cx="4811760" cy="24476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"/>
          <p:cNvPicPr/>
          <p:nvPr/>
        </p:nvPicPr>
        <p:blipFill>
          <a:blip r:embed="rId2"/>
          <a:stretch/>
        </p:blipFill>
        <p:spPr>
          <a:xfrm>
            <a:off x="2071800" y="4272120"/>
            <a:ext cx="4827600" cy="24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anks for your attention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Doubts, comments, opinions would be welcome 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v.proskurovska@ebf-fbe.eu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g.gasos@ebf-fbe.eu</a:t>
            </a:r>
            <a:r>
              <a:rPr b="0" lang="en-GB" sz="25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18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19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CC10E-E88B-4784-817B-EC91CE00879A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220" name="Picture 5" descr="Logo IIF.JPG"/>
          <p:cNvPicPr/>
          <p:nvPr/>
        </p:nvPicPr>
        <p:blipFill>
          <a:blip r:embed="rId4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7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8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16101-B888-4221-AA35-129CDE5EA2C8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500040" y="2093760"/>
            <a:ext cx="822960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EBF welcomes the willingness to strengthen the resilience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Firstly, need for improved supervision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Newness and complexity of proposals require further analysis and a second consultation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ay heed to the interplays between different measure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Assessment of the overall impact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1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CD3DA-AA0B-465E-BD50-EBCB42D4D719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500040" y="1932120"/>
            <a:ext cx="822960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INCIPLE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eservation of banks’ lending capacity in the EU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onsistency in regulations (single rulebook)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International level playing field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Banking sector competitive edge notably the ability to raise new capital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5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9D035-BEC6-4961-A19B-82CCDAB2D37D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500040" y="1916280"/>
            <a:ext cx="8229600" cy="38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A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Transition period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Grandfathering arrangemen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Minority interes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Deferred tax asse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ension fund asse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9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79E44-7B76-4E8C-A7D5-105702B3D357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539640" y="1628640"/>
            <a:ext cx="8229600" cy="49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A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ounterparty risk overlapping elemen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mote the use of central clering counterparties without penalizing OTC derivative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eserve the right incentives to risk management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The appropriateness of Pillar 2: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Leverage ratio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apital buffer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ounterparty risk 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3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232D3-E0BA-401A-8787-F0109DAA6759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500040" y="2093760"/>
            <a:ext cx="8229600" cy="38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A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EBF supports the provisioning based on expected los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But not the downturn probability of default in pillar 1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Restrictions to dividend pay-ou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Excessive credit growth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7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F5AAB-F649-45D6-969F-3B37F9E5F73F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500040" y="2093760"/>
            <a:ext cx="822960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A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Liquidity ratio accepted but need to review the detai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Net stable funding ratio would distort maturity transformation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Need for re-thinking the NSFR proposal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Interplays: the combination of liquidity ratios, capital buffers and stringent definition of capital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14240" y="3142800"/>
            <a:ext cx="7772400" cy="115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ssessing the Cumulative Impact of Proposed Regulatory Changes </a:t>
            </a:r>
            <a:br>
              <a:rPr sz="2800"/>
            </a:br>
            <a:br>
              <a:rPr sz="2800"/>
            </a:br>
            <a:r>
              <a:rPr b="0" lang="fr-FR" sz="2800" spc="-1" strike="noStrike">
                <a:solidFill>
                  <a:srgbClr val="0066cc"/>
                </a:solidFill>
                <a:latin typeface="Times New Roman"/>
              </a:rPr>
              <a:t>EBF Associates Meeting</a:t>
            </a:r>
            <a:br>
              <a:rPr sz="2800"/>
            </a:br>
            <a:br>
              <a:rPr sz="2800"/>
            </a:br>
            <a:r>
              <a:rPr b="0" lang="fr-FR" sz="2800" spc="-1" strike="noStrike">
                <a:solidFill>
                  <a:srgbClr val="0066cc"/>
                </a:solidFill>
                <a:latin typeface="Times New Roman"/>
              </a:rPr>
              <a:t>Baku - Azerbaijan</a:t>
            </a:r>
            <a:br>
              <a:rPr sz="2800"/>
            </a:br>
            <a:r>
              <a:rPr b="0" lang="fr-FR" sz="2000" spc="-1" strike="noStrike">
                <a:solidFill>
                  <a:srgbClr val="0066cc"/>
                </a:solidFill>
                <a:latin typeface="Times New Roman"/>
              </a:rPr>
              <a:t>28 May 2010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Cumulative impact assessment: Banking sector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2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79DFE-C404-4324-81D2-55541C83A7C4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627200" y="1643040"/>
            <a:ext cx="594504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06:13:41Z</dcterms:created>
  <dc:creator>Gonzalo Gasos</dc:creator>
  <dc:description/>
  <dc:language>en-US</dc:language>
  <cp:lastModifiedBy>Viktorija Proskurovska</cp:lastModifiedBy>
  <dcterms:modified xsi:type="dcterms:W3CDTF">2010-06-01T07:14:05Z</dcterms:modified>
  <cp:revision>421</cp:revision>
  <dc:subject/>
  <dc:title>ICAAP Seminar Rome, 20-22 October 2009</dc:title>
</cp:coreProperties>
</file>