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581F88-F657-43E9-8DD8-4C7E8A0C0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7EAAAE-2435-4348-80B4-458A791B0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D82E8A5-1673-41B7-8B42-4D772F9BC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2899C6-BD2A-4BA8-9604-D1096EAE5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6E7FF3-ECA0-418E-8693-3BF41354E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EB5FF7F-1EA6-405C-B30E-39B20A6C5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83C4847-7F92-40DC-B74D-3DC02243D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385726-4E9D-44A0-B2DC-C0DC8ADA3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EB5F73-3890-4484-8EBA-368EA7F95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5BD2E88-3CD3-46AF-8DD5-3A3DED71B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0542D7-10D7-4B60-9B19-A469592E6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EA3689-9F8A-479C-8EC0-35015DD77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070349-ABE3-4919-A9D0-CD04183AD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261DE91-F714-4D44-9139-04030C0AD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EA94-3ECC-4262-A829-9D293DAE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8392-6F45-4898-A032-975A4B1A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CFFE-43E8-489C-A3F9-DF126FD2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2D04-F985-4553-96FF-5279CEEA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1D0F-81AC-4545-A05B-307A9B07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BC94-8CC0-48C7-AE40-C0022840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EC17-07CA-4244-B9D8-0CE3B15B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20AD-3554-438E-92AB-562BD2CF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ECFE-CD84-475F-925C-9FB6EAC4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4D7E-257F-4F75-8742-3BE1F8FB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8024-98A4-45E7-AB7E-7A81CA64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2A89-DA1A-464B-9DAC-F7AD035C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F3AB-F192-4CA6-8373-E000C13EC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pdf/financial_assistance/ipa/2009/political/pf.02_civil_society_en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E83E-5A46-4577-95A0-7D165A6DE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Increased Involvement by            Banking Associations in Financial Sector Modernization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estern Balkans and Turkey </a:t>
            </a:r>
            <a:br>
              <a:rPr sz="24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"/>
          <p:cNvGrpSpPr/>
          <p:nvPr/>
        </p:nvGrpSpPr>
        <p:grpSpPr>
          <a:xfrm>
            <a:off x="380880" y="609480"/>
            <a:ext cx="2521080" cy="1032120"/>
            <a:chOff x="380880" y="609480"/>
            <a:chExt cx="2521080" cy="1032120"/>
          </a:xfrm>
        </p:grpSpPr>
        <p:sp>
          <p:nvSpPr>
            <p:cNvPr id="52" name="AutoShape 6"/>
            <p:cNvSpPr/>
            <p:nvPr/>
          </p:nvSpPr>
          <p:spPr>
            <a:xfrm>
              <a:off x="380880" y="609480"/>
              <a:ext cx="2521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7" descr=""/>
            <p:cNvPicPr/>
            <p:nvPr/>
          </p:nvPicPr>
          <p:blipFill>
            <a:blip r:embed="rId2"/>
            <a:stretch/>
          </p:blipFill>
          <p:spPr>
            <a:xfrm>
              <a:off x="380880" y="609480"/>
              <a:ext cx="2521080" cy="103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 Box 11"/>
          <p:cNvSpPr/>
          <p:nvPr/>
        </p:nvSpPr>
        <p:spPr>
          <a:xfrm>
            <a:off x="1523880" y="5257800"/>
            <a:ext cx="734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ean Banking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th  Associates Meetin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sels, 3 Dec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igi Passamo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, Convergence Program,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SPI Platform Toolkit: 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ong Commitment to Public-Private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0D58-CE2B-45E1-BF83-0FF3C9F55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52280" y="1600200"/>
            <a:ext cx="883944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bust dialogue structure with public institu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s pursued by EU CSF Progra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 participate in deciding the regulatory agen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y contribute to solution-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idence-based pract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nhanc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lps design more market-friendly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high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ork efficienc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nowledge shar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public institutions and other market participa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192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 Civil Society Facility can give EBF Associates generou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-year fund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 hire talent to scale up their influ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legitimacy with members and socie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er integration in regional and EU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 Platform is ideal vehicle to “connect” with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actively promote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filling EU CSF ultimate objective to create a vibrant civil society in future Memb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these importan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opportunities need to be internaliz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EBF Associates Leade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BD6F-4518-4953-B7FD-95A798CAD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Project Funding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EF3A-6A3D-4C6B-BE8C-6B03066F5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71640" y="5867280"/>
            <a:ext cx="895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EU Grant leverage by SPI Platform in-kind resour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3809880"/>
          </a:xfrm>
          <a:prstGeom prst="rect">
            <a:avLst/>
          </a:prstGeom>
          <a:ln w="0">
            <a:noFill/>
          </a:ln>
        </p:spPr>
      </p:pic>
      <p:sp>
        <p:nvSpPr>
          <p:cNvPr id="138" name="Oval 11"/>
          <p:cNvSpPr/>
          <p:nvPr/>
        </p:nvSpPr>
        <p:spPr>
          <a:xfrm>
            <a:off x="2743200" y="2362320"/>
            <a:ext cx="990720" cy="9144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BF Associate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communicate to EBF desire to app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Civil Society Facility gr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of activities to be financ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” and “Influ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ly, regionally and with EU counter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ergence Program will help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ill EBF SPI Platform toolkit information and valu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o content for a CSF grant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must be completed by 28 February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8DF2-F6CA-44CE-9CA3-2B1298EB7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7621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uropean Commissio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sh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engthen the role of Banking Associa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As) in the Accession process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participation of BAs in decision-making, policy implementation and moni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cooperation between BAs and other civil society organizations and between BAs and autho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up to €5 million for three yea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ortium of three BAs plus EU counter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% co-pay by benefici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324B-B72A-42E7-A268-CDB7F91F5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52280" y="655308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enlargement/pdf/financial_assistance/ipa/2009/political/pf.02_civil_society_en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Goal: Stronger BA Influence Through Various Partnershi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EB02-BC76-41D3-BB62-AA1542B9A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380880" y="2209680"/>
            <a:ext cx="274320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4572000" y="44197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6629400" y="14479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6629400" y="36576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4419720" y="22860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4876920" y="3592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29528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4572000" y="3059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5715000" y="3059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51814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31"/>
          <p:cNvCxnSpPr/>
          <p:nvPr/>
        </p:nvCxnSpPr>
        <p:spPr>
          <a:xfrm>
            <a:off x="5105160" y="3276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2" name="Straight Arrow Connector 37"/>
          <p:cNvCxnSpPr/>
          <p:nvPr/>
        </p:nvCxnSpPr>
        <p:spPr>
          <a:xfrm flipV="1">
            <a:off x="4952520" y="274248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Straight Arrow Connector 38"/>
          <p:cNvCxnSpPr>
            <a:endCxn id="69" idx="0"/>
          </p:cNvCxnSpPr>
          <p:nvPr/>
        </p:nvCxnSpPr>
        <p:spPr>
          <a:xfrm>
            <a:off x="5638320" y="2743200"/>
            <a:ext cx="4201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4" name="Straight Arrow Connector 43"/>
          <p:cNvCxnSpPr/>
          <p:nvPr/>
        </p:nvCxnSpPr>
        <p:spPr>
          <a:xfrm flipV="1">
            <a:off x="6552720" y="312336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Straight Arrow Connector 44"/>
          <p:cNvCxnSpPr/>
          <p:nvPr/>
        </p:nvCxnSpPr>
        <p:spPr>
          <a:xfrm>
            <a:off x="6400440" y="3885840"/>
            <a:ext cx="305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6" name="Straight Arrow Connector 45"/>
          <p:cNvCxnSpPr/>
          <p:nvPr/>
        </p:nvCxnSpPr>
        <p:spPr>
          <a:xfrm flipV="1">
            <a:off x="7085160" y="3277800"/>
            <a:ext cx="36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7" name="Straight Arrow Connector 57"/>
          <p:cNvCxnSpPr/>
          <p:nvPr/>
        </p:nvCxnSpPr>
        <p:spPr>
          <a:xfrm>
            <a:off x="3352320" y="327672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58"/>
          <p:cNvCxnSpPr/>
          <p:nvPr/>
        </p:nvCxnSpPr>
        <p:spPr>
          <a:xfrm flipH="1">
            <a:off x="6246000" y="404028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9" name="Straight Arrow Connector 62"/>
          <p:cNvCxnSpPr/>
          <p:nvPr/>
        </p:nvCxnSpPr>
        <p:spPr>
          <a:xfrm>
            <a:off x="3352320" y="3809880"/>
            <a:ext cx="12200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" name="Straight Arrow Connector 63"/>
          <p:cNvCxnSpPr/>
          <p:nvPr/>
        </p:nvCxnSpPr>
        <p:spPr>
          <a:xfrm>
            <a:off x="3123720" y="4419360"/>
            <a:ext cx="1143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1" name="TextBox 66"/>
          <p:cNvSpPr/>
          <p:nvPr/>
        </p:nvSpPr>
        <p:spPr>
          <a:xfrm>
            <a:off x="7010280" y="2514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7"/>
          <p:cNvSpPr/>
          <p:nvPr/>
        </p:nvSpPr>
        <p:spPr>
          <a:xfrm>
            <a:off x="7010280" y="4648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8"/>
          <p:cNvSpPr/>
          <p:nvPr/>
        </p:nvSpPr>
        <p:spPr>
          <a:xfrm>
            <a:off x="4952880" y="5562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1"/>
          <p:cNvSpPr/>
          <p:nvPr/>
        </p:nvSpPr>
        <p:spPr>
          <a:xfrm>
            <a:off x="2286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Viktorija’s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lowchart: Connector 27"/>
          <p:cNvSpPr/>
          <p:nvPr/>
        </p:nvSpPr>
        <p:spPr>
          <a:xfrm>
            <a:off x="6553080" y="34290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480348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9"/>
          <p:cNvSpPr/>
          <p:nvPr/>
        </p:nvSpPr>
        <p:spPr>
          <a:xfrm>
            <a:off x="66322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0"/>
          <p:cNvSpPr/>
          <p:nvPr/>
        </p:nvSpPr>
        <p:spPr>
          <a:xfrm>
            <a:off x="366048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lowchart: Connector 32"/>
          <p:cNvSpPr/>
          <p:nvPr/>
        </p:nvSpPr>
        <p:spPr>
          <a:xfrm>
            <a:off x="4724280" y="243828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lowchart: Connector 33"/>
          <p:cNvSpPr/>
          <p:nvPr/>
        </p:nvSpPr>
        <p:spPr>
          <a:xfrm>
            <a:off x="3581280" y="36576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 Will Help Involv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G Enlargement will invite authorities to participate in evaluation of propos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expects authorities to be closely involved in the project as an associated partner, the main counterpart or particip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ill inform authorities about the overall implementation of the proje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9BE2-C06F-4C7D-A96A-8774C4128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Activities Financ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F668-5CAD-4E5B-ABCB-376E27B89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62120" y="4495680"/>
            <a:ext cx="1600200" cy="152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743200" y="4191120"/>
            <a:ext cx="16002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572000" y="3048120"/>
            <a:ext cx="1600200" cy="297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629400" y="2438280"/>
            <a:ext cx="1600200" cy="358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762120" y="472428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s and seminars on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2666880" y="426708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training to BA staff on economic impact of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4495680" y="3352680"/>
            <a:ext cx="1752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ship activities between BAs, think-tanks, other associations to influenc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6553080" y="2666880"/>
            <a:ext cx="175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lishment of Platforms to formulate concrete recommenda-tions and practical solutions,    and exchange of goo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838080" y="1143000"/>
            <a:ext cx="3353040" cy="106668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4876920" y="1143000"/>
            <a:ext cx="3352680" cy="10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1460160" y="137160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5799960" y="137160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sures of Success 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ithin 2 years after project 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nsultations by public authorities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measures taken to adopt and implement EU a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qu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ibutio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new join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itiatives/network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mmon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on papers on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actions (workshops, trainings, campaigns, manual/guides, etc)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public authorities regarding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D39A-1D7F-4CDE-8E06-CC87C0880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Grant: A Game-Changer for EBF Associa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22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resourc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operate with public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form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substant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cooper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ursue similar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eive high-quality assistan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EU partner institu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F4C5-1B60-4318-93A0-3634FA4D1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serv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BF Associat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tool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pport EBF Associat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enhancing their contribution to financial sector modernization through structured dialogue with other private and public partner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uide on ac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documents for implementing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vernance framework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operate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on World Bank’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vergence Program experi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lbania and Roman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E872-F3FB-47A1-83C4-73DF96901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6629400" y="6172200"/>
            <a:ext cx="1600200" cy="538200"/>
            <a:chOff x="6629400" y="6172200"/>
            <a:chExt cx="1600200" cy="538200"/>
          </a:xfrm>
        </p:grpSpPr>
        <p:sp>
          <p:nvSpPr>
            <p:cNvPr id="117" name="AutoShape 6"/>
            <p:cNvSpPr/>
            <p:nvPr/>
          </p:nvSpPr>
          <p:spPr>
            <a:xfrm>
              <a:off x="6629400" y="6172200"/>
              <a:ext cx="16002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7" descr=""/>
            <p:cNvPicPr/>
            <p:nvPr/>
          </p:nvPicPr>
          <p:blipFill>
            <a:blip r:embed="rId1"/>
            <a:stretch/>
          </p:blipFill>
          <p:spPr>
            <a:xfrm>
              <a:off x="6629400" y="6172200"/>
              <a:ext cx="1600200" cy="53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563040"/>
            <a:ext cx="899172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SPI Platform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promo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fund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opera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09DE-2EC2-46B8-9889-792E2A63F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8380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5"/>
          <p:cNvGrpSpPr/>
          <p:nvPr/>
        </p:nvGrpSpPr>
        <p:grpSpPr>
          <a:xfrm>
            <a:off x="6629400" y="5943600"/>
            <a:ext cx="1600200" cy="609480"/>
            <a:chOff x="6629400" y="5943600"/>
            <a:chExt cx="1600200" cy="609480"/>
          </a:xfrm>
        </p:grpSpPr>
        <p:sp>
          <p:nvSpPr>
            <p:cNvPr id="126" name="AutoShape 6"/>
            <p:cNvSpPr/>
            <p:nvPr/>
          </p:nvSpPr>
          <p:spPr>
            <a:xfrm>
              <a:off x="6629400" y="5943600"/>
              <a:ext cx="1600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7" descr=""/>
            <p:cNvPicPr/>
            <p:nvPr/>
          </p:nvPicPr>
          <p:blipFill>
            <a:blip r:embed="rId2"/>
            <a:stretch/>
          </p:blipFill>
          <p:spPr>
            <a:xfrm>
              <a:off x="6629400" y="5943600"/>
              <a:ext cx="1600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$M</dc:creator>
  <dc:description/>
  <dc:language>en-US</dc:language>
  <cp:lastModifiedBy>Viktorija Proskurovska</cp:lastModifiedBy>
  <dcterms:modified xsi:type="dcterms:W3CDTF">2009-12-07T09:12:38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