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AE1A-510C-4812-BB24-9966582AC5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4C3C-F0F6-48B7-B93E-B39D6303735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D668-5F54-4EC9-AA2B-AC4C32C6A7C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20BF-6488-473F-B543-B2AB7817218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5911-253C-4D68-8CDE-D1E6C3FBCDC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839C-B689-448D-9FAB-7CB147D4294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4091-4193-486D-876B-8D8A7C01A8A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AAC1-B9FD-46B4-9BB9-552290A7D6C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74D2-F87D-4AAF-A8B9-0DA0666E164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B113-14A7-4EBC-BA67-2E702EF58B9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E1FD-0EA6-4D5C-95C9-BF56AF2ED82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23B5-5968-4C07-B228-ACEA7E6B966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1A4B-51DB-4FC1-90A5-C75AF979D47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47D5-8410-42F1-93DF-B8F04A6495F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4383-4FF5-486C-BB22-0679501B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7848-1096-4C1A-B941-3C7770FD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104-9E0B-4E21-95DF-55C59A8A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966-D933-4808-B1E4-712F016B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695C-D188-4658-89D6-A5F6C05C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5BF5-4F21-42C5-92C8-740E32F5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0604-2787-43F0-B39F-85A7AEE6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11DF-8CB0-4585-BB61-CB566FC5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E5B7-C2EB-4B3A-AF14-3025E825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EAEA-B9F9-4814-B253-197F6EEF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D774-4BE8-49B7-8697-98CBB9D2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36A-159B-4AA6-8859-941FAF97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D6EA-8B9E-4919-9062-DACC69E6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8F80-3BA8-43BF-872A-F34F1C08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CCC0-BB60-4874-9465-08622776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3BA8-388A-4EF6-8F62-2F9E5421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7FE7-7448-43F3-B50C-B1BE63D3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C258-C210-454C-803A-0D814E5F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5DB-7B3C-41C9-9046-5D0C6C4A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D68-58EC-4905-81FB-08EB7803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85B-1868-46AF-8693-0F9ADA33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329F-BB56-4E99-9390-9F75968C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E90-DB6B-48E9-9DDA-A64F82E6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15B-0EFA-498D-85AC-82E90515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FB0A-3C7E-4E97-A3C2-BA41591B3ED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E9F0-6279-4641-AEF8-E00411B9801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8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russels, 3 December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PA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9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sult of a EC consultation shows that a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end-dat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o the process of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migration to SEPA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s required. Migration to SEPA is irreversibl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800"/>
            </a:b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Bank account switching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ithin a MS is made easier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EPA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Direct Debit Schem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for EU MS) becomes eff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FE79-BA7B-48EC-A0C5-0EBB659DC7C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86EB-D979-4B0F-A8DF-75E6CA456BF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4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nsultation on the IFRS for S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of audit working papers between MSs and Canada, Japan and Switzerland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Need to remove barriers to entry for audit firm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ossible adoption of international standards for statutory audit of EU compani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Financial Reporting and Taxation 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E1A9-1F0B-4502-BF61-37D4243FC8C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oval of barriers to entry for audit firm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7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published a summary of the consultati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on control structures in audit firms and their consequences on the audit market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udy,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conclude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ll potential barriers to the entry, growth and survival of audit firms in the international audit market must be removed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urrent rules are not indispensable in order to retain human capital.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 number of other</a:t>
            </a:r>
            <a:r>
              <a:rPr b="1" lang="en-GB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arriers to increasing the number of audit firms operating on the international market were identified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6078-13B9-4005-8CAA-67EE1B198BE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4854-5797-424F-84DE-D3EE4D0E5F6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2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anking Regulation and Supervis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and Securit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tail Financial Services and Paymen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11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inancial Reporting and Tax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4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ar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ll EU legislative initiatives in the past period have been related to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untering the causes of the current financial crisi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rectly or indirectly, most of the legislative initiative have a European and ofte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nationa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scop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 this Presentation: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focus on one issue per theme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or more detail, see the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mplete set of initiative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to be circulated after meeting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6DE1-80E5-4DB6-8350-6B0B43F6661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F10F-A551-4EBE-85EF-200AACF12BC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6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financial supervision in Europ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New EU Framework for Crisis Management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rengthened rules on bank capital and on remuneration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hanges to the Capital Requirements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view of the Financial Conglomerates Dir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Banking Regulation &amp; Supervision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BFA5-39CE-4016-A952-175FDB90397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Supervis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3-Sep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package of draft legislation to strengthen supervision of the financial sector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legislation will create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Boar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RB) an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FS), to be established by end-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6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dditional legislative proposals targeted to change existing financial services legislation to ensure that the new Authorities can work effectively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A327-4EC0-445C-AEB0-4E4A3E71985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7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safety of derivatives market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afer European market for credit default swap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rivatives in crisis – Safeguarding Financial Stability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d tape reduction and improvement of investor protec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udy on trading and post-trading prices, costs and volu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ublic consultation on the UCITS depositary function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Financial Markets &amp; Securitie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F172-6D34-43ED-8A2A-2765CBE6B71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afety of derivatives marke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0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fter a stakeholder Consultation launched in Jul-09 and the public hearing in Sept-09, EC adopte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munication for ensuring efficient, safe and sound derivatives market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The Communication sets out future policy actions to: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increase transparenc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of the derivatives market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reduce counterparty and operational risk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in trading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enhance market integrit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oversight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EC will start a process of drafting legislation, notably by launching impact assessments, and come forward with legislative proposals in 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A00C-46CB-41F6-8C0C-9B03ACD74F9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11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Consumers to start benefiting from easier bank account switching from Nov-09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SEPA – Cross-Border Payments Now A Reality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Possible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General support for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Actions to make SEPA a succes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Technical Workshop on Packaged Retail Investment Product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access to a basic bank account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lternative dispute resolution (ADR) in the area of financial service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Report on the financial crisis and financial educ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responsible lending and borrowing in the EU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xpert group report on credit historie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Retail Financial Services &amp; Payment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4767-1066-4042-A719-7527DDE1E96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EPA Roadmap for 2009-2012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0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adopted a Communication 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pleting SEPA: a Roadmap for 2009-2012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mmunication provides a framework for action within six priority area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oster migr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Increase SEPA awareness and promote SEPA product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Design a sound legal environment and strengthen SEPA compli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Promote innov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e necessary standardisation, interoperability and security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Clarify and improve SEPA govern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Viktorija Proskurovska</cp:lastModifiedBy>
  <dcterms:modified xsi:type="dcterms:W3CDTF">2009-12-02T11:23:45Z</dcterms:modified>
  <cp:revision>197</cp:revision>
  <dc:subject/>
  <dc:title>Latest developments in the EU legislation on financial services</dc:title>
</cp:coreProperties>
</file>