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CFA6-F0DE-4754-A675-9473F2E5F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F762-5CBB-4F4C-BB9E-D99A290EDA3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8752-5923-427E-B942-FDA998088AB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C432-6D8A-4E04-A15C-75F6238DD52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E3E8-CDFF-44C1-AF16-96166AD1673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7CA6-BEA0-4D67-9DC9-DEEA77A95DB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B645-3FD4-46F7-9538-0CB4A8CAF81E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2399-3D6E-4B58-9F0F-BA4B9F9689D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69EE-AD8A-4F3B-B23B-0401D046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62DD-6974-4384-819E-9BED445E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16DE-73E2-43E3-BB90-43959131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3714-836B-4144-BCC5-3965A440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14A6-BB87-43DB-9A85-CD970F93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B596-CE16-448F-9AE7-48B8EEB2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EF91-35CB-487C-99F4-D91FADC6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44C9-0228-4E28-8053-EEDCF890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8526-A71F-4CCF-ABD9-0386D684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9C00-5556-4040-8E0E-98683287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F509-F16E-4B89-8104-98A9FF8F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C6F7-3EE7-4EA7-96F7-7DAA8970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9FF3-92F6-4308-A9DC-17BD36DE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758A-3C80-4C61-B67A-EF6D34D1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3B0E-6EB1-4A5B-BBDD-A1597E62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D036-F162-43CB-A829-55DAEDA3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E156-2B59-43B7-9F3B-A408691D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4709-9ED9-47D5-BD1A-DA560C44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A9AF-7912-45C3-B01E-18F3B52C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8624-A50B-40EC-9898-CD2EE3A7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043B-8C9A-422A-BCD3-BA3DD4C2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07E8-9F46-4E67-A216-8A852D9D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8EAE-A5C5-4713-9452-D1979FCF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379B-B641-4965-8B78-F8D9421D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703D-A6E5-4531-8666-0A1842D310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4030-3EBD-4CED-A9F3-372459E14B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3CC8-1541-419C-AC84-FDB948DD45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9963-D7A9-4D84-97FF-DEBA17791F4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r.wikipedia.org/wiki/Slika:Flag_of_Bosnia_and_Herzegovina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k-map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4400" spc="-1" strike="noStrike">
                <a:solidFill>
                  <a:srgbClr val="000000"/>
                </a:solidFill>
                <a:latin typeface="Calibri"/>
              </a:rPr>
              <a:t>Bosnia and Herzegovi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4" descr="Zastava Bosne i Hercegovi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2000160"/>
            <a:ext cx="5572080" cy="315936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31D9-9318-4F17-87BD-8015B4609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24DE-9EB1-4111-A6A6-5F79A6C9231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igures</a:t>
            </a:r>
            <a:br>
              <a:rPr sz="1100"/>
            </a:br>
            <a:br>
              <a:rPr sz="1100"/>
            </a:b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(in mio KM)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Source: Banking Agencies of FBiH and R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14240" y="1714680"/>
          <a:ext cx="7858440" cy="3857400"/>
        </p:xfrm>
        <a:graphic>
          <a:graphicData uri="http://schemas.openxmlformats.org/drawingml/2006/table">
            <a:tbl>
              <a:tblPr/>
              <a:tblGrid>
                <a:gridCol w="642960"/>
                <a:gridCol w="1857600"/>
                <a:gridCol w="1285920"/>
                <a:gridCol w="1285560"/>
                <a:gridCol w="1214640"/>
                <a:gridCol w="857160"/>
                <a:gridCol w="714600"/>
              </a:tblGrid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1.12.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6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9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s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.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a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7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2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37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po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4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capi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75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expendi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t pro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F Stand-by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nna initiative 6+3 (mother banks to keep exposure with B&amp;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umer protection legislation –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high expectation from banking sec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able results of first stress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PL increased, but still acceptable (2,8% Q2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 of income with increased interest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ing – reduced and more expen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691B-AE03-4422-985B-FBEEC930831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esent challang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5712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ounded in 2004, fully indepen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irst Association on stat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ly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self funded by member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ll registered banks in full memb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rganized troug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Board of Dire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Executive Secret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9 Commissions for different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OUR MISSION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improve and develope close cooperation among th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member bank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establish partnership with stat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institutions, supervisors and legislator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Public relations and media communicat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Edu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catio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o  cooperate with similar institutions in the country and abr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BA81-4880-4852-AA27-76908A07CD4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 Association of Bosnia and Herzegovina</a:t>
            </a:r>
            <a:br>
              <a:rPr sz="25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ofile</a:t>
            </a:r>
            <a:br>
              <a:rPr sz="25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fully dedicated to the spirit of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membership with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al support and know-how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hange of information and expertise in legislation, good banking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C655-D1B2-44D6-907F-1317090CE40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s for your confid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4295-0739-4449-953D-DB15F1B9EBC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24_05_2006_clip_image002"/>
          <p:cNvPicPr/>
          <p:nvPr/>
        </p:nvPicPr>
        <p:blipFill>
          <a:blip r:embed="rId1"/>
          <a:stretch/>
        </p:blipFill>
        <p:spPr>
          <a:xfrm>
            <a:off x="2928960" y="4214880"/>
            <a:ext cx="29718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70c0"/>
                </a:solidFill>
                <a:latin typeface="Calibri"/>
              </a:rPr>
              <a:t>UBBiH   </a:t>
            </a:r>
            <a:r>
              <a:rPr b="1" lang="en-US" sz="11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ŽENJE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GA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УДРУЖЕЊЕ БАНАКА БОСНE И ХЕРЦЕГОВИН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ANKS ASSOCIATION OF BOSNIA AND HERZEGOVINA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Branilaca Sarajeva 20/III, 71000 Sarajevo, Bosna i Hercegovina, Tel: (387 33) 714 630, Fax: (387 33) 714 631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www.ubbih.ba</a:t>
            </a:r>
            <a:br>
              <a:rPr sz="2400"/>
            </a:br>
            <a:br>
              <a:rPr sz="2400"/>
            </a:br>
            <a:br>
              <a:rPr sz="1600"/>
            </a:br>
            <a:br>
              <a:rPr sz="1600"/>
            </a:b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 ECONOMY AND BANKING SECTOR  IN  BOSNIA AND HERZEGOVINA </a:t>
            </a:r>
            <a:br>
              <a:rPr sz="3200"/>
            </a:b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r. Dino Osmanbegović, Presid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240" y="5143320"/>
            <a:ext cx="69152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Rectangle 4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F182-068E-46C5-82A2-9CE664EE9B9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43160" y="5929200"/>
            <a:ext cx="4071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68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MMA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.  B&amp;H in bri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y Macroeconomic D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jor Ris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I Banking Indu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gur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esent Challeng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fi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1528-23BA-485B-9A64-C1F91A02E83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35652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hr-HR" sz="1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br>
              <a:rPr sz="29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ulation: 3,8 mio (est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ital: Saraje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: 51.197 km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rency (€1 = KM1.9558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 stat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n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entities+1 distr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26C8-29AF-413F-B25E-122F8E25109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Map of Bosnia and Herzegovi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928800"/>
            <a:ext cx="5473440" cy="482436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5"/>
          <p:cNvSpPr/>
          <p:nvPr/>
        </p:nvSpPr>
        <p:spPr>
          <a:xfrm>
            <a:off x="3124080" y="6356520"/>
            <a:ext cx="416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ral Bank of B&amp;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urrency Board Arran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andatory  Reser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nking Super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 banking agencies (still separate but coordinat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latively conservative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ministration for indirect taxation (VAT and custo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entralized collection with entity level distribu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corporate income, personal) on entity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E984-5645-4E06-86A4-A1E6E88716C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bs-BA" sz="2800" spc="-1" strike="noStrike">
                <a:solidFill>
                  <a:srgbClr val="000000"/>
                </a:solidFill>
                <a:latin typeface="Calibri"/>
              </a:rPr>
              <a:t>I  B&amp;H in brief</a:t>
            </a:r>
            <a:br>
              <a:rPr sz="1400"/>
            </a:b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Key  Macroeconomic Data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bs-BA" sz="1200" spc="-1" strike="noStrike">
                <a:solidFill>
                  <a:srgbClr val="000000"/>
                </a:solidFill>
                <a:latin typeface="Calibri"/>
              </a:rPr>
              <a:t>Data Source: Thomson 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</a:rPr>
              <a:t>Reuter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680" y="6000840"/>
            <a:ext cx="4906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00040" y="928800"/>
          <a:ext cx="8072640" cy="5475240"/>
        </p:xfrm>
        <a:graphic>
          <a:graphicData uri="http://schemas.openxmlformats.org/drawingml/2006/table">
            <a:tbl>
              <a:tblPr/>
              <a:tblGrid>
                <a:gridCol w="2639880"/>
                <a:gridCol w="981360"/>
                <a:gridCol w="981000"/>
                <a:gridCol w="1131840"/>
                <a:gridCol w="1149480"/>
                <a:gridCol w="1189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9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10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ominal GDP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 GDP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usehold consumption (real, 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dustrial output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umer prices (avg.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nemployment rate  (avg,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eneral budge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urrent Accoun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ublic debt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fficial FX reserves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55B6-223A-45D0-A6A7-FEE201B63DD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2357280" y="6492960"/>
            <a:ext cx="414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&amp;H in br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jor Macroeconomic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DP growth-present negative with forecasted very low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dget deficit-still over IMF Stand-by Agrm. Tar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of Current Account Deficit-despite of significant reduction of both export and impo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dit portfolio volume-reduced for 2%, compared to 27% growth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FX risk and controlled inflation, due to the Currency 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9744-DE05-4990-B22C-CDB7C1C0882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857160"/>
            <a:ext cx="84297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100" spc="-1" strike="noStrike">
                <a:solidFill>
                  <a:srgbClr val="000000"/>
                </a:solidFill>
                <a:latin typeface="Calibri"/>
              </a:rPr>
              <a:t>Source: Central Bank B&amp;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CE3B-33A0-4C57-8BDA-0A66FC62F67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85840" y="2000160"/>
          <a:ext cx="8358120" cy="3071880"/>
        </p:xfrm>
        <a:graphic>
          <a:graphicData uri="http://schemas.openxmlformats.org/drawingml/2006/table">
            <a:tbl>
              <a:tblPr/>
              <a:tblGrid>
                <a:gridCol w="2431800"/>
                <a:gridCol w="739800"/>
                <a:gridCol w="741600"/>
                <a:gridCol w="741240"/>
                <a:gridCol w="739800"/>
                <a:gridCol w="741240"/>
                <a:gridCol w="741600"/>
                <a:gridCol w="739800"/>
                <a:gridCol w="741240"/>
              </a:tblGrid>
              <a:tr h="285120">
                <a:tc rowSpan="2"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</a:tr>
              <a:tr h="3193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ment fund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sing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urance and reinsurance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crocredit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Footer Placeholder 5"/>
          <p:cNvSpPr/>
          <p:nvPr/>
        </p:nvSpPr>
        <p:spPr>
          <a:xfrm>
            <a:off x="3000240" y="628668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% of Financial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1 Registered Ban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deration BiH, 19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ublic of Srpska 10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Banks under Administ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90% foreign ow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75% of total assets with 4 key play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% of GDP penetr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evant share of retail loan portfol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capital adequacy ratio (CAR) – over 16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 profitabili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6221-3851-423D-82E3-E7C60A21FF2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58:07Z</dcterms:created>
  <dc:creator>samir</dc:creator>
  <dc:description/>
  <dc:language>en-US</dc:language>
  <cp:lastModifiedBy>samir</cp:lastModifiedBy>
  <dcterms:modified xsi:type="dcterms:W3CDTF">2009-12-03T13:34:02Z</dcterms:modified>
  <cp:revision>32</cp:revision>
  <dc:subject/>
  <dc:title>Bosnia and Herzegovina </dc:title>
</cp:coreProperties>
</file>