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1B7319-78C5-42B6-BBDD-CCB3DFBF2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7C6D17-3FDC-44F5-B254-DB7FD67FD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81ED8A-68A1-4EC0-901F-3DED86114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B71585-45F4-4DF0-9AD8-E6B219B7D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9E4E44-FA4E-4486-A519-7CC994AC6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1642BF-5C9C-4389-8A97-627A38ABA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F0955D-0C42-448F-93C8-106AAC1DF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B4344B-B2FF-41CC-BEDB-916264499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7DA1CC-A5CC-44D0-912E-8B4A3C235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1583A4-C07F-413D-84E3-BA8B4F16B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DDDD85-7C07-4AE0-BC1B-1702AC3A7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4AA6DC-C1FD-418F-A981-EEC4353E2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176152-7118-41F6-8E7B-F4795D963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DDA74C-28F4-42D7-B19F-A726D8FE4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E0A0-A629-4934-89AE-F1DC62FA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61F4-54B9-4070-B448-4A6344B0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C07-9177-4BE7-AB13-0250F36F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0D55-A999-4CCC-AD6D-A63A932F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D9D-F792-4C9D-8C23-B91E0C4F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1833-456C-4773-B6C4-4F14A08A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33CA-5D8E-4BC5-BE2D-A4118321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CBCB-86F9-4FC2-BA6C-EA1F37E7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D66D-A4A9-48B9-9154-A328720D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F76A-43DB-48C3-AA6C-7C8B4065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CC4B-0FD3-43F3-AB6C-F517B2A8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79C-69C4-46CF-9BCF-71003EAD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CE78-981F-40A4-B6F9-099B06682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pdf/financial_assistance/ipa/2009/political/pf.02_civil_society_en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2095-AFB0-4843-8A34-0EC46FB54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Increased Involvement by            Banking Associations in Financial Sector Modernization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estern Balkans and Turkey 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380880" y="609480"/>
            <a:ext cx="2521080" cy="1032120"/>
            <a:chOff x="380880" y="609480"/>
            <a:chExt cx="2521080" cy="1032120"/>
          </a:xfrm>
        </p:grpSpPr>
        <p:sp>
          <p:nvSpPr>
            <p:cNvPr id="52" name="AutoShape 6"/>
            <p:cNvSpPr/>
            <p:nvPr/>
          </p:nvSpPr>
          <p:spPr>
            <a:xfrm>
              <a:off x="380880" y="609480"/>
              <a:ext cx="2521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7" descr=""/>
            <p:cNvPicPr/>
            <p:nvPr/>
          </p:nvPicPr>
          <p:blipFill>
            <a:blip r:embed="rId2"/>
            <a:stretch/>
          </p:blipFill>
          <p:spPr>
            <a:xfrm>
              <a:off x="380880" y="609480"/>
              <a:ext cx="2521080" cy="103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11"/>
          <p:cNvSpPr/>
          <p:nvPr/>
        </p:nvSpPr>
        <p:spPr>
          <a:xfrm>
            <a:off x="1523880" y="5257800"/>
            <a:ext cx="734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Banking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th  Associates Meetin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sels, 3 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gi Passam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, Convergence Program,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SPI Platform Toolkit: 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Commitment to Public-Private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55E8-0F69-4BF6-B3E6-1585C56EE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600200"/>
            <a:ext cx="8839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bust dialogue structure with public institu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 pursued by EU CSF Progr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 participate in deciding the regulatory agen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contribute to solution-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idence-based pract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nhanc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design more market-friendly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hig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k efficien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nowledge shar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public institutions and other market particip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 Civil Society Facility can give EBF Associates generou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-year fund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hire talent to scale up their infl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legitimacy with members and socie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er integration in regional and EU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 Platform is ideal vehicle to “connect” with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tively promote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filling EU CSF ultimate objective to create a vibrant civil society in future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se importan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opportunities need to be internaliz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BF Associates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441B-578B-4800-A60D-F39CE8CBA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Project Fund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AD41-24A2-4165-B36E-B183C3324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1640" y="5867280"/>
            <a:ext cx="895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EU Grant leverage by SPI Platform in-kind re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809880"/>
          </a:xfrm>
          <a:prstGeom prst="rect">
            <a:avLst/>
          </a:prstGeom>
          <a:ln w="0">
            <a:noFill/>
          </a:ln>
        </p:spPr>
      </p:pic>
      <p:sp>
        <p:nvSpPr>
          <p:cNvPr id="138" name="Oval 11"/>
          <p:cNvSpPr/>
          <p:nvPr/>
        </p:nvSpPr>
        <p:spPr>
          <a:xfrm>
            <a:off x="2743200" y="2362320"/>
            <a:ext cx="990720" cy="9144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BF Associat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mmunicate to EBF desire to app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Civil Society Facility gr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activities to be finan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” and “Influ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, regionally and with EU counter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gence Program will help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ill EBF SPI Platform toolkit information and valu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o content for a CSF grant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must be completed by 28 February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76F0-CD9B-47F1-843D-FDB696C00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7621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sh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en the role of Banking Associ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As) in the Accession process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articipation of BAs in decision-making, policy implementation and moni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ooperation between BAs and other civil society organizations and between BAs and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p to €5 million for three yea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rtium of three BAs plus EU counter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% co-pay by benefici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DCFD-3A65-4873-B105-ADB6F1170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2280" y="65530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nlargement/pdf/financial_assistance/ipa/2009/political/pf.02_civil_society_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al: Stronger BA Influence Through Various Partnersh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64AD-C358-45AB-815D-B118FE3D2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80880" y="2209680"/>
            <a:ext cx="274320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572000" y="44197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6629400" y="14479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6629400" y="36576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4419720" y="22860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359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2952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4572000" y="3059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5715000" y="3059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1814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31"/>
          <p:cNvCxnSpPr/>
          <p:nvPr/>
        </p:nvCxnSpPr>
        <p:spPr>
          <a:xfrm>
            <a:off x="5105160" y="3276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 flipV="1">
            <a:off x="4952520" y="274248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Straight Arrow Connector 38"/>
          <p:cNvCxnSpPr>
            <a:endCxn id="69" idx="0"/>
          </p:cNvCxnSpPr>
          <p:nvPr/>
        </p:nvCxnSpPr>
        <p:spPr>
          <a:xfrm>
            <a:off x="5638320" y="2743200"/>
            <a:ext cx="4201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43"/>
          <p:cNvCxnSpPr/>
          <p:nvPr/>
        </p:nvCxnSpPr>
        <p:spPr>
          <a:xfrm flipV="1">
            <a:off x="6552720" y="312336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44"/>
          <p:cNvCxnSpPr/>
          <p:nvPr/>
        </p:nvCxnSpPr>
        <p:spPr>
          <a:xfrm>
            <a:off x="6400440" y="388584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45"/>
          <p:cNvCxnSpPr/>
          <p:nvPr/>
        </p:nvCxnSpPr>
        <p:spPr>
          <a:xfrm flipV="1">
            <a:off x="7085160" y="3277800"/>
            <a:ext cx="3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57"/>
          <p:cNvCxnSpPr/>
          <p:nvPr/>
        </p:nvCxnSpPr>
        <p:spPr>
          <a:xfrm>
            <a:off x="3352320" y="327672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58"/>
          <p:cNvCxnSpPr/>
          <p:nvPr/>
        </p:nvCxnSpPr>
        <p:spPr>
          <a:xfrm flipH="1">
            <a:off x="6246000" y="40402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3352320" y="3809880"/>
            <a:ext cx="12200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63"/>
          <p:cNvCxnSpPr/>
          <p:nvPr/>
        </p:nvCxnSpPr>
        <p:spPr>
          <a:xfrm>
            <a:off x="3123720" y="44193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TextBox 66"/>
          <p:cNvSpPr/>
          <p:nvPr/>
        </p:nvSpPr>
        <p:spPr>
          <a:xfrm>
            <a:off x="7010280" y="2514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70102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4952880" y="5562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1"/>
          <p:cNvSpPr/>
          <p:nvPr/>
        </p:nvSpPr>
        <p:spPr>
          <a:xfrm>
            <a:off x="228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Viktorija’s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lowchart: Connector 27"/>
          <p:cNvSpPr/>
          <p:nvPr/>
        </p:nvSpPr>
        <p:spPr>
          <a:xfrm>
            <a:off x="6553080" y="34290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80348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6322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36604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Connector 32"/>
          <p:cNvSpPr/>
          <p:nvPr/>
        </p:nvSpPr>
        <p:spPr>
          <a:xfrm>
            <a:off x="4724280" y="243828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Connector 33"/>
          <p:cNvSpPr/>
          <p:nvPr/>
        </p:nvSpPr>
        <p:spPr>
          <a:xfrm>
            <a:off x="3581280" y="36576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 Will Help Involv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G Enlargement will invite authorities to participate in evaluation of propos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expects authorities to be closely involved in the project as an associated partner, the main counterpart or particip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ill inform authorities about the overall implementation of the proj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B6D5-7D91-4CDA-A3B9-8D6F399B0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Activities Financ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92ED-2DD0-447E-A374-CAD90A669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2120" y="4495680"/>
            <a:ext cx="1600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43200" y="4191120"/>
            <a:ext cx="1600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572000" y="3048120"/>
            <a:ext cx="160020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629400" y="2438280"/>
            <a:ext cx="1600200" cy="358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62120" y="47242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s and seminars on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666880" y="426708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training to BA staff on economic impact of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4495680" y="3352680"/>
            <a:ext cx="175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hip activities between BAs, think-tanks, other associations to influenc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553080" y="2666880"/>
            <a:ext cx="175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ment of Platforms to formulate concrete recommenda-tions and practical solutions,    and exchange of goo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838080" y="1143000"/>
            <a:ext cx="3353040" cy="10666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4876920" y="1143000"/>
            <a:ext cx="33526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460160" y="13716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799960" y="13716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Success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ithin 2 years after project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nsultations by public authorities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measures taken to adopt and implement EU a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qu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ibut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new joi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itiatives/network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mmo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papers on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actions (workshops, trainings, campaigns, manual/guides, etc)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public authorities regarding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DB3A-FE1A-48F1-BD9D-F383F3B04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Grant: A Game-Changer for EBF Associ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resourc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operate with public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form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substant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ooper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ursue similar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 high-quality assista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EU partner instit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0331-C9BC-4B58-8A02-1D99C59D1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serv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BF Associa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ool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ort EBF Associat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nhancing their contribution to financial sector modernization through structured dialogue with other private and public partner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uide on ac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documents for implementing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vernance framewor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operate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World Bank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vergence Program experi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lbania and Roman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07EF-E5DF-46BB-87E9-108937BD5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6629400" y="6172200"/>
            <a:ext cx="1600200" cy="538200"/>
            <a:chOff x="6629400" y="6172200"/>
            <a:chExt cx="1600200" cy="538200"/>
          </a:xfrm>
        </p:grpSpPr>
        <p:sp>
          <p:nvSpPr>
            <p:cNvPr id="117" name="AutoShape 6"/>
            <p:cNvSpPr/>
            <p:nvPr/>
          </p:nvSpPr>
          <p:spPr>
            <a:xfrm>
              <a:off x="6629400" y="6172200"/>
              <a:ext cx="16002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6629400" y="6172200"/>
              <a:ext cx="160020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563040"/>
            <a:ext cx="899172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PI Platform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promo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fund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opera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86CF-BCCA-4846-8E38-33187982E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5"/>
          <p:cNvGrpSpPr/>
          <p:nvPr/>
        </p:nvGrpSpPr>
        <p:grpSpPr>
          <a:xfrm>
            <a:off x="6629400" y="5943600"/>
            <a:ext cx="1600200" cy="609480"/>
            <a:chOff x="6629400" y="5943600"/>
            <a:chExt cx="1600200" cy="609480"/>
          </a:xfrm>
        </p:grpSpPr>
        <p:sp>
          <p:nvSpPr>
            <p:cNvPr id="126" name="AutoShape 6"/>
            <p:cNvSpPr/>
            <p:nvPr/>
          </p:nvSpPr>
          <p:spPr>
            <a:xfrm>
              <a:off x="6629400" y="594360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7" descr=""/>
            <p:cNvPicPr/>
            <p:nvPr/>
          </p:nvPicPr>
          <p:blipFill>
            <a:blip r:embed="rId2"/>
            <a:stretch/>
          </p:blipFill>
          <p:spPr>
            <a:xfrm>
              <a:off x="6629400" y="5943600"/>
              <a:ext cx="1600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$M</dc:creator>
  <dc:description/>
  <dc:language>en-US</dc:language>
  <cp:lastModifiedBy>Viktorija Proskurovska</cp:lastModifiedBy>
  <dcterms:modified xsi:type="dcterms:W3CDTF">2009-12-07T09:12:38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