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D49D-17C8-40ED-BDED-022BCD7F44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E2F2-5BC7-4EFC-8B0C-26FEB82C0F3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634E-F9CB-43AA-BB62-E50261AE9DB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ED6C-5675-4439-B723-7ECD53562F6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7640-996C-43F0-BFAB-810F2B90869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E2FC-5E6F-47C8-ADCF-1095F7BFCFF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0F24-B8B3-4611-B8B6-33F8D6C90CC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563F-E035-4957-93B0-44781BD807E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F099-BE61-4ADB-B837-48664E5F5BD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06C2-F0DA-4BC7-9B63-D4907E112BD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F3B7-72E0-4C3B-8382-D953AB79FE9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35F8-6AD6-4520-8482-BC1630CFF98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749F-A490-40DD-AB9B-2AC20138125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6589-4C85-4AF7-B45C-E1C286F8B05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8F66-2349-4F3D-989F-299CC246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7BC-B2AC-4D08-B560-F5E9832C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7A4-E8B4-47CD-95A2-ADEE19A8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36A-4766-45EB-983F-17E66A3D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C154-BCFC-4CB2-9D5C-059E972B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61E2-6533-48D8-B2E5-FD25CFA0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F851-A4A7-459B-9554-F0180A4F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0A48-91F0-4D64-B5AD-E76049D6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8E42-47DC-4DC8-939F-F5736BAF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9224-2A08-4E3A-8806-46CA4DD8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9B28-DCE1-499C-BA18-F062F0BD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E20F-19A4-4136-A8F5-5DDEF240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E119-934C-4EA2-AAD0-2FF95B66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A24D-51AF-4519-B34C-7EC18B00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CA05-8C5D-4D66-8D0C-7EEC7009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3858-58DD-4758-A739-5A298372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692F-3E4F-49FF-9B53-41975DA5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171-32D4-4C36-85D9-761E724F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83DE-D024-4B61-89CC-74EE4E98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01BA-839D-43AF-8977-489CD039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2615-D0AD-47C6-89C0-33A247B8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E8D-B249-47BD-ADBE-5C60E9D9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AF3-B944-424F-888C-14FE595D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81B-A263-4530-BB90-3655707D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05D5-6BFF-4298-B536-430908BED0F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A905-0ED7-42CE-8CC5-AB9BFDBF2D3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8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russels, 3 December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PA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9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sult of a EC consultation shows that a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end-dat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o the process of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migration to SEPA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s required. Migration to SEPA is irreversibl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800"/>
            </a:b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Bank account switching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ithin a MS is made easier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EPA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Direct Debit Schem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for EU MS) becomes eff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A35A-5C32-49C5-998E-729DAFA787A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55F0-1A81-4AC2-BD40-BC04BB948E1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4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nsultation on the IFRS for S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of audit working papers between MSs and Canada, Japan and Switzerland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Need to remove barriers to entry for audit firm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ossible adoption of international standards for statutory audit of EU compani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Financial Reporting and Taxation 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197B-3E0F-4557-95B6-CC031939ED7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oval of barriers to entry for audit firm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7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published a summary of the consultati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on control structures in audit firms and their consequences on the audit market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udy,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conclude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ll potential barriers to the entry, growth and survival of audit firms in the international audit market must be removed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urrent rules are not indispensable in order to retain human capital.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 number of other</a:t>
            </a:r>
            <a:r>
              <a:rPr b="1" lang="en-GB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arriers to increasing the number of audit firms operating on the international market were identified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39EB-9A32-4CEE-A135-AC177EB9D59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6739-F1FC-4A28-BBCC-E190A375833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2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anking Regulation and Supervis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and Securit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tail Financial Services and Paymen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11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inancial Reporting and Tax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4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ar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ll EU legislative initiatives in the past period have been related to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untering the causes of the current financial crisi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rectly or indirectly, most of the legislative initiative have a European and ofte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nationa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scop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 this Presentation: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focus on one issue per theme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or more detail, see the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mplete set of initiative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to be circulated after meeting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F3F9-DD4F-4147-9452-3E7A5EB0345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9DA1-D149-4D80-96E0-7430DF7A947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6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financial supervision in Europ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New EU Framework for Crisis Management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rengthened rules on bank capital and on remuneration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hanges to the Capital Requirements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view of the Financial Conglomerates Dir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Banking Regulation &amp; Supervision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91FD-9FA4-4904-AF9C-2744AE6C19A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Supervis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3-Sep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package of draft legislation to strengthen supervision of the financial sector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legislation will create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Boar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RB) an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FS), to be established by end-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6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dditional legislative proposals targeted to change existing financial services legislation to ensure that the new Authorities can work effectively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B028-0E11-473A-921E-6622C9B9631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7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safety of derivatives market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afer European market for credit default swap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rivatives in crisis – Safeguarding Financial Stability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d tape reduction and improvement of investor protec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udy on trading and post-trading prices, costs and volu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ublic consultation on the UCITS depositary function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Financial Markets &amp; Securitie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A95A-F086-4B95-B081-2FC956F2850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afety of derivatives marke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0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fter a stakeholder Consultation launched in Jul-09 and the public hearing in Sept-09, EC adopte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munication for ensuring efficient, safe and sound derivatives market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The Communication sets out future policy actions to: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increase transparenc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of the derivatives market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reduce counterparty and operational risk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in trading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enhance market integrit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oversight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EC will start a process of drafting legislation, notably by launching impact assessments, and come forward with legislative proposals in 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7715-0EB9-4464-8AF3-4ECFFBFE2EF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11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Consumers to start benefiting from easier bank account switching from Nov-09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SEPA – Cross-Border Payments Now A Reality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Possible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General support for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Actions to make SEPA a succes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Technical Workshop on Packaged Retail Investment Product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access to a basic bank account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lternative dispute resolution (ADR) in the area of financial service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Report on the financial crisis and financial educ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responsible lending and borrowing in the EU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xpert group report on credit historie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Retail Financial Services &amp; Payment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98DF-822E-4D83-AE58-BA02501CE2B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EPA Roadmap for 2009-2012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0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adopted a Communication 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pleting SEPA: a Roadmap for 2009-2012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mmunication provides a framework for action within six priority area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oster migr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Increase SEPA awareness and promote SEPA product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Design a sound legal environment and strengthen SEPA compli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Promote innov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e necessary standardisation, interoperability and security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Clarify and improve SEPA govern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Viktorija Proskurovska</cp:lastModifiedBy>
  <dcterms:modified xsi:type="dcterms:W3CDTF">2009-12-02T11:23:45Z</dcterms:modified>
  <cp:revision>197</cp:revision>
  <dc:subject/>
  <dc:title>Latest developments in the EU legislation on financial services</dc:title>
</cp:coreProperties>
</file>