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4008-5E8A-4113-A3D9-CCDE619445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4DC4-6F0E-4FFA-9963-CCE7BE52F8A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1B47-7D6E-49CB-AD0F-A7D7A691C5F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EDB5-3A9B-4CE7-B483-7F8B6042627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B37A-2618-4927-B7B4-6E316E2F97D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9D19-1469-4E2E-BB12-65A596ECA50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DD99-08D7-4FE6-BD88-B6197EECF4E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76EC-2544-413F-8933-CE63F3FB9B4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19BB-8792-4ED1-A4F2-925C50F6719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C068-CD28-46A9-8962-14C4D49EBCB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AF7A-D664-467B-B410-F21AF15B556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8282-8F83-459B-888B-9B33D362075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6627-DDFF-4FA4-BF9B-BA88AC0A7C5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47D7-FF19-43CB-BDEE-35639AE91B4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5546-3104-4D5F-B0C2-A001E4B8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9FEA-4E63-46AA-BDDB-ED3AFF00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C0A9-8F4D-45CC-A113-7A7273ED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570E-F3C1-4F34-A8C4-20F40F25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D726-44E9-433F-84A8-3C05E236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20EE-9A30-48EF-B769-2BB7E0A6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3890-FAA3-40C7-A46A-D2159825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9B81-9AD4-4625-9B8B-40496F09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E653-CF99-43FC-A357-497D727D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3A8C-4BB2-4215-A353-46109AD4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F584-DC35-4AEA-AEC1-515EE2CB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38A6-F3CE-4D96-864F-5D084E4E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23B9-31F4-4C15-9F12-9BFB86AA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6B08-2ABD-42DD-BD30-0F42379E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17AB-8D56-443B-BF1B-2AEF0B47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20E4-8777-41E6-A5E2-0E84B460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8570-0FDD-4EB3-A1E8-0F36FD6C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4DDA-5C43-4A16-8AD1-D0C866C0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5986-E0A5-42B5-A2D1-5E2C6159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147A-1B1E-44FE-9C5E-49EF4AB6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F36D-3820-48BB-AFE1-A3651AB9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C909-5A58-4EC5-ADF7-A5DBAA6C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C74E-EF93-4642-9C73-433E394E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9584-E2ED-4BAC-8C9E-BEB54937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58A6-9CFC-4EAF-9994-2948FF0B332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5AB0-AE21-4926-A9A8-BF628B7C159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8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russels, 3 December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PA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9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sult of a EC consultation shows that a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end-dat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o the process of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migration to SEPA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s required. Migration to SEPA is irreversibl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800"/>
            </a:b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Bank account switching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ithin a MS is made easier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EPA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Direct Debit Schem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for EU MS) becomes eff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E3AD-DF39-4BBA-83CC-DBDB0E68955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C0FF-61DF-4464-BEBD-9347DDDBC91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4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nsultation on the IFRS for S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of audit working papers between MSs and Canada, Japan and Switzerland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Need to remove barriers to entry for audit firm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ossible adoption of international standards for statutory audit of EU compani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Financial Reporting and Taxation 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BBF2-A548-4BF1-BCF8-26740464D32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oval of barriers to entry for audit firm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7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published a summary of the consultati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on control structures in audit firms and their consequences on the audit market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udy,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conclude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ll potential barriers to the entry, growth and survival of audit firms in the international audit market must be removed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urrent rules are not indispensable in order to retain human capital.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 number of other</a:t>
            </a:r>
            <a:r>
              <a:rPr b="1" lang="en-GB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arriers to increasing the number of audit firms operating on the international market were identified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DE1A-18A4-40EB-8127-0051DA4467B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0B80-4A84-4891-8E5F-511D95231EE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2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anking Regulation and Supervis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and Securit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tail Financial Services and Paymen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11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inancial Reporting and Tax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4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ar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ll EU legislative initiatives in the past period have been related to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untering the causes of the current financial crisi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rectly or indirectly, most of the legislative initiative have a European and ofte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nationa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scop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 this Presentation: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focus on one issue per theme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or more detail, see the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mplete set of initiative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to be circulated after meeting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95FE-27F9-4BC7-9251-35B4C14BDF1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94D5-642E-451C-B03E-7577A6DB4B3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6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financial supervision in Europ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New EU Framework for Crisis Management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rengthened rules on bank capital and on remuneration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hanges to the Capital Requirements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view of the Financial Conglomerates Dir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Banking Regulation &amp; Supervision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B32C-F57A-458D-9025-C901635063C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Supervis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3-Sep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package of draft legislation to strengthen supervision of the financial sector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legislation will create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Boar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RB) an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FS), to be established by end-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6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dditional legislative proposals targeted to change existing financial services legislation to ensure that the new Authorities can work effectively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EEA8-1D14-45A2-9017-610471994B9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7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safety of derivatives market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afer European market for credit default swap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rivatives in crisis – Safeguarding Financial Stability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d tape reduction and improvement of investor protec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udy on trading and post-trading prices, costs and volu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ublic consultation on the UCITS depositary function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Financial Markets &amp; Securitie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D6C4-A112-40CB-9DD3-2E90031E7C5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afety of derivatives marke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0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fter a stakeholder Consultation launched in Jul-09 and the public hearing in Sept-09, EC adopte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munication for ensuring efficient, safe and sound derivatives market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The Communication sets out future policy actions to: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increase transparenc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of the derivatives market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reduce counterparty and operational risk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in trading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enhance market integrit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oversight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EC will start a process of drafting legislation, notably by launching impact assessments, and come forward with legislative proposals in 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4BC2-2AC4-4114-9FBC-65374535DB8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11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Consumers to start benefiting from easier bank account switching from Nov-09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SEPA – Cross-Border Payments Now A Reality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Possible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General support for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Actions to make SEPA a succes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Technical Workshop on Packaged Retail Investment Product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access to a basic bank account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lternative dispute resolution (ADR) in the area of financial service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Report on the financial crisis and financial educ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responsible lending and borrowing in the EU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xpert group report on credit historie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Retail Financial Services &amp; Payment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84EC-84D2-439C-ACAB-C3B5DB0B5D3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EPA Roadmap for 2009-2012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0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adopted a Communication 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pleting SEPA: a Roadmap for 2009-2012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mmunication provides a framework for action within six priority area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oster migr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Increase SEPA awareness and promote SEPA product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Design a sound legal environment and strengthen SEPA compli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Promote innov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e necessary standardisation, interoperability and security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Clarify and improve SEPA govern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Viktorija Proskurovska</cp:lastModifiedBy>
  <dcterms:modified xsi:type="dcterms:W3CDTF">2009-12-02T11:23:45Z</dcterms:modified>
  <cp:revision>197</cp:revision>
  <dc:subject/>
  <dc:title>Latest developments in the EU legislation on financial services</dc:title>
</cp:coreProperties>
</file>