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0EFE-2185-45C8-9BA1-6EC39B7DE7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3FB2-C1CF-4F26-A96B-F988290DBD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F63C-9F4F-4A7E-B4CB-5F9590F989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726B-3A51-43E7-B42B-6E75C5C37F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9025-9FB5-44B7-B6EA-79FAF99ABE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FC63-077B-4E70-9C1B-CB812DC13D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1CEB-BE72-4845-9484-27142A71BC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39BE-4981-49BB-B962-9800C7F4EF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E088-E100-4633-9D99-2BA4D6117F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F814-ECF8-42C3-86E8-371FA61D79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0A7C-A44D-43B8-ACD1-118EA2DCFF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83A6-1E3B-4B4C-937B-8667016968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D094-9169-44B0-B125-E6284CC357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7486-D96D-401D-8048-3BA864340B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5795-EEB3-4135-B3C9-D678ABB297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792F-F76D-4F8B-A04E-27AA37FC50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C4447-8B27-4CAD-8B35-43214889E6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2EEE9-C03A-49E5-B61D-20A42D5EFC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593CD-7AEA-4F84-8740-5BF824836B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D0D0A-88B0-485F-B6ED-CED2EEFC9A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B338F-97F9-4073-8EBC-8BA224C10D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DAB2E-21FF-434F-8FE7-38B9397971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97156-0722-4488-83F6-386D266259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F249F-181A-4997-B375-C9E7F90E9A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89E06-2592-43F6-B31D-310F8B1460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4200" y="428400"/>
            <a:ext cx="8715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D0C3B-F846-4BDD-8EC8-644FCD975D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9FDC0-213B-4C9E-BB7A-7528A393D7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6BE26-0D21-48CF-9127-65A6ED9474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35F61-4243-427E-AC31-F52BF352F1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DC38E-39D1-474B-9466-708A1582A4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B8FB2-E4E5-44FB-A7D5-6BCE1F1559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BC7BE-9378-4F84-BC5B-2E0336E5F1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29C3A-E74E-40C4-AD01-D0A836C47D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46144-937A-4D4B-9008-792B1996DA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A930F-98E2-411C-90F5-4D348E0CB6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430BD-52C1-40FA-9FD0-CEE3AC757A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14200" y="428400"/>
            <a:ext cx="8715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7655C-0761-496A-B371-02BE873BBC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3B31C-8211-4F70-8ECA-B9451A83AC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C3FAA-48D7-4F98-A458-671A24CC53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69B1F-EFCD-4C37-B184-204B18F210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7375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ABD3-336D-4D4C-B14C-18E2220A2B08}" type="slidenum">
              <a:rPr b="0" lang="ru-RU" sz="12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ldNum" idx="2"/>
          </p:nvPr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7375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1ECA-446B-4F86-BB69-68E7788E45C0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802944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Verdana"/>
              </a:rPr>
              <a:t>RUSSIAN ECONOMY AND BANKING SECTOR IN THE CONTEXT OF CRISIS</a:t>
            </a:r>
            <a:endParaRPr b="1" lang="en-US" sz="32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13880" y="442872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Verdana"/>
              </a:rPr>
              <a:t>Oleg Preks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Verdana"/>
              </a:rPr>
              <a:t>D</a:t>
            </a:r>
            <a:r>
              <a:rPr b="1" lang="ru-RU" sz="2000" spc="-1" strike="noStrike">
                <a:solidFill>
                  <a:srgbClr val="595959"/>
                </a:solidFill>
                <a:latin typeface="Verdana"/>
              </a:rPr>
              <a:t>ecember</a:t>
            </a:r>
            <a:r>
              <a:rPr b="1" lang="en-US" sz="2000" spc="-1" strike="noStrike">
                <a:solidFill>
                  <a:srgbClr val="595959"/>
                </a:solidFill>
                <a:latin typeface="Verdana"/>
              </a:rPr>
              <a:t>, 200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434880"/>
            <a:ext cx="91440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real source of inflation in Russia is not the growth of the credit marke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5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97C0-5A29-47E7-9CCB-6BCEFBFCC471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Содержимое 4" descr=""/>
          <p:cNvPicPr/>
          <p:nvPr/>
        </p:nvPicPr>
        <p:blipFill>
          <a:blip r:embed="rId1"/>
          <a:stretch/>
        </p:blipFill>
        <p:spPr>
          <a:xfrm>
            <a:off x="5000760" y="1428840"/>
            <a:ext cx="4000320" cy="5286240"/>
          </a:xfrm>
          <a:prstGeom prst="rect">
            <a:avLst/>
          </a:prstGeom>
          <a:ln w="0">
            <a:noFill/>
          </a:ln>
        </p:spPr>
      </p:pic>
      <p:pic>
        <p:nvPicPr>
          <p:cNvPr id="127" name="Содержимое 4" descr=""/>
          <p:cNvPicPr/>
          <p:nvPr/>
        </p:nvPicPr>
        <p:blipFill>
          <a:blip r:embed="rId2"/>
          <a:stretch/>
        </p:blipFill>
        <p:spPr>
          <a:xfrm>
            <a:off x="142920" y="1428840"/>
            <a:ext cx="47149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9800" y="420480"/>
            <a:ext cx="87152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Russia undertakes significant </a:t>
            </a:r>
            <a:br>
              <a:rPr sz="2400"/>
            </a:b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economic recovery measures</a:t>
            </a:r>
            <a:r>
              <a:rPr b="1" lang="ru-RU" sz="2400" spc="-1" strike="noStrike">
                <a:solidFill>
                  <a:srgbClr val="376092"/>
                </a:solidFill>
                <a:latin typeface="Verdana"/>
              </a:rPr>
              <a:t> …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9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01C9-175D-421A-B8BA-9717C2A2EC0F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Содержимое 4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4429080" cy="5357880"/>
          </a:xfrm>
          <a:prstGeom prst="rect">
            <a:avLst/>
          </a:prstGeom>
          <a:ln w="0">
            <a:noFill/>
          </a:ln>
        </p:spPr>
      </p:pic>
      <p:pic>
        <p:nvPicPr>
          <p:cNvPr id="131" name="Содержимое 4" descr=""/>
          <p:cNvPicPr/>
          <p:nvPr/>
        </p:nvPicPr>
        <p:blipFill>
          <a:blip r:embed="rId2"/>
          <a:stretch/>
        </p:blipFill>
        <p:spPr>
          <a:xfrm>
            <a:off x="4714920" y="1285920"/>
            <a:ext cx="42861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Verdana"/>
              </a:rPr>
              <a:t>… </a:t>
            </a: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but</a:t>
            </a:r>
            <a:r>
              <a:rPr b="1" lang="ru-RU" sz="2400" spc="-1" strike="noStrike">
                <a:solidFill>
                  <a:srgbClr val="37609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most multiplicative way of stimulating the economic activity is being used weakly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33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8784-66B1-4F0E-A5E7-8A83CDFADF9D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Диаграмма 3" descr=""/>
          <p:cNvPicPr/>
          <p:nvPr/>
        </p:nvPicPr>
        <p:blipFill>
          <a:blip r:embed="rId1"/>
          <a:stretch/>
        </p:blipFill>
        <p:spPr>
          <a:xfrm>
            <a:off x="0" y="1357200"/>
            <a:ext cx="4643280" cy="2857680"/>
          </a:xfrm>
          <a:prstGeom prst="rect">
            <a:avLst/>
          </a:prstGeom>
          <a:ln w="0">
            <a:noFill/>
          </a:ln>
        </p:spPr>
      </p:pic>
      <p:pic>
        <p:nvPicPr>
          <p:cNvPr id="135" name="Диаграмма 4" descr=""/>
          <p:cNvPicPr/>
          <p:nvPr/>
        </p:nvPicPr>
        <p:blipFill>
          <a:blip r:embed="rId2"/>
          <a:stretch/>
        </p:blipFill>
        <p:spPr>
          <a:xfrm>
            <a:off x="4524480" y="1428840"/>
            <a:ext cx="4619520" cy="27144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6"/>
          <p:cNvSpPr/>
          <p:nvPr/>
        </p:nvSpPr>
        <p:spPr>
          <a:xfrm>
            <a:off x="3085560" y="4214880"/>
            <a:ext cx="2143800" cy="337320"/>
          </a:xfrm>
          <a:prstGeom prst="rect">
            <a:avLst/>
          </a:prstGeom>
          <a:noFill/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rastructure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7"/>
          <p:cNvSpPr/>
          <p:nvPr/>
        </p:nvSpPr>
        <p:spPr>
          <a:xfrm>
            <a:off x="200160" y="4818240"/>
            <a:ext cx="8715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ese recovery plan is aimed at developing infrastructur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mean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on of job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al multiplication effec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ation of other branches of econom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ation of demand for primary good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9"/>
          <p:cNvSpPr/>
          <p:nvPr/>
        </p:nvSpPr>
        <p:spPr>
          <a:xfrm>
            <a:off x="4071960" y="3286080"/>
            <a:ext cx="85680" cy="9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13"/>
          <p:cNvSpPr/>
          <p:nvPr/>
        </p:nvSpPr>
        <p:spPr>
          <a:xfrm flipV="1">
            <a:off x="5243400" y="3714480"/>
            <a:ext cx="218628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emporary price rise on raw materials </a:t>
            </a:r>
            <a:br>
              <a:rPr sz="2400"/>
            </a:b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is not a way out of the crisis for Russia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41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44BC-E655-4D99-9CF3-7C3D87A35213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0" y="1433520"/>
            <a:ext cx="521496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hinese demand for raw materials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s caused by major recovery measures aimed at developing infrastructure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hina will hardly continue to build up raw material reserves at growing prices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143680" y="1228680"/>
          <a:ext cx="3857400" cy="2468520"/>
        </p:xfrm>
        <a:graphic>
          <a:graphicData uri="http://schemas.openxmlformats.org/drawingml/2006/table">
            <a:tbl>
              <a:tblPr/>
              <a:tblGrid>
                <a:gridCol w="2016000"/>
                <a:gridCol w="1841400"/>
              </a:tblGrid>
              <a:tr h="6426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are of China in the global consumption in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ude o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umin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4" name="Object 7" descr=""/>
          <p:cNvPicPr/>
          <p:nvPr/>
        </p:nvPicPr>
        <p:blipFill>
          <a:blip r:embed="rId1"/>
          <a:stretch/>
        </p:blipFill>
        <p:spPr>
          <a:xfrm>
            <a:off x="214200" y="3786120"/>
            <a:ext cx="87314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Verdana"/>
              </a:rPr>
              <a:t>Mortgage market in Russia &amp; other countries</a:t>
            </a:r>
            <a:endParaRPr b="1" lang="en-US" sz="22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46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08BD-7BC0-4B91-B543-7D782B3935F4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Содержимое 4" descr=""/>
          <p:cNvPicPr/>
          <p:nvPr/>
        </p:nvPicPr>
        <p:blipFill>
          <a:blip r:embed="rId1"/>
          <a:stretch/>
        </p:blipFill>
        <p:spPr>
          <a:xfrm>
            <a:off x="142920" y="1214280"/>
            <a:ext cx="3286080" cy="2786400"/>
          </a:xfrm>
          <a:prstGeom prst="rect">
            <a:avLst/>
          </a:prstGeom>
          <a:ln w="0">
            <a:noFill/>
          </a:ln>
        </p:spPr>
      </p:pic>
      <p:pic>
        <p:nvPicPr>
          <p:cNvPr id="148" name="Содержимое 4" descr=""/>
          <p:cNvPicPr/>
          <p:nvPr/>
        </p:nvPicPr>
        <p:blipFill>
          <a:blip r:embed="rId2"/>
          <a:stretch/>
        </p:blipFill>
        <p:spPr>
          <a:xfrm>
            <a:off x="3571920" y="1214280"/>
            <a:ext cx="5357880" cy="5500800"/>
          </a:xfrm>
          <a:prstGeom prst="rect">
            <a:avLst/>
          </a:prstGeom>
          <a:ln w="0">
            <a:noFill/>
          </a:ln>
        </p:spPr>
      </p:pic>
      <p:pic>
        <p:nvPicPr>
          <p:cNvPr id="149" name="Диаграмма 5" descr=""/>
          <p:cNvPicPr/>
          <p:nvPr/>
        </p:nvPicPr>
        <p:blipFill>
          <a:blip r:embed="rId3"/>
          <a:stretch/>
        </p:blipFill>
        <p:spPr>
          <a:xfrm>
            <a:off x="142920" y="4071960"/>
            <a:ext cx="32860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2920" y="713880"/>
            <a:ext cx="46432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re are many objects of great value to man which cannot be attained by unconnected individuals, but must be attained, if attained at all, by association. </a:t>
            </a:r>
            <a:br>
              <a:rPr sz="2400"/>
            </a:br>
            <a:br>
              <a:rPr sz="2400"/>
            </a:br>
            <a:r>
              <a:rPr b="1" i="1" lang="en-US" sz="1800" spc="-1" strike="noStrike">
                <a:solidFill>
                  <a:srgbClr val="376092"/>
                </a:solidFill>
                <a:latin typeface="Verdana"/>
              </a:rPr>
              <a:t>Daniel Webster</a:t>
            </a:r>
            <a:r>
              <a:rPr b="1" i="1" lang="ru-RU" sz="1800" spc="-1" strike="noStrike">
                <a:solidFill>
                  <a:srgbClr val="376092"/>
                </a:solidFill>
                <a:latin typeface="Verdana"/>
              </a:rPr>
              <a:t> (1782-1852), </a:t>
            </a:r>
            <a:br>
              <a:rPr sz="1800"/>
            </a:br>
            <a:r>
              <a:rPr b="1" i="1" lang="en-US" sz="1800" spc="-1" strike="noStrike">
                <a:solidFill>
                  <a:srgbClr val="376092"/>
                </a:solidFill>
                <a:latin typeface="Verdana"/>
              </a:rPr>
              <a:t>United States Secretary of State</a:t>
            </a:r>
            <a:endParaRPr b="1" lang="en-US" sz="1800" spc="-1" strike="noStrike">
              <a:solidFill>
                <a:srgbClr val="376092"/>
              </a:solidFill>
              <a:latin typeface="Verdana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072040" y="692280"/>
            <a:ext cx="3571920" cy="39510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3"/>
          <p:cNvSpPr/>
          <p:nvPr/>
        </p:nvSpPr>
        <p:spPr>
          <a:xfrm>
            <a:off x="5286240" y="5143680"/>
            <a:ext cx="32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on of Russian B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7 (495) 690-22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Highlights of the Russian banking system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87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1DAB-9C32-41CB-BE99-94647590D61F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14200" y="1285920"/>
          <a:ext cx="8715600" cy="5429160"/>
        </p:xfrm>
        <a:graphic>
          <a:graphicData uri="http://schemas.openxmlformats.org/drawingml/2006/table">
            <a:tbl>
              <a:tblPr/>
              <a:tblGrid>
                <a:gridCol w="3000600"/>
                <a:gridCol w="1000080"/>
                <a:gridCol w="1000080"/>
                <a:gridCol w="1143000"/>
                <a:gridCol w="1285920"/>
                <a:gridCol w="1285920"/>
              </a:tblGrid>
              <a:tr h="106344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tor,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. ru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.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s over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s over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349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ks’ 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2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19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0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44928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ks’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7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1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42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7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5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loan portfol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25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8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8,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9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44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verdu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6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2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127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porate lo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0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0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4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verdu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6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1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209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169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47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l lo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7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1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1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5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verdu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4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3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56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l depos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5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0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0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4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3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47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porate depos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5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7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3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24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6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ban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E411-1C64-4B14-9B2A-FA98AE376EEA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82440" y="1482840"/>
          <a:ext cx="8929800" cy="4875120"/>
        </p:xfrm>
        <a:graphic>
          <a:graphicData uri="http://schemas.openxmlformats.org/drawingml/2006/table">
            <a:tbl>
              <a:tblPr/>
              <a:tblGrid>
                <a:gridCol w="457200"/>
                <a:gridCol w="4246560"/>
                <a:gridCol w="685800"/>
                <a:gridCol w="633600"/>
                <a:gridCol w="620640"/>
                <a:gridCol w="744480"/>
                <a:gridCol w="755640"/>
                <a:gridCol w="785880"/>
              </a:tblGrid>
              <a:tr h="282600">
                <a:tc gridSpan="2" rowSpan="2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O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%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 THE CORRESPONDING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RIO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F THE PREVIOUS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440">
                      <a:solidFill>
                        <a:srgbClr val="bfbfbf"/>
                      </a:solidFill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1440">
                      <a:solidFill>
                        <a:srgbClr val="bfbfbf"/>
                      </a:solidFill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12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1440">
                      <a:solidFill>
                        <a:srgbClr val="bfbfbf"/>
                      </a:solidFill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p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ustrial outp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ight turnov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stments in fixed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ail turno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mer price 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cember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56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ustrial goods’ producer price index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cember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56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employment rat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%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economically active populatio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 period’s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 disposable money in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ort of go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4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 which oil ex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ort of go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4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15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Deterioration of major macroeconomic indicators in Russia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Assets of Russian Banking Sector in Comparison with Other Advanced Economie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93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E79A-0C33-4FD1-A44A-58B3AC6C6C7D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Диаграмма 3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143320" cy="5286240"/>
          </a:xfrm>
          <a:prstGeom prst="rect">
            <a:avLst/>
          </a:prstGeom>
          <a:ln w="0">
            <a:noFill/>
          </a:ln>
        </p:spPr>
      </p:pic>
      <p:pic>
        <p:nvPicPr>
          <p:cNvPr id="95" name="Диаграмма 4" descr=""/>
          <p:cNvPicPr/>
          <p:nvPr/>
        </p:nvPicPr>
        <p:blipFill>
          <a:blip r:embed="rId2"/>
          <a:stretch/>
        </p:blipFill>
        <p:spPr>
          <a:xfrm>
            <a:off x="5429160" y="1285920"/>
            <a:ext cx="35719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Russia feels deficit for long-term resource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97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FA96-7F7D-4570-AF10-CD7A711BF351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Диаграмма 3" descr=""/>
          <p:cNvPicPr/>
          <p:nvPr/>
        </p:nvPicPr>
        <p:blipFill>
          <a:blip r:embed="rId1"/>
          <a:stretch/>
        </p:blipFill>
        <p:spPr>
          <a:xfrm>
            <a:off x="142920" y="1616040"/>
            <a:ext cx="4357800" cy="5143680"/>
          </a:xfrm>
          <a:prstGeom prst="rect">
            <a:avLst/>
          </a:prstGeom>
          <a:ln w="0">
            <a:noFill/>
          </a:ln>
        </p:spPr>
      </p:pic>
      <p:pic>
        <p:nvPicPr>
          <p:cNvPr id="99" name="Диаграмма 5" descr=""/>
          <p:cNvPicPr/>
          <p:nvPr/>
        </p:nvPicPr>
        <p:blipFill>
          <a:blip r:embed="rId2"/>
          <a:stretch/>
        </p:blipFill>
        <p:spPr>
          <a:xfrm>
            <a:off x="4643280" y="1616040"/>
            <a:ext cx="43578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old model of Russian economy</a:t>
            </a:r>
            <a:br>
              <a:rPr sz="2400"/>
            </a:b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does not work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01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9865-9E99-4E5D-BCD4-0E7C5A6F55EB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Содержимое 4" descr=""/>
          <p:cNvPicPr/>
          <p:nvPr/>
        </p:nvPicPr>
        <p:blipFill>
          <a:blip r:embed="rId1"/>
          <a:stretch/>
        </p:blipFill>
        <p:spPr>
          <a:xfrm>
            <a:off x="109440" y="2541600"/>
            <a:ext cx="4608720" cy="42609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5"/>
          <p:cNvSpPr/>
          <p:nvPr/>
        </p:nvSpPr>
        <p:spPr>
          <a:xfrm>
            <a:off x="128520" y="1157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del of Russian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cr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5232600" y="12142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w model of R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трелка вниз 7"/>
          <p:cNvSpPr/>
          <p:nvPr/>
        </p:nvSpPr>
        <p:spPr>
          <a:xfrm>
            <a:off x="1782720" y="2286000"/>
            <a:ext cx="12146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17375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8"/>
          <p:cNvSpPr/>
          <p:nvPr/>
        </p:nvSpPr>
        <p:spPr>
          <a:xfrm>
            <a:off x="214200" y="1857240"/>
            <a:ext cx="4500720" cy="4287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igh oil prices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(80-120 $/bb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Схема 9" descr=""/>
          <p:cNvPicPr/>
          <p:nvPr/>
        </p:nvPicPr>
        <p:blipFill>
          <a:blip r:embed="rId2"/>
          <a:stretch/>
        </p:blipFill>
        <p:spPr>
          <a:xfrm>
            <a:off x="5065560" y="1944720"/>
            <a:ext cx="4084920" cy="42069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1" descr="noentry.gif"/>
          <p:cNvPicPr/>
          <p:nvPr/>
        </p:nvPicPr>
        <p:blipFill>
          <a:blip r:embed="rId3"/>
          <a:stretch/>
        </p:blipFill>
        <p:spPr>
          <a:xfrm>
            <a:off x="3228840" y="3309840"/>
            <a:ext cx="1262160" cy="1262160"/>
          </a:xfrm>
          <a:prstGeom prst="rect">
            <a:avLst/>
          </a:prstGeom>
          <a:ln w="0">
            <a:noFill/>
          </a:ln>
        </p:spPr>
      </p:pic>
      <p:sp>
        <p:nvSpPr>
          <p:cNvPr id="109" name="Штриховая стрелка вправо 12"/>
          <p:cNvSpPr/>
          <p:nvPr/>
        </p:nvSpPr>
        <p:spPr>
          <a:xfrm rot="5400000">
            <a:off x="3000240" y="2000160"/>
            <a:ext cx="1785960" cy="1071360"/>
          </a:xfrm>
          <a:prstGeom prst="pie">
            <a:avLst/>
          </a:prstGeom>
          <a:solidFill>
            <a:srgbClr val="0d0d0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Стрелка вверх 13" descr=""/>
          <p:cNvPicPr/>
          <p:nvPr/>
        </p:nvPicPr>
        <p:blipFill>
          <a:blip r:embed="rId4"/>
          <a:stretch/>
        </p:blipFill>
        <p:spPr>
          <a:xfrm>
            <a:off x="4157640" y="2584440"/>
            <a:ext cx="133524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mph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950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redibility comes back to Ruble slowly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12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3697-4F67-43B7-A991-B857EC64AC99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Заголовок 1"/>
          <p:cNvSpPr/>
          <p:nvPr/>
        </p:nvSpPr>
        <p:spPr>
          <a:xfrm>
            <a:off x="214200" y="1357200"/>
            <a:ext cx="4000680" cy="5286600"/>
          </a:xfrm>
          <a:prstGeom prst="rect">
            <a:avLst/>
          </a:prstGeom>
          <a:solidFill>
            <a:srgbClr val="f2f2f2"/>
          </a:solidFill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other countries are keen on buying foreign currencies if the national currency devalu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ing the “mild” d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$ 46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n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ve been bought by population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re is agiotage demand on rubles, despite its strength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urthermore, the demand on foreign currencies is ri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Содержимое 4" descr=""/>
          <p:cNvPicPr/>
          <p:nvPr/>
        </p:nvPicPr>
        <p:blipFill>
          <a:blip r:embed="rId1"/>
          <a:stretch/>
        </p:blipFill>
        <p:spPr>
          <a:xfrm>
            <a:off x="4357800" y="1357200"/>
            <a:ext cx="457200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3840" y="428400"/>
            <a:ext cx="85726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Banks need to be recapitalized, because of the growth of delinquent loan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16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C146-3136-45B2-82A3-3F386010891A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Диаграмма 3" descr=""/>
          <p:cNvPicPr/>
          <p:nvPr/>
        </p:nvPicPr>
        <p:blipFill>
          <a:blip r:embed="rId1"/>
          <a:stretch/>
        </p:blipFill>
        <p:spPr>
          <a:xfrm>
            <a:off x="0" y="1357200"/>
            <a:ext cx="6215040" cy="528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6215040" y="1681200"/>
          <a:ext cx="2928960" cy="3784680"/>
        </p:xfrm>
        <a:graphic>
          <a:graphicData uri="http://schemas.openxmlformats.org/drawingml/2006/table">
            <a:tbl>
              <a:tblPr/>
              <a:tblGrid>
                <a:gridCol w="1527120"/>
                <a:gridCol w="140184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essments of the volume of delinquent loans by the end of 2009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 credit portfol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&amp;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-3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 to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-ba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-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dit Suis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15% 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ody´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-17%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B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fin 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growth of delinquent loans is accompanied by reduction of credit activity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0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CA17-8F2C-4478-9DBD-C68912DF706F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Диаграмма 4" descr=""/>
          <p:cNvPicPr/>
          <p:nvPr/>
        </p:nvPicPr>
        <p:blipFill>
          <a:blip r:embed="rId1"/>
          <a:stretch/>
        </p:blipFill>
        <p:spPr>
          <a:xfrm>
            <a:off x="285840" y="1500120"/>
            <a:ext cx="4714920" cy="5000760"/>
          </a:xfrm>
          <a:prstGeom prst="rect">
            <a:avLst/>
          </a:prstGeom>
          <a:ln w="0">
            <a:noFill/>
          </a:ln>
        </p:spPr>
      </p:pic>
      <p:pic>
        <p:nvPicPr>
          <p:cNvPr id="122" name="Object 1" descr=""/>
          <p:cNvPicPr/>
          <p:nvPr/>
        </p:nvPicPr>
        <p:blipFill>
          <a:blip r:embed="rId2"/>
          <a:stretch/>
        </p:blipFill>
        <p:spPr>
          <a:xfrm>
            <a:off x="5000760" y="1428840"/>
            <a:ext cx="3929040" cy="5214960"/>
          </a:xfrm>
          <a:prstGeom prst="rect">
            <a:avLst/>
          </a:prstGeom>
          <a:ln w="0">
            <a:noFill/>
          </a:ln>
        </p:spPr>
      </p:pic>
      <p:sp>
        <p:nvSpPr>
          <p:cNvPr id="123" name="TextBox 6"/>
          <p:cNvSpPr/>
          <p:nvPr/>
        </p:nvSpPr>
        <p:spPr>
          <a:xfrm>
            <a:off x="3600" y="6595920"/>
            <a:ext cx="1296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: CBR, IM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7:16:52Z</dcterms:created>
  <dc:creator>Григорян</dc:creator>
  <dc:description/>
  <dc:language>en-US</dc:language>
  <cp:lastModifiedBy>Serge Grigoryan</cp:lastModifiedBy>
  <dcterms:modified xsi:type="dcterms:W3CDTF">2009-11-30T08:03:28Z</dcterms:modified>
  <cp:revision>971</cp:revision>
  <dc:subject/>
  <dc:title>О деятельности  Ассоциации российских банков  за отчетный период.  Антикризисные меры в финансово-кредитной сфере</dc:title>
</cp:coreProperties>
</file>