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9478-E0ED-4EC2-A1A6-85E4CF700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239E-DAD4-445E-8B3A-93251900741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8C34-AA71-4F5A-88CD-89B5ABDBB06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1015-29AC-4A0D-AB26-00629D154F6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DE09-7F8F-43C9-BE56-B98E7768FFA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2A5C-F6FA-4041-929C-1C9FECF649C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F1F0-9183-46D9-9F10-B546799F11B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9D02-840E-4447-9C70-1BFF4FD6701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CB9-BC39-4335-BAFF-5F79C0BA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CA2-D8F1-4663-96AC-B730FDA1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8A72-68E8-4D0D-A2CD-C2CC6D74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5DC-F4C0-45EF-A0C9-28B41CEF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09D5-FBDE-4730-A665-365DD685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E7D2-22BE-4A79-94F9-D06B9FB9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ABED-5C33-4BFB-B813-5AAE99CE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2D73-BCC9-4C93-B42C-6CDEAFEC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C630-D1AA-4DBF-8A69-CC5DC119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DE0A-09CC-487B-852F-CC2A9D94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53C0-90F6-4284-8E7C-B2F4EB8C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159-2D6C-4907-8216-0ACC298C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ED26-D1A8-4B7B-8A43-E5232E75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9571-5B3F-4D88-B37C-9ECB7931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470C-CC75-4668-8FA6-98388F1A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F18A-FD25-45F0-9CE6-C60E1734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2ED5-4135-42E7-9C36-BFE22C08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C2C-A7DD-40E3-8094-DA6F4373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CFC9-0E1F-43EC-9CE8-BDD61A1B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3BFC-007D-4554-872B-B1B031F3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AA94-9532-4479-8A03-8BD1DD80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59C-59A7-49CE-83A0-D2470272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CA4-8C19-4B92-9208-3B02A225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F0A-3B5F-43AC-B6BA-618B84DC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455A-72E2-4E0B-8903-F64685DD45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8DAE-9175-4E7B-9C30-9901F6FE9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E690-0BF8-44D4-859B-5523CF89AE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A8B3-98E2-48C6-A105-B2FDB5B3AAE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r.wikipedia.org/wiki/Slika:Flag_of_Bosnia_and_Herzegovin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k-map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000000"/>
                </a:solidFill>
                <a:latin typeface="Calibri"/>
              </a:rPr>
              <a:t>Bosnia and Herzegov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4" descr="Zastava Bosne i Hercegov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00160"/>
            <a:ext cx="557208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8954-1F4F-4467-9EB4-F11B7F7ED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3384-AC68-4776-A267-AFE914DED45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igures</a:t>
            </a:r>
            <a:br>
              <a:rPr sz="1100"/>
            </a:br>
            <a:br>
              <a:rPr sz="1100"/>
            </a:b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(in mio KM)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Source: Banking Agencies of FBiH and 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14240" y="1714680"/>
          <a:ext cx="7858440" cy="385740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  <a:gridCol w="1285920"/>
                <a:gridCol w="1285560"/>
                <a:gridCol w="1214640"/>
                <a:gridCol w="857160"/>
                <a:gridCol w="714600"/>
              </a:tblGrid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1.12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6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9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.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2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37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4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ap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75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 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F Stand-by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nna initiative 6+3 (mother banks to keep exposure with B&amp;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protection legislation –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high expectation from banking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able results of first stress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L increased, but still acceptable (2,8% Q2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f income with increased 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– reduced and mor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CD4C-6DC2-4D5A-ADD9-75780103F2C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esent chall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unded in 2004, fu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irst Association on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self funded by member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ll registered banks in full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rganized troug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xecutive Secre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9 Commissions for different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OUR MISSION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improve and develope close cooperation among th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member bank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establish partnership with stat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institutions, supervisors and legislator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Public relations and media communic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Edu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ca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o  cooperate with similar institutions in the countr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31F5-ACF8-4A38-91C0-D22F84228A6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Association of Bosnia and Herzegovina</a:t>
            </a:r>
            <a:br>
              <a:rPr sz="25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file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fully dedicated to the spirit of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membership with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upport and know-how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information and expertise in legislation, good banking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A262-DA45-419B-826B-AA2D102D5D8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 for your conf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D77D-8C76-4F42-A85E-CC6B65B486A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24_05_2006_clip_image002"/>
          <p:cNvPicPr/>
          <p:nvPr/>
        </p:nvPicPr>
        <p:blipFill>
          <a:blip r:embed="rId1"/>
          <a:stretch/>
        </p:blipFill>
        <p:spPr>
          <a:xfrm>
            <a:off x="2928960" y="4214880"/>
            <a:ext cx="2971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70c0"/>
                </a:solidFill>
                <a:latin typeface="Calibri"/>
              </a:rPr>
              <a:t>UBBiH   </a:t>
            </a: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ŽENJE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GA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УДРУЖЕЊЕ БАНАКА БОСНE И ХЕРЦЕГОВИН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NKS ASSOCIATION OF BOSNIA AND HERZEGOVINA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Branilaca Sarajeva 20/III, 71000 Sarajevo, Bosna i Hercegovina, Tel: (387 33) 714 630, Fax: (387 33) 714 631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www.ubbih.ba</a:t>
            </a: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ECONOMY AND BANKING SECTOR  IN  BOSNIA AND HERZEGOVINA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r. Dino Osmanbegović, Presid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5143320"/>
            <a:ext cx="69152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8A35-7DC2-4990-9920-3214FAAC472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43160" y="5929200"/>
            <a:ext cx="407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.  B&amp;H in bri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Macroeconomic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jor Ris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Banking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 Challeng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E343-0031-49BE-97D2-6E4BED0B091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hr-HR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br>
              <a:rPr sz="29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: 3,8 mio (est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: Saraje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51.197 km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cy (€1 = KM1.955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stat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ntities+1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4647-84E5-4D19-881A-9580770AB55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ap of Bosnia and Herzegov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928800"/>
            <a:ext cx="5473440" cy="482436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3124080" y="6356520"/>
            <a:ext cx="416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Bank of B&amp;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urrency Board Arran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datory  Res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 banking agencies (still separate but coordina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latively conservative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for indirect taxation (VAT and custo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ntralized collection with entity level distribu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rporate income, personal) on entity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0A17-3928-4249-8593-F124D4F1D6B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I  B&amp;H in brief</a:t>
            </a:r>
            <a:br>
              <a:rPr sz="1400"/>
            </a:b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Key  Macroeconomic Data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bs-BA" sz="1200" spc="-1" strike="noStrike">
                <a:solidFill>
                  <a:srgbClr val="000000"/>
                </a:solidFill>
                <a:latin typeface="Calibri"/>
              </a:rPr>
              <a:t>Data Source: Thomson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Reut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6000840"/>
            <a:ext cx="490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928800"/>
          <a:ext cx="8072640" cy="5475240"/>
        </p:xfrm>
        <a:graphic>
          <a:graphicData uri="http://schemas.openxmlformats.org/drawingml/2006/table">
            <a:tbl>
              <a:tblPr/>
              <a:tblGrid>
                <a:gridCol w="2639880"/>
                <a:gridCol w="981360"/>
                <a:gridCol w="981000"/>
                <a:gridCol w="1131840"/>
                <a:gridCol w="1149480"/>
                <a:gridCol w="118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9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1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minal GDP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 GDP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usehold consumption (real, 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ustrial output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umer prices (avg.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employment rate  (avg,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neral budge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urrent Accoun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debt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icial FX reserves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6CCE-D4E7-4245-90B0-D4949608A8B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2357280" y="6492960"/>
            <a:ext cx="41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&amp;H in br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jor Macroeconomic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DP growth-present negative with forecasted very low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dget deficit-still over IMF Stand-by Agrm.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Current Account Deficit-despite of significant reduction of both export and im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portfolio volume-reduced for 2%, compared to 27% growth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FX risk and controlled inflation, due to the Currency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4CDA-4A5F-4C5C-ACA0-918F508CC8F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8571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100" spc="-1" strike="noStrike">
                <a:solidFill>
                  <a:srgbClr val="000000"/>
                </a:solidFill>
                <a:latin typeface="Calibri"/>
              </a:rPr>
              <a:t>Source: Central Bank B&amp;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7A7D-DFE5-429B-9141-3023367A26B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5840" y="2000160"/>
          <a:ext cx="8358120" cy="3071880"/>
        </p:xfrm>
        <a:graphic>
          <a:graphicData uri="http://schemas.openxmlformats.org/drawingml/2006/table">
            <a:tbl>
              <a:tblPr/>
              <a:tblGrid>
                <a:gridCol w="2431800"/>
                <a:gridCol w="739800"/>
                <a:gridCol w="741600"/>
                <a:gridCol w="741240"/>
                <a:gridCol w="739800"/>
                <a:gridCol w="741240"/>
                <a:gridCol w="741600"/>
                <a:gridCol w="739800"/>
                <a:gridCol w="741240"/>
              </a:tblGrid>
              <a:tr h="285120">
                <a:tc rowSpan="2"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</a:tr>
              <a:tr h="319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ment fu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sing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rance and reinsurance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credit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ooter Placeholder 5"/>
          <p:cNvSpPr/>
          <p:nvPr/>
        </p:nvSpPr>
        <p:spPr>
          <a:xfrm>
            <a:off x="3000240" y="628668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of Financial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 Registered B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deration BiH, 19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ublic of Srpska 10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Banks under Administ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% foreign ow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75% of total assets with 4 key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% of GDP penet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evant share of retail loan port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capital adequacy ratio (CAR) – over 1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ofitabil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4AE0-04FE-403A-AFBD-EE8071FD57C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8:07Z</dcterms:created>
  <dc:creator>samir</dc:creator>
  <dc:description/>
  <dc:language>en-US</dc:language>
  <cp:lastModifiedBy>samir</cp:lastModifiedBy>
  <dcterms:modified xsi:type="dcterms:W3CDTF">2009-12-03T13:34:02Z</dcterms:modified>
  <cp:revision>32</cp:revision>
  <dc:subject/>
  <dc:title>Bosnia and Herzegovina </dc:title>
</cp:coreProperties>
</file>