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1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38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Click to move the slide</a:t>
            </a:r>
            <a:endParaRPr b="0" lang="en-US" sz="32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3BD41-7BA5-491E-AFAF-0FC11F20428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CITS (Undertakings for Collective Investment in Transferable Securities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88"/>
              </a:spcBef>
              <a:spcAft>
                <a:spcPts val="3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Giovannini Reports’ three spheres of difficulties within the post trading sector: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88"/>
              </a:spcBef>
              <a:spcAft>
                <a:spcPts val="3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technical requirements and industry practices;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88"/>
              </a:spcBef>
              <a:spcAft>
                <a:spcPts val="3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taxation;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88"/>
              </a:spcBef>
              <a:spcAft>
                <a:spcPts val="3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legal certainty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learing and Settlement Advisory and Monitoring Expert Group ("CESAME"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Monitoring Group meets its public interest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by supporting th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elopment of high quality international standards for auditing, assurance, ethics and education for professional accountants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, and by exchanging views relating to international audit quality and to regulatory and market development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ing an impact on auditing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This project is the third step in the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implification of accounting rules for SMEs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and other companies in the scope of the Fourth and Seventh Company Law Directives (“Accounting Directives”), which began with a fast-track proposal in 2008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373B5-523D-4F50-BF94-7118E0F49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083AE-858E-415A-9F37-8254AEBB9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903DD-C204-4C51-8740-FF0DA54CA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64507-ABB9-4ED8-8D5F-0ADFF486E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D4407-F9A0-458B-B3D3-1781F9830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787B2-0F0F-4D07-8C8D-C6764B4FF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17B2B-4D68-4D39-99B3-84D0E6EFC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D00EE-E65E-4FA4-9D66-F2FB0EAEA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14D70-F431-4223-B336-84D4FED2A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2894040" y="259920"/>
            <a:ext cx="5710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19114-425D-4F26-9D82-9FCD5CB0F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3092B-3744-4681-BB53-4715CF8D3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108E2-54E7-4192-971A-BDE94087F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39AF9-94CA-4BBE-B587-FD4094D39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3D53D-6A96-4534-A383-E2DA6B3FC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307F4-26EB-4D66-A7E2-44B69270A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C625A-CBAB-4DCF-8F59-14E680D4F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F7E5D-A200-4689-BEFB-6B0BF6CED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0EC02-ADCE-45DE-A80E-8C966FD2E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BCFA2-30A6-435A-A688-405232856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79D35-4C56-4A8B-ABAC-995E4C4BA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894040" y="259920"/>
            <a:ext cx="5710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C1A8A-B237-4704-9CD2-CCBC196E1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90EF3-5665-4FE7-8C91-7C44DB834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22695-15E4-4B03-A9DC-C71723678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7B2A3-9BD1-471C-92DA-DB7B3435E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Click to edit the outline text format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6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econd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2" marL="11430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Third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3" marL="16002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Four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4" marL="20574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Fif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5" marL="2057400" indent="-228600">
              <a:spcBef>
                <a:spcPts val="624"/>
              </a:spcBef>
              <a:buClr>
                <a:srgbClr val="005ca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ix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6" marL="2057400" indent="-228600">
              <a:spcBef>
                <a:spcPts val="624"/>
              </a:spcBef>
              <a:buClr>
                <a:srgbClr val="005ca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even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68000" y="6381720"/>
            <a:ext cx="213372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66cc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cc"/>
                </a:solidFill>
                <a:latin typeface="Times New Roman"/>
              </a:rPr>
              <a:t>&lt;footer&gt;</a:t>
            </a:r>
            <a:r>
              <a:rPr b="0" lang="en-US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41711-34FC-47EB-9315-2C57676F83BE}" type="slidenum">
              <a:rPr b="0" lang="en-US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 flipV="1">
            <a:off x="468360" y="1557360"/>
            <a:ext cx="0" cy="530064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68360" y="1557360"/>
            <a:ext cx="4174920" cy="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0" y="189000"/>
            <a:ext cx="2943360" cy="130500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Click to edit the title text format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66cc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cc"/>
                </a:solidFill>
                <a:latin typeface="Times New Roman"/>
              </a:rPr>
              <a:t>&lt;footer&gt;</a:t>
            </a:r>
            <a:r>
              <a:rPr b="0" lang="en-US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1D6B6-91D6-424C-92F9-1677F293599D}" type="slidenum">
              <a:rPr b="0" lang="en-US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468360" y="1557360"/>
            <a:ext cx="0" cy="530064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1557360"/>
            <a:ext cx="4174920" cy="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0" y="189000"/>
            <a:ext cx="2943360" cy="1305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Click to edit the outline text format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cc"/>
                </a:solidFill>
                <a:latin typeface="Times New Roman"/>
              </a:rPr>
              <a:t>Second Outline Level</a:t>
            </a: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  <a:p>
            <a:pPr lvl="2" marL="914400" algn="ctr">
              <a:spcBef>
                <a:spcPts val="400"/>
              </a:spcBef>
              <a:buClr>
                <a:srgbClr val="0066cc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cc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0066cc"/>
              </a:solidFill>
              <a:latin typeface="Times New Roman"/>
            </a:endParaRPr>
          </a:p>
          <a:p>
            <a:pPr lvl="3" marL="1371600" algn="ctr">
              <a:spcBef>
                <a:spcPts val="349"/>
              </a:spcBef>
              <a:buClr>
                <a:srgbClr val="0066cc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Fourth Outline Level</a:t>
            </a:r>
            <a:endParaRPr b="0" lang="en-US" sz="1400" spc="-1" strike="noStrike">
              <a:solidFill>
                <a:srgbClr val="0066cc"/>
              </a:solidFill>
              <a:latin typeface="Times New Roman"/>
            </a:endParaRPr>
          </a:p>
          <a:p>
            <a:pPr lvl="4" marL="1828800" algn="ctr">
              <a:spcBef>
                <a:spcPts val="300"/>
              </a:spcBef>
              <a:buClr>
                <a:srgbClr val="0066cc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cc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66cc"/>
              </a:solidFill>
              <a:latin typeface="Times New Roman"/>
            </a:endParaRPr>
          </a:p>
          <a:p>
            <a:pPr lvl="5" marL="1828800">
              <a:spcBef>
                <a:spcPts val="300"/>
              </a:spcBef>
              <a:buClr>
                <a:srgbClr val="005ca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cc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66cc"/>
              </a:solidFill>
              <a:latin typeface="Times New Roman"/>
            </a:endParaRPr>
          </a:p>
          <a:p>
            <a:pPr lvl="6" marL="1828800">
              <a:spcBef>
                <a:spcPts val="300"/>
              </a:spcBef>
              <a:buClr>
                <a:srgbClr val="005ca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cc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ahoma"/>
                <a:ea typeface="Times New Roman"/>
              </a:rPr>
              <a:t>Latest developments in the EU legislation</a:t>
            </a:r>
            <a:br>
              <a:rPr sz="2800"/>
            </a:br>
            <a:r>
              <a:rPr b="0" lang="en-GB" sz="2800" spc="-1" strike="noStrike">
                <a:solidFill>
                  <a:srgbClr val="0066cc"/>
                </a:solidFill>
                <a:latin typeface="Tahoma"/>
                <a:ea typeface="Times New Roman"/>
              </a:rPr>
              <a:t>on financial service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Viktorija Proskurovska, EBF Adviser</a:t>
            </a:r>
            <a:br>
              <a:rPr sz="2500"/>
            </a:b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17th edition</a:t>
            </a:r>
            <a:br>
              <a:rPr sz="2500"/>
            </a:b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Monaco, 18 June 2009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Financial Supervision in Europe </a:t>
            </a:r>
            <a:br>
              <a:rPr sz="3000"/>
            </a:b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(cont-d)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27-May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 published a Communication on financial supervision in Europe. Proposed reforms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Creation of a new </a:t>
            </a:r>
            <a:r>
              <a:rPr b="1" lang="en-GB" sz="2400" spc="-1" strike="noStrike">
                <a:solidFill>
                  <a:srgbClr val="0066cc"/>
                </a:solidFill>
                <a:latin typeface="Times New Roman"/>
              </a:rPr>
              <a:t>European System of Financial Supervisors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 composed of new </a:t>
            </a:r>
            <a:r>
              <a:rPr b="1" lang="en-GB" sz="2400" spc="-1" strike="noStrike">
                <a:solidFill>
                  <a:srgbClr val="0066cc"/>
                </a:solidFill>
                <a:latin typeface="Times New Roman"/>
              </a:rPr>
              <a:t>European Supervisory Authorities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, and 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Creation of a </a:t>
            </a:r>
            <a:r>
              <a:rPr b="1" lang="en-GB" sz="2400" spc="-1" strike="noStrike">
                <a:solidFill>
                  <a:srgbClr val="0066cc"/>
                </a:solidFill>
                <a:latin typeface="Times New Roman"/>
              </a:rPr>
              <a:t>European Systemic Risk Council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Comments invited by 15-Jul-09.</a:t>
            </a:r>
            <a:br>
              <a:rPr sz="2800"/>
            </a:b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Legislative proposals are expected in autumn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A5F29-A306-4DF8-9E44-CA9248DEBC0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Clarification of the UCITS </a:t>
            </a:r>
            <a:br>
              <a:rPr sz="3000"/>
            </a:br>
            <a:r>
              <a:rPr b="1" lang="en" sz="3000" spc="-1" strike="noStrike">
                <a:solidFill>
                  <a:srgbClr val="0066cc"/>
                </a:solidFill>
                <a:latin typeface="Times New Roman"/>
              </a:rPr>
              <a:t>Regulations Regime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28-May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 initiated </a:t>
            </a:r>
            <a:r>
              <a:rPr b="1" lang="en-US" sz="2800" spc="-1" strike="noStrike">
                <a:solidFill>
                  <a:srgbClr val="0066cc"/>
                </a:solidFill>
                <a:latin typeface="Times New Roman"/>
              </a:rPr>
              <a:t>clarification of the UCITS regulations regime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, in particular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as regards the liability of depositories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Consultation will be launched before the end-Jun-09 to deal with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inconsistencies in the application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 of the UCITS directive across MSs that lead to an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unlevel playing field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Provisions of the Directive on Alternative Investment Fund Managers (AIFM) are suggested to be extended to UCITS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0FF4E-84E7-401B-A54A-1B4189DE79F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EU Framework for Managers of Alternative Investment Funds</a:t>
            </a: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29-Apr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EC proposed a Directive on Alternative Investment Fund Managers (AIFM)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Aim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: to create a comprehensive &amp; effective  regulatory and supervisory framework for AIFM in the EU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The proposed Directive, </a:t>
            </a:r>
            <a:r>
              <a:rPr b="0" i="1" lang="en-GB" sz="2800" spc="-1" strike="noStrike">
                <a:solidFill>
                  <a:srgbClr val="0066cc"/>
                </a:solidFill>
                <a:latin typeface="Times New Roman"/>
              </a:rPr>
              <a:t>inter alia,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will: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550"/>
              </a:spcBef>
              <a:spcAft>
                <a:spcPts val="550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66cc"/>
                </a:solidFill>
                <a:latin typeface="Times New Roman"/>
              </a:rPr>
              <a:t>require all AIFM be subject to</a:t>
            </a:r>
            <a:r>
              <a:rPr b="1" lang="en-GB" sz="2200" spc="-1" strike="noStrike">
                <a:solidFill>
                  <a:srgbClr val="0066cc"/>
                </a:solidFill>
                <a:latin typeface="Times New Roman"/>
              </a:rPr>
              <a:t> </a:t>
            </a:r>
            <a:r>
              <a:rPr b="0" lang="en-GB" sz="2200" spc="-1" strike="noStrike">
                <a:solidFill>
                  <a:srgbClr val="0066cc"/>
                </a:solidFill>
                <a:latin typeface="Times New Roman"/>
              </a:rPr>
              <a:t>harmonised regulatory standards; </a:t>
            </a: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550"/>
              </a:spcBef>
              <a:spcAft>
                <a:spcPts val="550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66cc"/>
                </a:solidFill>
                <a:latin typeface="Times New Roman"/>
              </a:rPr>
              <a:t>enhance transparency of the activities;</a:t>
            </a: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550"/>
              </a:spcBef>
              <a:spcAft>
                <a:spcPts val="550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66cc"/>
                </a:solidFill>
                <a:latin typeface="Times New Roman"/>
              </a:rPr>
              <a:t>enable MSs to improve the macro-prudential oversight;</a:t>
            </a: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550"/>
              </a:spcBef>
              <a:spcAft>
                <a:spcPts val="550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66cc"/>
                </a:solidFill>
                <a:latin typeface="Times New Roman"/>
              </a:rPr>
              <a:t>overcome gaps and inconsistencies in regulatory frameworks at national level.</a:t>
            </a: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A1552-AC55-4A92-9C67-290DA6CF05A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411280" y="259920"/>
            <a:ext cx="64087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Communication on Packaged Retail Investment Products</a:t>
            </a: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29-Apr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 published conclusions of the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Communication on Packaged Retail Investment Products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cc"/>
                </a:solidFill>
                <a:latin typeface="Times New Roman"/>
              </a:rPr>
              <a:t>Conclusions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: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product information requirements and rules on product sales need to be improved and made more coherent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EC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proposes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a new, horizontal legislative approach for product disclosures and sales processes for all packaged retail investment products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EC works on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legislative proposals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; to report by the end of 2009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5DD6C-0532-4A0F-BE3D-D2A0FF87AA1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Consultation on Hedge Funds</a:t>
            </a: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12-Mar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 finalised a public Consultation on Hedge Funds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Main areas covered: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ystemic risks;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Market integrity and efficiency;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Risk management;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Transparency towards investors and investor protection.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26&amp;27-Feb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 organised a 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High-Level Conference on Private Equity and Hedge Funds</a:t>
            </a:r>
            <a:r>
              <a:rPr b="1" lang="en-GB" sz="2500" spc="-1" strike="noStrike">
                <a:solidFill>
                  <a:srgbClr val="0066cc"/>
                </a:solidFill>
                <a:latin typeface="Times New Roman"/>
              </a:rPr>
              <a:t> 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as a final step of the consultation process.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C014A-2045-4875-8E2B-EF9E7F76377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cc"/>
                </a:solidFill>
                <a:latin typeface="Times New Roman"/>
              </a:rPr>
              <a:t>Investor Compensation Schemes Directive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9-Feb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 launched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a call for evidence on the review of the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application of the Investor Compensation Schemes Directive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The call addressed, </a:t>
            </a:r>
            <a:r>
              <a:rPr b="0" i="1" lang="en-US" sz="2800" spc="-1" strike="noStrike">
                <a:solidFill>
                  <a:srgbClr val="0066cc"/>
                </a:solidFill>
                <a:latin typeface="Times New Roman"/>
              </a:rPr>
              <a:t>inter alia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683280" indent="-26280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Scope of the directive;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lvl="1" marL="683280" indent="-26280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amount of compensation and 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funding of the compensation schemes; 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lvl="1" marL="683280" indent="-26280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technical aspects hampering efficient &amp; timely functioning of the schemes;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lvl="1" marL="683280" indent="-26280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treatment of money market funds.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Consultation closed on 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8-Apr-09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777E8-D52B-42EF-85E9-17292D5046A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Retail Market </a:t>
            </a:r>
            <a:br>
              <a:rPr sz="3000"/>
            </a:b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Monitoring Exercise</a:t>
            </a: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8-Apr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 launched a questionnaire aiming to monitor the EU Retail Market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It will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collect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qualitative information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 about problems arising from current national regulatory conditions that apply to retail services across the MSs, and the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efficiency of these rules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 in meeting their underlying public interest objectives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Responses invited by 5-Jun-09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The questionnaire will feed into the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Retail Market Monitoring report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, to be published before Nov-09.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512AD-3F3F-4EE1-86A7-AA5049A2B3A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Access to a Basic Bank Account</a:t>
            </a: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6-Feb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EC launched a public Consultation on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Financial inclusion: Ensuring access to a basic bank account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The Consultative document, </a:t>
            </a:r>
            <a:r>
              <a:rPr b="0" i="1" lang="en-GB" sz="2800" spc="-1" strike="noStrike">
                <a:solidFill>
                  <a:srgbClr val="0066cc"/>
                </a:solidFill>
                <a:latin typeface="Times New Roman"/>
              </a:rPr>
              <a:t>inter alia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describes the levels, causes and consequences of financial exclusion in the EU. 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presents various policy solutions to address financial exclusion that exist in some MS, 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39480" indent="0">
              <a:spcBef>
                <a:spcPts val="649"/>
              </a:spcBef>
              <a:spcAft>
                <a:spcPts val="6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600" spc="-1" strike="noStrike">
                <a:solidFill>
                  <a:srgbClr val="0066cc"/>
                </a:solidFill>
                <a:latin typeface="Times New Roman"/>
              </a:rPr>
              <a:t>Consultation closed on </a:t>
            </a:r>
            <a:r>
              <a:rPr b="0" lang="en-US" sz="2600" spc="-1" strike="noStrike">
                <a:solidFill>
                  <a:srgbClr val="0066cc"/>
                </a:solidFill>
                <a:latin typeface="Times New Roman"/>
              </a:rPr>
              <a:t>6-Apr-09.</a:t>
            </a:r>
            <a:endParaRPr b="0" lang="en-US" sz="26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02E1D-0443-4346-A77C-820892FD1CC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Alternative Dispute Resolution</a:t>
            </a: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11-Dec-08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 launched a Consultation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on Alternative Dispute Resolution (ADR) in the area of financial services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The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objective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was to seek views on how ADR schemes in the area of financial services, providing consumers with individual redress, could be further improved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Consultation closed on 27-Feb-09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F721C-C7D6-47BA-A4BC-9B7D849D549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Regulation of </a:t>
            </a:r>
            <a:br>
              <a:rPr sz="3000"/>
            </a:b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‘Non-Credit' Institutions</a:t>
            </a: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2-Dec-08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 published a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study that shows varying national approach to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regulation of 'non-credit' institutions in mortgage markets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It shows that in the majority of MS, lenders operating outside the EU legal framework for credit institutions are regulated and supervised by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national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 authorities, and that their national market share is small compared with that of fully-fledged credit institutions.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Comments on the study were invited by 28-Feb-09.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F8C17-049D-4D5C-B0E2-64AC359EEAC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38 Recent Developments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Financial Services and Retail Banking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-  20 -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Financial Markets 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-  11 -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Accounting and Auditing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-    7 -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7EC7F-6087-4558-94E8-DEF074B75E2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New Industry Rules on</a:t>
            </a:r>
            <a:br>
              <a:rPr sz="3000"/>
            </a:b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 Account Switching</a:t>
            </a: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1-Dec-08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EC welcomed the European Banking Industry Committee's adoption of a set of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Common Principles for Bank Account Switching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The Principles clarify the roles of the ‘new’ bank and the ‘old’ bank in situation when consumer wishes to change bank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The Principles will apply in each MS as of 1-Nov-09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8D500-8B10-434B-A493-6EF4F81B702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5cad"/>
                </a:solidFill>
                <a:latin typeface="Times New Roman"/>
              </a:rPr>
              <a:t>Financial Markets </a:t>
            </a:r>
            <a:endParaRPr b="0" lang="en-US" sz="3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3800" spc="-1" strike="noStrike">
                <a:solidFill>
                  <a:srgbClr val="808080"/>
                </a:solidFill>
                <a:latin typeface="Times New Roman"/>
              </a:rPr>
              <a:t>- 11 items -</a:t>
            </a:r>
            <a:endParaRPr b="0" lang="en-US" sz="3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5E23A-1408-4B7C-9B6D-D7C75847A8C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Directors' Remuneration</a:t>
            </a:r>
            <a:r>
              <a:rPr b="0" lang="ru-RU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29-Apr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EC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adopted a Recommendation on the regime for the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remuneration of directors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 of listed companies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The new Recommendation completes the previous ones by specifying certain aspects of: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the </a:t>
            </a:r>
            <a:r>
              <a:rPr b="1" lang="en-GB" sz="2500" spc="-1" strike="noStrike">
                <a:solidFill>
                  <a:srgbClr val="0066cc"/>
                </a:solidFill>
                <a:latin typeface="Times New Roman"/>
              </a:rPr>
              <a:t>structure 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of directors’ remuneration</a:t>
            </a:r>
            <a:r>
              <a:rPr b="1" lang="en-GB" sz="2500" spc="-1" strike="noStrike">
                <a:solidFill>
                  <a:srgbClr val="0066cc"/>
                </a:solidFill>
                <a:latin typeface="Times New Roman"/>
              </a:rPr>
              <a:t>, 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and 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the </a:t>
            </a:r>
            <a:r>
              <a:rPr b="1" lang="en-GB" sz="2500" spc="-1" strike="noStrike">
                <a:solidFill>
                  <a:srgbClr val="0066cc"/>
                </a:solidFill>
                <a:latin typeface="Times New Roman"/>
              </a:rPr>
              <a:t>process 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of determining directors’ remuneration, including shareholder supervision.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EC will re-examine the recommendations in one year’s time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BF800-F968-4EB2-A248-0152474A923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339640" y="259920"/>
            <a:ext cx="655308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Remuneration of Risk-Taking Staff </a:t>
            </a:r>
            <a:br>
              <a:rPr sz="3000"/>
            </a:b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in Financial Institutions</a:t>
            </a:r>
            <a:r>
              <a:rPr b="0" lang="ru-RU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29-Apr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EC adopted a Recommendation on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remuneration of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risk-taking staff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 in the financial services sector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It focuses on four areas of remuneration policy: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13160" indent="-27432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structure of pay (link back to risk-management), 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13160" indent="-27432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Governance (internal transparency, clarity, documented), 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13160" indent="-27432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disclosure (to stakeholders), 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13160" indent="-27432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Supervision.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Legislative proposals will follow,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bringing remuneration schemes within the scope of prudential oversight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C4A80-E576-436D-BFBC-15DC774C189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European Foundation Statute</a:t>
            </a:r>
            <a:r>
              <a:rPr b="0" lang="ru-RU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16-Feb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 launched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public Consultation on the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difficulties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foundations face when operating cross-border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Should the outcome be in favour of European Foundation Statue, the aim would be to use a single legal form instead of up to 27 national ones. 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European Foundation would be parallel to the national legal forms and its use would be optional.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Consultation closed on 15-May-09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5D88F-A442-4E1A-93A7-D60404FFFC4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Regulation on </a:t>
            </a:r>
            <a:br>
              <a:rPr sz="3000"/>
            </a:b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Credit Rating Agencies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23-Apr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P and Council approved the proposal on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proposed Regulation on Credit Rating Agencies (CRA’s)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CRA’s will be expected to comply with strict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standards of integrity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,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quality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 and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transparency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 and will be subject to ongoing supervision of the Committee of European Securities Regulators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Regulation proposes a set of 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rigorous</a:t>
            </a:r>
            <a:r>
              <a:rPr b="1" lang="en-US" sz="2800" spc="-1" strike="noStrike">
                <a:solidFill>
                  <a:srgbClr val="0066cc"/>
                </a:solidFill>
                <a:latin typeface="Times New Roman"/>
              </a:rPr>
              <a:t> rules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 and an effective </a:t>
            </a:r>
            <a:r>
              <a:rPr b="1" lang="en-US" sz="2800" spc="-1" strike="noStrike">
                <a:solidFill>
                  <a:srgbClr val="0066cc"/>
                </a:solidFill>
                <a:latin typeface="Times New Roman"/>
              </a:rPr>
              <a:t>surveillance regime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,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whereby regulators will supervise credit rating agencies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5CD9F-897E-44B8-AC4B-06F5E0FBCB0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Review of </a:t>
            </a:r>
            <a:br>
              <a:rPr sz="3000"/>
            </a:b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Market Abuse Directive</a:t>
            </a:r>
            <a:r>
              <a:rPr b="0" lang="ru-RU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20-Apr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 launched a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call for evidence on its review of the application of the Market Abuse Directive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EC was reviewing certain elements, </a:t>
            </a:r>
            <a:r>
              <a:rPr b="0" i="1" lang="en-GB" sz="2800" spc="-1" strike="noStrike">
                <a:solidFill>
                  <a:srgbClr val="0066cc"/>
                </a:solidFill>
                <a:latin typeface="Times New Roman"/>
              </a:rPr>
              <a:t>inter alia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The scope of the markets and financial instruments;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The ability of listed issuers to delay disclosure of inside information;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Disclosure of inside information by issuers of commodity derivatives.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Consultation closed on 10-Jun-09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26A68-7FBA-4589-8A33-511E1F937D9E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New Legal Framework for Intermediated Securities</a:t>
            </a:r>
            <a:r>
              <a:rPr b="0" lang="ru-RU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20-Apr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EC launched a Consultation on the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harmonisation of the legal framework for securities holding and transactions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by the end of 2009, EC intends to introduce a legislative proposal to: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increase legal certainty &amp; efficiency of securities holding; 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improve protection of investors' rights.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75"/>
              </a:spcBef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Consultation closed on 11-Jun-09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F599B-DB35-4AFF-8643-099940A6DC8A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Harmonisation of </a:t>
            </a:r>
            <a:br>
              <a:rPr sz="3000"/>
            </a:b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Securities Law</a:t>
            </a:r>
            <a:r>
              <a:rPr b="0" lang="ru-RU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16-Apr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 launched a consultation on </a:t>
            </a:r>
            <a:r>
              <a:rPr b="1" lang="en-US" sz="2800" spc="-1" strike="noStrike">
                <a:solidFill>
                  <a:srgbClr val="0066cc"/>
                </a:solidFill>
                <a:latin typeface="Times New Roman"/>
              </a:rPr>
              <a:t>harmonisation of Securities Law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, with relation to the three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Giovannini barriers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The addressed questions, </a:t>
            </a:r>
            <a:r>
              <a:rPr b="0" i="1" lang="en-GB" sz="2800" spc="-1" strike="noStrike">
                <a:solidFill>
                  <a:srgbClr val="0066cc"/>
                </a:solidFill>
                <a:latin typeface="Times New Roman"/>
              </a:rPr>
              <a:t>inter alia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, were: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holding and disposition of securities held in securities accounts;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exercise of investor's rights flowing from securities through a "chain" of intermediaries, in particular in cross-border situations;</a:t>
            </a:r>
            <a:r>
              <a:rPr b="0" lang="ru-RU" sz="24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Consultation closed on 11-Jun-09. The EC will make a legislative proposal by the end-2009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ED4AC-A69A-40C9-9374-DCAF0CA8646B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Harmonised Solutions to </a:t>
            </a:r>
            <a:br>
              <a:rPr sz="3000"/>
            </a:b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Cross-Border Barriers</a:t>
            </a:r>
            <a:r>
              <a:rPr b="0" lang="ru-RU" sz="26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9-Dec-08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’s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Clearing and Settlement Advisory and Monitoring Expert Group issued a report on removing industry-related barriers to the cross-border clearing and settlement of securities transactions.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The report gives an overview of: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work by the industry to dismantle the six industry-related "Giovannini Barriers" to post-trading; 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the state of play on 9 such Barriers attributed to the public sector;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other pertinent topics related to post-trading.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958AB-C807-4455-9EFB-2D0CFCA4B757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5cad"/>
                </a:solidFill>
                <a:latin typeface="Times New Roman"/>
              </a:rPr>
              <a:t>Financial Services and </a:t>
            </a:r>
            <a:br>
              <a:rPr sz="3800"/>
            </a:br>
            <a:r>
              <a:rPr b="0" lang="en-US" sz="3800" spc="-1" strike="noStrike">
                <a:solidFill>
                  <a:srgbClr val="005cad"/>
                </a:solidFill>
                <a:latin typeface="Times New Roman"/>
              </a:rPr>
              <a:t>Retail Banking</a:t>
            </a:r>
            <a:endParaRPr b="0" lang="en-US" sz="3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3800" spc="-1" strike="noStrike">
                <a:solidFill>
                  <a:srgbClr val="808080"/>
                </a:solidFill>
                <a:latin typeface="Times New Roman"/>
              </a:rPr>
              <a:t>- 20 items -</a:t>
            </a:r>
            <a:endParaRPr b="0" lang="en-US" sz="3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2E9D7-2361-443D-B66B-B13BAD61DF3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State Aid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26-Feb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provided guidance on the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treatment of asset relief measures by MSs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EC guidance provides: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methodologies of valuation of the impaired assets, 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the necessary remuneration of the State for the asset relief and the procedural steps that will be followed; 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the criteria that will be used to evaluate the State aid given to the banks.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A32A8-9624-4BCA-B5F5-058076FB90D9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Central Counterparty Clearing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19-Feb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International Swaps and Derivatives Association and the European Banking Federation have committed to the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use of Central Counterparty Clearing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(CCP)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 for Credit Default Swaps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 (CDS) in the European Union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The signatories committed to cooperating with all relevant bodies in the financial industry to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establish the EU-based central clearing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 for eligible EU contracts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by end-Jul-09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0FDE7-3D13-48A5-A69A-251223DBB069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European Action Plan on </a:t>
            </a:r>
            <a:br>
              <a:rPr sz="3000"/>
            </a:b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e-Signatures and e-Identification</a:t>
            </a:r>
            <a:r>
              <a:rPr b="0" lang="ru-RU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2-Dec-08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adopted the Action Plan on e-signatures and e-identification to facilitate the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provision of cross-border public services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 in the Single Market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Reasons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 for the Action Plan: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Public authorities offer increasingly more e-services, 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Their implementation is national-oriented, 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It creates e-problems for the EU Single Market,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MSs run the risk of not complying with Services Directive and the Public Procurement Directives.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E985A-CD0F-41EE-B375-34A0D33A13A1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5cad"/>
                </a:solidFill>
                <a:latin typeface="Times New Roman"/>
              </a:rPr>
              <a:t>Accounting and Auditing</a:t>
            </a:r>
            <a:endParaRPr b="0" lang="en-US" sz="3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3800" spc="-1" strike="noStrike">
                <a:solidFill>
                  <a:srgbClr val="808080"/>
                </a:solidFill>
                <a:latin typeface="Times New Roman"/>
              </a:rPr>
              <a:t>- 7 items -</a:t>
            </a:r>
            <a:endParaRPr b="0" lang="en-US" sz="3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6F664-CA52-421E-8F41-4847ABF9BD04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Monitoring Group adopts </a:t>
            </a:r>
            <a:br>
              <a:rPr sz="3000"/>
            </a:b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a Charter</a:t>
            </a: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19-May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Monitoring Group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, a group of international regulatory bodies and related organisations committed to advancing the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 public interest in areas related to international audit quality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, announces the adoption of a formal Charter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Charter confirms the formal arrangements agreed upon by participating members and observers to meet their objective.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67493-27A6-4E84-A440-0575BE1A10F9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International Auditing Conference with Third Countries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9-Dec-08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hosted a high-level </a:t>
            </a:r>
            <a:r>
              <a:rPr b="0" i="1" lang="en-GB" sz="2800" spc="-1" strike="noStrike">
                <a:solidFill>
                  <a:srgbClr val="0066cc"/>
                </a:solidFill>
                <a:latin typeface="Times New Roman"/>
              </a:rPr>
              <a:t>Auditing Conference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in Brussels on 10-Dec-08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The Conference focused on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how to enhance international cooperation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 and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promote auditing public oversight systems in third countries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461B2-8C18-469D-9CA8-67CCB5694E97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Standards Advice Review Group</a:t>
            </a:r>
            <a:r>
              <a:rPr b="0" lang="ru-RU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19-May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appointed three new members of the Standards Advice Review Group (SARG)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SARG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task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is to advise EC on the endorsement process of: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International Financial Reporting Standards (IFRS), and 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International Financial Reporting Committee Interpretations (IFRICs). 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	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432AE-A0D6-487E-95F3-467FCFA4F583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Financial Reporting </a:t>
            </a:r>
            <a:br>
              <a:rPr sz="3000"/>
            </a:b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in a Changing World</a:t>
            </a:r>
            <a:r>
              <a:rPr b="0" lang="ru-RU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7&amp;8-May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EC hosted a Conference on </a:t>
            </a:r>
            <a:r>
              <a:rPr b="0" i="1" lang="en-GB" sz="2800" spc="-1" strike="noStrike">
                <a:solidFill>
                  <a:srgbClr val="0066cc"/>
                </a:solidFill>
                <a:latin typeface="Times New Roman"/>
              </a:rPr>
              <a:t>Financial Reporting in a Changing World,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 in Brussels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The conference addressed: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66cc"/>
                </a:solidFill>
                <a:latin typeface="Times New Roman"/>
              </a:rPr>
              <a:t>policy issues</a:t>
            </a:r>
            <a:r>
              <a:rPr b="0" lang="en-GB" sz="2600" spc="-1" strike="noStrike">
                <a:solidFill>
                  <a:srgbClr val="0066cc"/>
                </a:solidFill>
                <a:latin typeface="Times New Roman"/>
              </a:rPr>
              <a:t> in financial reporting; </a:t>
            </a:r>
            <a:endParaRPr b="0" lang="en-US" sz="26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66cc"/>
                </a:solidFill>
                <a:latin typeface="Times New Roman"/>
              </a:rPr>
              <a:t>accounting issues</a:t>
            </a:r>
            <a:r>
              <a:rPr b="0" lang="en-GB" sz="2600" spc="-1" strike="noStrike">
                <a:solidFill>
                  <a:srgbClr val="0066cc"/>
                </a:solidFill>
                <a:latin typeface="Times New Roman"/>
              </a:rPr>
              <a:t> raised by the financial crisis: pro-cyclicality of financial statements and possible remedies, i.e. dynamic provisioning; </a:t>
            </a:r>
            <a:endParaRPr b="0" lang="en-US" sz="26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66cc"/>
                </a:solidFill>
                <a:latin typeface="Times New Roman"/>
              </a:rPr>
              <a:t>possible issues for the </a:t>
            </a:r>
            <a:r>
              <a:rPr b="1" lang="en-GB" sz="2600" spc="-1" strike="noStrike">
                <a:solidFill>
                  <a:srgbClr val="0066cc"/>
                </a:solidFill>
                <a:latin typeface="Times New Roman"/>
              </a:rPr>
              <a:t>future direction</a:t>
            </a:r>
            <a:r>
              <a:rPr b="0" lang="en-GB" sz="2600" spc="-1" strike="noStrike">
                <a:solidFill>
                  <a:srgbClr val="0066cc"/>
                </a:solidFill>
                <a:latin typeface="Times New Roman"/>
              </a:rPr>
              <a:t> of financial reporting (broader debate on corporate governance).</a:t>
            </a:r>
            <a:endParaRPr b="0" lang="en-US" sz="26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C1A16-4526-4554-84F9-4321AFAB72D1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Review of the 4</a:t>
            </a:r>
            <a:r>
              <a:rPr b="1" lang="en-GB" sz="3000" spc="-1" strike="noStrike" baseline="30000">
                <a:solidFill>
                  <a:srgbClr val="0066cc"/>
                </a:solidFill>
                <a:latin typeface="Times New Roman"/>
              </a:rPr>
              <a:t>th</a:t>
            </a: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 and 7</a:t>
            </a:r>
            <a:r>
              <a:rPr b="1" lang="en-GB" sz="3000" spc="-1" strike="noStrike" baseline="30000">
                <a:solidFill>
                  <a:srgbClr val="0066cc"/>
                </a:solidFill>
                <a:latin typeface="Times New Roman"/>
              </a:rPr>
              <a:t>th</a:t>
            </a: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 Company Law Directives</a:t>
            </a:r>
            <a:r>
              <a:rPr b="0" lang="ru-RU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26-Feb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 launched a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Consultation on the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Review of the Fourth and Seventh Company Law Directives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Consultation aims at: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raising issues relating to the </a:t>
            </a:r>
            <a:r>
              <a:rPr b="1" lang="en-GB" sz="2500" spc="-1" strike="noStrike">
                <a:solidFill>
                  <a:srgbClr val="0066cc"/>
                </a:solidFill>
                <a:latin typeface="Times New Roman"/>
              </a:rPr>
              <a:t>modernisation and simplification of the Accounting Directives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, 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66cc"/>
                </a:solidFill>
                <a:latin typeface="Times New Roman"/>
              </a:rPr>
              <a:t>increasing the clarity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 </a:t>
            </a:r>
            <a:r>
              <a:rPr b="1" lang="en-GB" sz="2500" spc="-1" strike="noStrike">
                <a:solidFill>
                  <a:srgbClr val="0066cc"/>
                </a:solidFill>
                <a:latin typeface="Times New Roman"/>
              </a:rPr>
              <a:t>of the text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 for lawmakers and users in general.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Consultation closed on 30-Apr-09.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898E8-344E-45A2-88AE-8DD0AB924D8F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Equivalence in relation to </a:t>
            </a:r>
            <a:br>
              <a:rPr sz="3000"/>
            </a:b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Third Country GAAPs</a:t>
            </a:r>
            <a:r>
              <a:rPr b="0" lang="ru-RU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12-Dec-08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 adopted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measures granting equivalence to the Generally Accepted Accounting Principles (GAAPs) of certain third countries as from January of 2009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GAAPs of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US, Japan, China, Canada, South Korea and India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 are found to be equivalent to International Financial Reporting Standards (IFRS) as adopted by the EU.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55B05-F2C2-4207-ADAA-2B20A8711F55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cc"/>
                </a:solidFill>
                <a:latin typeface="Times New Roman"/>
              </a:rPr>
              <a:t>Consultation on Possible End-Date for SEPA Migration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66cc"/>
                </a:solidFill>
                <a:uFillTx/>
                <a:latin typeface="Times New Roman"/>
              </a:rPr>
              <a:t>8-Jun-09</a:t>
            </a:r>
            <a:r>
              <a:rPr b="0" lang="en-GB" sz="3200" spc="-1" strike="noStrike">
                <a:solidFill>
                  <a:srgbClr val="0066cc"/>
                </a:solidFill>
                <a:latin typeface="Times New Roman"/>
              </a:rPr>
              <a:t>: </a:t>
            </a:r>
            <a:br>
              <a:rPr sz="3200"/>
            </a:b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EC launched a Consultation on possible deadlines for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migration of existing payment products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 (i.e. credit transfers and direct debits)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to the new SEPA products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Clear deadlines for migration signify that SEPA migration is an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irreversible process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, thus helping to incentivise both industry and users to speed up migration.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Feedback from stakeholders invited by 3-Aug-09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2949B-841D-4749-8147-E4B2A31FDE9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Burden Reduction </a:t>
            </a:r>
            <a:br>
              <a:rPr sz="3000"/>
            </a:b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for Micro Entities</a:t>
            </a:r>
            <a:r>
              <a:rPr b="0" lang="ru-RU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26-Feb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put forward a new proposal allowing MSs to completely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abolish financial reporting obligations for the EU's smallest companies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The aggregate administrative burden reduction potential is estimated at around € 6.3 billion.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Micro entities fulfil two out of the three following criteria: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spcAft>
                <a:spcPts val="550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66cc"/>
                </a:solidFill>
                <a:latin typeface="Times New Roman"/>
              </a:rPr>
              <a:t>balance sheet total of EUR 500.000, </a:t>
            </a: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spcAft>
                <a:spcPts val="550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66cc"/>
                </a:solidFill>
                <a:latin typeface="Times New Roman"/>
              </a:rPr>
              <a:t>net turnover of EUR 1.000.000 and </a:t>
            </a: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spcAft>
                <a:spcPts val="550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66cc"/>
                </a:solidFill>
                <a:latin typeface="Times New Roman"/>
              </a:rPr>
              <a:t>an average number of employees during the financial year of 10.</a:t>
            </a: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F2246-514F-4532-A963-6A3124239EF0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5cad"/>
                </a:solidFill>
                <a:latin typeface="Times New Roman"/>
              </a:rPr>
              <a:t>Thank you for your attention!</a:t>
            </a:r>
            <a:endParaRPr b="0" lang="en-US" sz="3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750E2-BB8C-4CD4-9A41-916655C4E761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E-money and </a:t>
            </a:r>
            <a:br>
              <a:rPr sz="3000"/>
            </a:b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Cross-Border Payments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66cc"/>
                </a:solidFill>
                <a:uFillTx/>
                <a:latin typeface="Times New Roman"/>
              </a:rPr>
              <a:t>24-Apr-09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28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P adopted t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wo legislative proposals: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spcAft>
                <a:spcPts val="675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66cc"/>
                </a:solidFill>
                <a:latin typeface="Times New Roman"/>
              </a:rPr>
              <a:t>the current rules governing </a:t>
            </a:r>
            <a:r>
              <a:rPr b="1" lang="en-GB" sz="2700" spc="-1" strike="noStrike">
                <a:solidFill>
                  <a:srgbClr val="0066cc"/>
                </a:solidFill>
                <a:latin typeface="Times New Roman"/>
              </a:rPr>
              <a:t>cross-border payments</a:t>
            </a:r>
            <a:r>
              <a:rPr b="0" lang="en-GB" sz="2700" spc="-1" strike="noStrike">
                <a:solidFill>
                  <a:srgbClr val="0066cc"/>
                </a:solidFill>
                <a:latin typeface="Times New Roman"/>
              </a:rPr>
              <a:t>: the Regulation will apply as of 1-Nov-09, the final deadline for the transposition of the Payment Services Directive.</a:t>
            </a:r>
            <a:endParaRPr b="0" lang="en-US" sz="27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spcAft>
                <a:spcPts val="675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66cc"/>
                </a:solidFill>
                <a:latin typeface="Times New Roman"/>
              </a:rPr>
              <a:t>the conditions for issuing </a:t>
            </a:r>
            <a:r>
              <a:rPr b="1" lang="en-GB" sz="2700" spc="-1" strike="noStrike">
                <a:solidFill>
                  <a:srgbClr val="0066cc"/>
                </a:solidFill>
                <a:latin typeface="Times New Roman"/>
              </a:rPr>
              <a:t>electronic money</a:t>
            </a:r>
            <a:r>
              <a:rPr b="0" lang="en-GB" sz="2700" spc="-1" strike="noStrike">
                <a:solidFill>
                  <a:srgbClr val="0066cc"/>
                </a:solidFill>
                <a:latin typeface="Times New Roman"/>
              </a:rPr>
              <a:t> in the EU: Directive to be transposed by 2011 at the latest.</a:t>
            </a:r>
            <a:endParaRPr b="0" lang="en-US" sz="27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Both legal texts will now be forwarded to the EU Council for final adoption.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67E1B-500F-4446-AA9A-D0925EB6B38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Payment Systems </a:t>
            </a:r>
            <a:br>
              <a:rPr sz="3000"/>
            </a:b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Market Expert Group (PSMEG)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20-Apr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EC set up a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PSMEG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 (of 50 members) to assist in the preparation of policy in the field of payments.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Group’s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mission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assist the Commission in the preparation of legislative acts or policy initiatives on payment systems; 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provide insight on the practical implementation of these policies; 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exchange views on the latest best practices; and 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ensure monitoring of potential issues of concern to the market.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1FAF2-5C25-4B04-8D92-B6D3C42758B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Removing Barriers to </a:t>
            </a:r>
            <a:br>
              <a:rPr sz="3000"/>
            </a:b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Electronic Invoicing</a:t>
            </a: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5-Feb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Expert Group on Electronic Invoicing published its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interim report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, which sets out a vision for a European Electronic Invoicing (EEI) Framework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Report outlines a number of </a:t>
            </a:r>
            <a:r>
              <a:rPr b="1" lang="en-GB" sz="2500" spc="-1" strike="noStrike">
                <a:solidFill>
                  <a:srgbClr val="0066cc"/>
                </a:solidFill>
                <a:latin typeface="Times New Roman"/>
              </a:rPr>
              <a:t>barriers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 to e-invoicing, the electronic transfer of billing and payment information between supplier and buyer.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Group plans to draft a </a:t>
            </a:r>
            <a:r>
              <a:rPr b="1" lang="en-GB" sz="2500" spc="-1" strike="noStrike">
                <a:solidFill>
                  <a:srgbClr val="0066cc"/>
                </a:solidFill>
                <a:latin typeface="Times New Roman"/>
              </a:rPr>
              <a:t>code of practice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 for the guidance of trading parties, their service providers and tax authorities and to develop a </a:t>
            </a:r>
            <a:r>
              <a:rPr b="1" lang="en-GB" sz="2500" spc="-1" strike="noStrike">
                <a:solidFill>
                  <a:srgbClr val="0066cc"/>
                </a:solidFill>
                <a:latin typeface="Times New Roman"/>
              </a:rPr>
              <a:t>network model 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which supports interoperability, choice of services, and European reach for the exchange of invoices.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F116A-9DCD-45C5-9C09-0667AD5EBEB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Deposit Guarantee Schemes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29-May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 launched a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Consultation reviewing the Directive on Deposit Guarantee Schemes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The aim is to: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ensure greater effectiveness of the Directive, 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respond adequately to any deficiencies or risks as evidenced in the current financial crisis.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Consultation closes on 27-Jul-09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EC will submit a report, and if appropriate, legislative proposals by the end of 2009.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0DDFA-824F-4681-96EA-70B4F9FAFCE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Financial Supervision in Europe</a:t>
            </a: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25-Feb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High-Level group on Supervision in the EU published the De Larosière report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10-Apr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 launched a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Consultation on the improvement of supervision for the financial services sector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.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7-May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EC held a High Level Conference “Towards a new supervisory architecture in Europe”.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6365A-74BD-454F-AB95-CF7176744DF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0T14:54:20Z</dcterms:created>
  <dc:creator>proskurovska</dc:creator>
  <dc:description/>
  <dc:language>en-US</dc:language>
  <cp:lastModifiedBy>proskurovska</cp:lastModifiedBy>
  <dcterms:modified xsi:type="dcterms:W3CDTF">2009-06-17T10:00:09Z</dcterms:modified>
  <cp:revision>163</cp:revision>
  <dc:subject/>
  <dc:title>Latest developments in the EU legislation on financial services</dc:title>
</cp:coreProperties>
</file>