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EEB3-DF7E-4916-8A4B-B4F54DF60658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A48E-53FA-4DFE-8A03-2302C0F4D7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E218-A95D-405A-BAAE-E0EB66E3DF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0545-8AF1-40AB-BACC-D9B6A00EED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5EA0-6C6D-4AB1-BE1D-B963B9639C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F3D6-EC4B-450B-BAD1-4C44881CC2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6ADA-64EA-4435-A79C-7D569427FE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6909-A7A7-421C-AB0E-6FC81B371F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2AC4-6C14-460D-8C50-81684DCA4C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5473-459E-4E5C-B993-E87D0B0AFB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2742-39B5-4F9A-A22D-4940DB59A0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5775-1B1B-4018-A182-C0349F6BA9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47B8-51CB-4EC2-8CA6-A202A60D6E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E792-EF15-46B6-8837-ED720C4736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207E-8973-4183-BCBB-5F021D8EB8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89DA-A4BD-4349-AA4E-104016668E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1D7-7AD5-4557-A3C6-B58C9534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A97F-F78A-4F00-B465-44B446FF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D9334-8357-44DC-A53F-9B6DFFDF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78BE0-633D-4EE4-9DFC-87852232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1AE97-B9F9-4E14-9F86-C23F3738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11FCE-348A-4A26-BE26-6C2B06EC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A7771-58B1-4060-9AA5-740E1FC8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0CEED-B087-4B99-A3D2-627AAC43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8B6C7-EE3E-45FF-AD50-346A96A7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9F871-7483-4973-8FB5-8C58524B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B6A39-3C14-40FD-8A0F-1983773F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67C5D-4E8B-493B-838D-1A013A16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C51F-6109-4757-A3AA-F66D4933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D1E2F-C96D-4B32-AC92-52E9042A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FC025-D46F-470E-B9D5-60C1F995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A08EC-9EAD-4E87-B611-82219622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A0690-E96F-4CE3-9ECB-A2BE974D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AD0F7-35E1-46CA-982D-BB272629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0360D-9AC3-4967-9F11-8F449562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7E715-E763-4326-8371-5E6D1C0F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6D645-DAF7-41CB-A139-616D2EE4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486AB-F6EC-4580-B318-D4077F5B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B7FA4-8C7A-4814-B40C-0F485930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D5F-C2A4-443C-A264-45FD264F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F635D-46B3-4023-9032-2A87EF46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6307C-2624-45F5-B614-51C12666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797B9-642B-4860-9521-343709D6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C9AA2-22EE-411B-81A5-D0CD59CF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51271-C690-4830-A0A1-0C91A44E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10ED1-9675-4C3E-81D6-D71EFF90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5CD54-5124-4418-9AB2-3E8CEA06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14C1F-63E0-4356-82B2-B9760D1F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E49E4-B46D-4343-8361-74516175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1362A-2ED9-4552-99B3-CB9374CB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62EE-3ECD-4540-AC63-C6CBD542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909D1-E8D1-4464-B2D0-611D1A08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6B8D9-DBF0-4846-A549-E410B6F6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F3852-5311-4506-8BDA-51E98471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7591-29FE-470B-95D7-A24702C5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04CE-1811-4EE3-BF20-9CE08D33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6B43-1BE2-43C8-BF8B-E4E89060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223D-9C92-4EB3-957C-F16FAC02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0A0D-7C40-490B-A0D0-57F3B40E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D441-E651-4837-8F63-39AEBB9A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2394-E0CF-4099-A667-E0DFA33B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AAAE-CD88-484A-8DB8-9BAFF7DD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9BCF-3BB7-4A00-BB3B-4916E815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5BB1-EA8B-4600-99D8-3584931E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608C-21BE-42C7-953D-E824BC00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8F24-03BA-438D-BA16-6E5EE6BB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6F645-8516-49F9-A0F6-23E96A03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9E475-CB85-4100-91CC-5AB874E7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014DD-5474-4D60-BF3D-F1CE01B5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7B9DC-E1A8-4653-B5B3-504B3E9D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A6106-A2E6-4171-9ACA-24011F12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6D67-4E27-405F-879F-9C0A7F00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1F262-19FD-4BD9-A66E-7192BA6C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FC2A5-828D-496D-B891-E142E9AC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9D12B-8C61-4728-8B27-D0117E08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04EEE-A266-489A-AB32-BB91E79A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3FCA8-330A-4E8B-BE4A-CE5096A0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B6FD4-C17F-4AF3-A6E8-8128BC60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05AE9-3980-435C-970E-42B3ECAA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DA879-A340-4BC3-AB02-712C8DBD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73C39-1784-44F8-97E0-5E4AD119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CFDAB-4EDC-4D0C-89CF-B9BAD7B2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A282-459E-4409-9C38-CBA2CBD1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59C2F-B3C0-4B37-821D-EE0BB43C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F0715-F1A6-4E1E-B421-5A4E97EF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01178-4FC5-4904-A17C-DCF284D3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05CE9-3F84-4023-8283-202C2BA1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B421C-55D6-470A-8307-AF87D9A2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75B54-E4CD-4BE6-A849-31685B10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3969B-57DB-4556-A58B-6EE7DB36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23A0F-70AC-4C18-B3D5-DD631C95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30A0D-A2B8-43EC-A68E-5F18366B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C5C85-47E1-43B7-9404-A2226DF4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E0AD-69C5-4E8E-87EC-C7FEB36F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8A410-0BF9-4543-8914-6B63CE31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CBA04-7B95-47CA-A187-CE83B20E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A720F-D2AD-4AB2-83A9-F950950B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E391A-C8BC-487B-94DB-6655CD40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164C8-7FDA-4F32-BAA7-53C1F020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1B7D8-F3AE-4B47-9F98-930E4D05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14A3F-20B4-4B5B-9621-A4D1CAE5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ACBF7-7702-4B20-85A9-2D361C64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F013C-99DC-439D-8200-938E70DE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17D5E-37E0-4DA9-B495-7CA8085C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131-C07A-4735-961F-5E73E493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6A028-3657-4311-BDF7-0544F79B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AF739-7335-456D-8A78-8C4D75EB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1A197-D79E-4721-B7E8-6DD945D9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3E451-1C34-4CEA-9922-41E6D0C8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446F9-B39A-44A3-9CD4-263FAAE3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C9A35-737F-40D0-94AB-34A6540F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49768-327D-4BDE-A9E8-6B12269F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5F0A3-C61A-4545-B17B-5412F06B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B909F-D40D-4971-AE4D-6E6A24A7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591FE-4040-465F-B550-1F1FFF2C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76AE-A313-4E62-8DA5-C663FFCF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DA9DD-9C73-4CF6-B8BD-11A3F2F9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1D6B7-FADA-4086-967F-80D7D86B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61121-7234-4CA6-BC6B-026A0334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055AF-83DA-477D-8939-9BC9FDF4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E6D10-889E-4F02-8A7B-A593226E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518D5-6C25-44AE-85A2-EEFA1FA8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1CADF-343F-42F2-AB61-B690C499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EC9FE-7C71-4D40-8D06-5ECCC7EC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CA6B4-5D65-4D52-BB11-444466DE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B57BC-B3E6-4BC0-85BD-180B2A35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767B-4CA7-43CA-8298-6236DBE8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58DCC-E1E6-4C23-9107-897F561B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A52B9-0872-486E-B94C-14147E8E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879BA-00B9-4F00-A84F-179181D1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23941-E8A4-4AA9-B6FE-B06FFCA6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14C43-C4B3-4D8B-87A3-5B2003D3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AD107-5324-4A37-90A0-437F12B0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CC91C-B485-4887-BC02-233366EE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C86E4-826B-4A9D-B859-9793CEE7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9F04F-4B1D-46C6-BBB1-57C586FF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26115-8B5C-48EB-99F8-1D99F6AE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9665-A612-485B-9E9F-E328F0B3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CC686-7129-43D5-9351-CC535F47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6F727-AA70-4292-8531-87A1B6E1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CF64E-6D1A-4418-985D-E425510A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F9934-EF6F-48A4-8FD8-3EC6E61F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539DB-6025-4391-AC82-42C84028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1C593-F6B2-4485-A57E-02AB6B7A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A2CD5-FBC4-4055-B67F-0D8EB36A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F06F8-8826-4625-A230-3FE80522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6C879-F1DB-4135-B786-5359D993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EB137-0445-4D05-8757-0CE6284E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8253-A026-4A53-83E0-E4EFD0BCD2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D061601-49F4-4634-8051-35EBE616A87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BA88-B268-4003-BC00-F53F5F7B86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6CD451D-6BC9-4DCE-9EB8-90C2732D2BF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D2BA-77C1-4126-B594-BDD8AB2FAB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A4CC35E-BEE8-4FEB-881D-1F5C744D780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0C89-4D79-4F56-89A9-2EBDC340F21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8D8B63B-0CE0-4675-AE8D-61E7EC0F627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6786-F64C-4E31-B452-A50A93E68BB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D604F1C-EDCA-4676-B105-BB3EFA879EC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E03D-9B23-4133-BB77-47E6E1457DE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283E211-6834-4DE0-986B-52E60D56B91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2B7C-01E4-4BA6-811A-C8AC40B7B8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8C9525F-659D-435C-AEBE-ACFAFCE69EA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07A3-3820-49B6-A6E3-2B6E7D9B1B4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5393C2D-624C-47F0-A7AD-E2788406D0D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9847-35AF-4F38-AC5E-FBF88E1E75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B603840-EFB7-47CE-B71E-33C848DE23E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6CB5-CA21-4882-9C34-1BA468166E6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9B2B511-0F48-483F-9F59-62B920BF007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AD0F-4333-4D69-820E-A2996190B5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EC475B8-10F7-408A-A3CF-842A359CB57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5"/>
          <p:cNvSpPr/>
          <p:nvPr/>
        </p:nvSpPr>
        <p:spPr>
          <a:xfrm>
            <a:off x="214200" y="3789360"/>
            <a:ext cx="87156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476360" y="2495520"/>
            <a:ext cx="5657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RUSSIAN BANKING SYSTE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CURRENT ENVIRON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67200" y="4221000"/>
            <a:ext cx="30096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leg M. Preks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Vice-Presi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ssociation of Russian Ban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 June 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nte Car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n banking system still falls behind despite the rapid grow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22EA-762C-4B40-AD7E-5D9767B533EB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Диаграмма 3" descr=""/>
          <p:cNvPicPr/>
          <p:nvPr/>
        </p:nvPicPr>
        <p:blipFill>
          <a:blip r:embed="rId2"/>
          <a:stretch/>
        </p:blipFill>
        <p:spPr>
          <a:xfrm>
            <a:off x="142920" y="1557360"/>
            <a:ext cx="5143320" cy="4443480"/>
          </a:xfrm>
          <a:prstGeom prst="rect">
            <a:avLst/>
          </a:prstGeom>
          <a:ln w="0">
            <a:noFill/>
          </a:ln>
        </p:spPr>
      </p:pic>
      <p:pic>
        <p:nvPicPr>
          <p:cNvPr id="498" name="Диаграмма 4" descr=""/>
          <p:cNvPicPr/>
          <p:nvPr/>
        </p:nvPicPr>
        <p:blipFill>
          <a:blip r:embed="rId3"/>
          <a:stretch/>
        </p:blipFill>
        <p:spPr>
          <a:xfrm>
            <a:off x="5429160" y="1557360"/>
            <a:ext cx="3571920" cy="44434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5"/>
          <p:cNvSpPr/>
          <p:nvPr/>
        </p:nvSpPr>
        <p:spPr>
          <a:xfrm>
            <a:off x="142920" y="60055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growing assets means that aggressive lending policy &amp; poor risk management may be in plac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rowth of past due loans will become a problem for banks’ equity in coming month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CEC6-DAB1-4B44-88F6-E120624BFFA1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Диаграмма 3" descr=""/>
          <p:cNvPicPr/>
          <p:nvPr/>
        </p:nvPicPr>
        <p:blipFill>
          <a:blip r:embed="rId2"/>
          <a:stretch/>
        </p:blipFill>
        <p:spPr>
          <a:xfrm>
            <a:off x="-66600" y="0"/>
            <a:ext cx="92170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cow Still Well Behind Other Financial Cent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EAF00B1-2BEF-4248-9F30-1414E4093BB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5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506" name="Содержимое 4" descr=""/>
          <p:cNvPicPr/>
          <p:nvPr/>
        </p:nvPicPr>
        <p:blipFill>
          <a:blip r:embed="rId3"/>
          <a:stretch/>
        </p:blipFill>
        <p:spPr>
          <a:xfrm>
            <a:off x="0" y="4357800"/>
            <a:ext cx="9144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F01D3A1-F0A7-4D21-AB22-AD1F98B72E5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8" name="Picture 2" descr="mosmap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628640"/>
            <a:ext cx="6264360" cy="5048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t Stands for an International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Cent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New Global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250920" y="4437000"/>
            <a:ext cx="4248000" cy="9352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the third city in the worl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its budget perform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$ 4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4716360" y="4437000"/>
            <a:ext cx="4248360" cy="93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living cost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dg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the highest among world capital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250920" y="5516640"/>
            <a:ext cx="4248000" cy="10810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in Top-5 financial centers to become more importan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short ter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186840" y="6583320"/>
            <a:ext cx="537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Источники: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ant Thornton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Z/Yen Group,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ercer Human Resource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nsulting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4716360" y="5516640"/>
            <a:ext cx="424836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ranks 5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tional financial cent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Object 4" descr=""/>
          <p:cNvPicPr/>
          <p:nvPr/>
        </p:nvPicPr>
        <p:blipFill>
          <a:blip r:embed="rId3"/>
          <a:stretch/>
        </p:blipFill>
        <p:spPr>
          <a:xfrm>
            <a:off x="0" y="1571760"/>
            <a:ext cx="914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256E280-AC31-432E-BCCE-AF27450D0EC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eps by the State to Facilitate IF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8" name="Pyr4"/>
          <p:cNvGrpSpPr/>
          <p:nvPr/>
        </p:nvGrpSpPr>
        <p:grpSpPr>
          <a:xfrm>
            <a:off x="189000" y="4834080"/>
            <a:ext cx="8759880" cy="1920600"/>
            <a:chOff x="189000" y="4834080"/>
            <a:chExt cx="8759880" cy="1920600"/>
          </a:xfrm>
        </p:grpSpPr>
        <p:pic>
          <p:nvPicPr>
            <p:cNvPr id="519" name="Pyr4" descr=""/>
            <p:cNvPicPr/>
            <p:nvPr/>
          </p:nvPicPr>
          <p:blipFill>
            <a:blip r:embed="rId2"/>
            <a:stretch/>
          </p:blipFill>
          <p:spPr>
            <a:xfrm>
              <a:off x="189000" y="4834080"/>
              <a:ext cx="875988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565280" y="4913280"/>
              <a:ext cx="56116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1" name="Pyr3"/>
          <p:cNvGrpSpPr/>
          <p:nvPr/>
        </p:nvGrpSpPr>
        <p:grpSpPr>
          <a:xfrm>
            <a:off x="1487520" y="3249720"/>
            <a:ext cx="6162480" cy="1560240"/>
            <a:chOff x="1487520" y="3249720"/>
            <a:chExt cx="6162480" cy="1560240"/>
          </a:xfrm>
        </p:grpSpPr>
        <p:pic>
          <p:nvPicPr>
            <p:cNvPr id="522" name="Pyr3" descr=""/>
            <p:cNvPicPr/>
            <p:nvPr/>
          </p:nvPicPr>
          <p:blipFill>
            <a:blip r:embed="rId3"/>
            <a:stretch/>
          </p:blipFill>
          <p:spPr>
            <a:xfrm>
              <a:off x="1487520" y="3249720"/>
              <a:ext cx="616248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029040" y="3317760"/>
              <a:ext cx="30859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4" name="Text Box 20"/>
          <p:cNvGrpSpPr/>
          <p:nvPr/>
        </p:nvGrpSpPr>
        <p:grpSpPr>
          <a:xfrm>
            <a:off x="1427040" y="3121200"/>
            <a:ext cx="6558120" cy="1658880"/>
            <a:chOff x="1427040" y="3121200"/>
            <a:chExt cx="6558120" cy="1658880"/>
          </a:xfrm>
        </p:grpSpPr>
        <p:pic>
          <p:nvPicPr>
            <p:cNvPr id="525" name="Text Box 20" descr=""/>
            <p:cNvPicPr/>
            <p:nvPr/>
          </p:nvPicPr>
          <p:blipFill>
            <a:blip r:embed="rId4"/>
            <a:stretch/>
          </p:blipFill>
          <p:spPr>
            <a:xfrm>
              <a:off x="1427040" y="3121200"/>
              <a:ext cx="65581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1476360" y="3213000"/>
              <a:ext cx="614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RF Government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ditioning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ositive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xpectations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the professional communit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7" name="Pyr2"/>
          <p:cNvGrpSpPr/>
          <p:nvPr/>
        </p:nvGrpSpPr>
        <p:grpSpPr>
          <a:xfrm>
            <a:off x="2567160" y="1822320"/>
            <a:ext cx="4005000" cy="1401840"/>
            <a:chOff x="2567160" y="1822320"/>
            <a:chExt cx="4005000" cy="1401840"/>
          </a:xfrm>
        </p:grpSpPr>
        <p:pic>
          <p:nvPicPr>
            <p:cNvPr id="528" name="Pyr2" descr=""/>
            <p:cNvPicPr/>
            <p:nvPr/>
          </p:nvPicPr>
          <p:blipFill>
            <a:blip r:embed="rId5"/>
            <a:stretch/>
          </p:blipFill>
          <p:spPr>
            <a:xfrm>
              <a:off x="2567160" y="1822320"/>
              <a:ext cx="4005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668760" y="1887480"/>
              <a:ext cx="18050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0" name="Text Box 21"/>
          <p:cNvSpPr/>
          <p:nvPr/>
        </p:nvSpPr>
        <p:spPr>
          <a:xfrm>
            <a:off x="2806560" y="205596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F Presid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ive on develop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FC in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93800" y="4862520"/>
            <a:ext cx="7561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stry of economic develop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of developing an IFC in Russi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ailed action plan o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an IF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ck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 Takes Substantial Measu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Support the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46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53D1ABB-7A64-47BF-96AF-B4B2B581110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Содержимое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4572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dget Deficit &amp; Government Deb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88CC20F-7222-4ADC-82B3-12FBC98FFBC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5572080" cy="4572000"/>
          </a:xfrm>
          <a:prstGeom prst="rect">
            <a:avLst/>
          </a:prstGeom>
          <a:ln w="0">
            <a:noFill/>
          </a:ln>
        </p:spPr>
      </p:pic>
      <p:pic>
        <p:nvPicPr>
          <p:cNvPr id="469" name="Содержимое 4" descr=""/>
          <p:cNvPicPr/>
          <p:nvPr/>
        </p:nvPicPr>
        <p:blipFill>
          <a:blip r:embed="rId3"/>
          <a:stretch/>
        </p:blipFill>
        <p:spPr>
          <a:xfrm>
            <a:off x="5429160" y="1500120"/>
            <a:ext cx="3714840" cy="45007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6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like the other countries Russia is going not to sell it’s debt to the market, but to cover it from international reserv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employment Rate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%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Labor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2BEE26F-5649-4FB2-9C1F-1CF50E4BF95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ussia Boosts Target Rat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le the Others Cut 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DC7D3B6-0DD6-4907-A526-70775085A80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Диаграмма 4" descr=""/>
          <p:cNvPicPr/>
          <p:nvPr/>
        </p:nvPicPr>
        <p:blipFill>
          <a:blip r:embed="rId2"/>
          <a:stretch/>
        </p:blipFill>
        <p:spPr>
          <a:xfrm>
            <a:off x="5857920" y="164304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4" descr=""/>
          <p:cNvPicPr/>
          <p:nvPr/>
        </p:nvPicPr>
        <p:blipFill>
          <a:blip r:embed="rId3"/>
          <a:stretch/>
        </p:blipFill>
        <p:spPr>
          <a:xfrm>
            <a:off x="0" y="1600200"/>
            <a:ext cx="854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financing Co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9" name="Содержимое 4" descr=""/>
          <p:cNvPicPr/>
          <p:nvPr/>
        </p:nvPicPr>
        <p:blipFill>
          <a:blip r:embed="rId2"/>
          <a:stretch/>
        </p:blipFill>
        <p:spPr>
          <a:xfrm>
            <a:off x="0" y="1571760"/>
            <a:ext cx="8929800" cy="4429080"/>
          </a:xfrm>
          <a:prstGeom prst="rect">
            <a:avLst/>
          </a:prstGeom>
          <a:ln w="0">
            <a:noFill/>
          </a:ln>
        </p:spPr>
      </p:pic>
      <p:sp>
        <p:nvSpPr>
          <p:cNvPr id="48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EE7B112-56E4-4172-B53C-09FCA6E5C78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Заголовок 1"/>
          <p:cNvSpPr/>
          <p:nvPr/>
        </p:nvSpPr>
        <p:spPr>
          <a:xfrm>
            <a:off x="285840" y="5994360"/>
            <a:ext cx="8358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ountries keep the real target rate in negative zone in order to stimulate the econom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5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5214960" cy="4143240"/>
          </a:xfrm>
          <a:prstGeom prst="rect">
            <a:avLst/>
          </a:prstGeom>
          <a:ln w="0">
            <a:noFill/>
          </a:ln>
        </p:spPr>
      </p:pic>
      <p:sp>
        <p:nvSpPr>
          <p:cNvPr id="48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A6E8DB5-B0ED-4B40-8635-54488A6DAA3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424480" y="1643040"/>
          <a:ext cx="3571920" cy="3541680"/>
        </p:xfrm>
        <a:graphic>
          <a:graphicData uri="http://schemas.openxmlformats.org/drawingml/2006/table">
            <a:tbl>
              <a:tblPr/>
              <a:tblGrid>
                <a:gridCol w="1638360"/>
                <a:gridCol w="1933560"/>
              </a:tblGrid>
              <a:tr h="590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 activity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n. Rub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 Octo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35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 Octo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94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- 11 (</a:t>
                      </a: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net outflow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1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TB 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85" name="TextBox 9"/>
          <p:cNvSpPr/>
          <p:nvPr/>
        </p:nvSpPr>
        <p:spPr>
          <a:xfrm>
            <a:off x="5669640" y="5202360"/>
            <a:ext cx="337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ume of households’ deposit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 of 1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01.2009 –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185</a:t>
            </a:r>
            <a:r>
              <a:rPr b="1" lang="ru-RU" sz="1600" spc="-1" strike="noStrike">
                <a:solidFill>
                  <a:srgbClr val="262673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bln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vate Deposit Ac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1285920" y="58579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nic with deposit withdrawa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been stopp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ble Exchange Rates Dynam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C632927-01F1-4E78-B913-135902815B4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Диаграмма 7" descr=""/>
          <p:cNvPicPr/>
          <p:nvPr/>
        </p:nvPicPr>
        <p:blipFill>
          <a:blip r:embed="rId2"/>
          <a:stretch/>
        </p:blipFill>
        <p:spPr>
          <a:xfrm>
            <a:off x="-6480" y="1494000"/>
            <a:ext cx="5621400" cy="5010120"/>
          </a:xfrm>
          <a:prstGeom prst="rect">
            <a:avLst/>
          </a:prstGeom>
          <a:ln w="0">
            <a:noFill/>
          </a:ln>
        </p:spPr>
      </p:pic>
      <p:sp>
        <p:nvSpPr>
          <p:cNvPr id="491" name="Заголовок 1"/>
          <p:cNvSpPr/>
          <p:nvPr/>
        </p:nvSpPr>
        <p:spPr>
          <a:xfrm>
            <a:off x="5643720" y="2928960"/>
            <a:ext cx="3429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nk of Russia managed to stabilize the ruble, announcing the new target USD-Euro basket rate = 4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n Lines to Fight the Cri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4C6FA25-CB2C-44FB-8B47-6ACAD829E96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4" name="Схема 5" descr=""/>
          <p:cNvPicPr/>
          <p:nvPr/>
        </p:nvPicPr>
        <p:blipFill>
          <a:blip r:embed="rId2"/>
          <a:stretch/>
        </p:blipFill>
        <p:spPr>
          <a:xfrm>
            <a:off x="1725480" y="1504800"/>
            <a:ext cx="59612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preksin_om</cp:lastModifiedBy>
  <dcterms:modified xsi:type="dcterms:W3CDTF">2009-06-18T06:27:33Z</dcterms:modified>
  <cp:revision>1205</cp:revision>
  <dc:subject/>
  <dc:title>Расширение кредитования – важнейший фактор экономического роста России </dc:title>
</cp:coreProperties>
</file>