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ADCB-4814-4A8D-AF5F-B478EE893A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CITS (Undertakings for Collective Investment in Transferable Securitie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iovannini Reports’ three spheres of difficulties within the post trading secto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echnical requirements and industry practices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axation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egal certaint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ring and Settlement Advisory and Monitoring Expert Group ("CESAME"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onitoring Group meets its public intere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y supporting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high quality international standards for auditing, assurance, ethics and education for professional accounta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and by exchanging views relating to international audit quality and to regulatory and market develop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n impact on aud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project is the third step in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ication of accounting rules for SME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nd other companies in the scope of the Fourth and Seventh Company Law Directives (“Accounting Directives”), which began with a fast-track proposal in 200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B07-705D-42E1-911D-5A8C43DD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7BA-0613-4C57-8143-6DEEA84B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C32E-74F7-4FFA-9181-14772AD2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06C3-9628-4E3C-A2C5-AE27D4E1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1448-E326-4500-A5C4-668C818C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F3F6-E70A-43FF-BB31-240D2233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B05F-43DD-41B5-9474-9B874FB4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0CD2-D5DB-47EF-B50F-5C08B87D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90EE-01C9-44D9-956E-D7DF639F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0F1B-3F0F-4B25-91C8-67A2BAC5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12FC-DBB9-493C-865E-5FB98104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05F5-3983-42A9-ABCC-4B4E730B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F4A5-9876-4F2D-AAE7-4C93497B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A524-C2F8-4A17-B979-5E525FBE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4D51-8523-426F-BEA3-17F819FE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CDD4-6C6B-4899-AF9A-D125597A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9817-7846-4EB6-8ECB-B449E87A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E7A3-8B3E-4E97-9671-209C2731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1813-D1EF-4706-8D56-14E69850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6F5A-40C0-4C35-93C9-11BFBD7B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C938-DC20-4551-8228-F8B9E8C0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B2B4-297D-4F1A-9804-AC4446F8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8987-4C71-46CA-BF2D-CB5CCABD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E836-FD4E-4D73-B57F-A4B9548F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57EF-6AF5-420A-B902-85AC404BDCA6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50D4-6148-4B11-B013-22025DD2B78E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66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66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66cc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66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7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(cont-d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Communication on financial supervision in Europe. Proposed reform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composed of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invited by 15-Jul-09.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Legislative proposals are expected in autum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7134-96FE-4ECB-8047-BFA0E9560C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larification of the UCITS </a:t>
            </a:r>
            <a:br>
              <a:rPr sz="3000"/>
            </a:br>
            <a:r>
              <a:rPr b="1" lang="en" sz="3000" spc="-1" strike="noStrike">
                <a:solidFill>
                  <a:srgbClr val="0066cc"/>
                </a:solidFill>
                <a:latin typeface="Times New Roman"/>
              </a:rPr>
              <a:t>Regulations Reg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initiated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larification of the UCITS regulations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in particula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s regards the liability of depositor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will be launched before the end-Jun-09 to deal with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consistencies in the applic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the UCITS directive across MSs that lead to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nlevel playing fiel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sions of the Directive on Alternative Investment Fund Managers (AIFM) are suggested to be extended to UCI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CF33-C8AA-45D3-8F7A-EA3FBA4F7E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 Framework for Managers of Alternative Investment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proposed a Directive on Alternative Investment Fund Managers (AIFM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to create a comprehensive &amp; effective  regulatory and supervisory framework for AIFM in the EU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oposed Directive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ill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require all AIFM be subject to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harmonised regulatory standards;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hance transparency of the activit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able MSs to improve the macro-prudential oversight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overcome gaps and inconsistencies in regulatory frameworks at national level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6DE4-6599-443F-AA96-225FC8889D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conclusions of th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clusion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duct information requirements and rules on product sales need to be improved and made more coheren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pose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new, horizontal legislative approach for product disclosures and sales processes for all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orks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legislative proposal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; to report by the end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BE69-A1CD-4B51-AEDB-D7FDB49077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nsultation on Hedge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Ma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finalised a public Consultation on Hedge Fund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ain areas covered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ystemic risk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Market integrity and efficiency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Risk management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ransparency towards investors and investor protect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&amp;27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organised a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igh-Level Conference on Private Equity and Hedge Funds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s a final step of the consultation proces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03B8-1E43-4688-B449-9CC8AD7436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Investor Compensation Schemes Directive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call for evidence on the review of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pplication of the Investor Compensation Schemes Directive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call addressed, </a:t>
            </a:r>
            <a:r>
              <a:rPr b="0" i="1" lang="en-US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Scope of the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amount of compensation an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unding of the compensation schem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echnical aspects hampering efficient &amp; timely functioning of the sche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reatment of money market fund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8-Apr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88D-296E-44D4-8122-325F952E7E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tail Market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Exercis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questionnaire aiming to monitor the EU Retail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t will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lle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ative inform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bout problems arising from current national regulatory conditions that apply to retail services across the MSs, and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fficiency of these rul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meeting their underlying public interest obj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esponses invited by 5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questionnaire will feed in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tail Market Monitoring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o be published before Nov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887-6ADC-45FD-A140-C7DDB67F3F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ccess to a Basic Bank Account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public Consult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inclusion: Ensuring access to a basic bank accoun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sultative document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scribes the levels, causes and consequences of financial exclusion in the EU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esents various policy solutions to address financial exclusion that exist in some MS,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600" spc="-1" strike="noStrike">
                <a:solidFill>
                  <a:srgbClr val="0066cc"/>
                </a:solidFill>
                <a:latin typeface="Times New Roman"/>
              </a:rPr>
              <a:t>6-Apr-09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5104-6FA0-4AF9-9065-9DECF107D3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lternative Dispute Resolution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on Alternative Dispute Resolution (ADR) in the area of financial servic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objectiv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as to seek views on how ADR schemes in the area of financial services, providing consumers with individual redress, could be further improve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27-Feb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8A9-B9B6-4E2A-B7D1-725E5F38FB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f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‘Non-Credit' Institution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tudy that shows varying national approach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gulation of 'non-credit' institutions in mortgage marke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shows that in the majority of MS, lenders operating outside the EU legal framework for credit institutions are regulated and supervised b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national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uthorities, and that their national market share is small compared with that of fully-fledged credit institu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on the study were invited by 28-Feb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2DA-C4E3-45BB-98B3-43E1FE6548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3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Services and Retail Banking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20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11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ccounting and Audit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516-C237-4B94-A50E-D4A0A0318C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New Industry Rules on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Account Switch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elcomed the European Banking Industry Committee's adoption of a set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Common Principles for Bank Account Switch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clarify the roles of the ‘new’ bank and the ‘old’ bank in situation when consumer wishes to change ban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will apply in each MS as of 1-Nov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541F-CF34-4018-A423-582942235F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Markets 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11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B1A-9903-4AE8-BB4B-D50E7F4288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Directors' Remuner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a Recommendation on the regime for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 director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listed compan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new Recommendation completes the previous ones by specifying certain aspect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structure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irectors’ remuneration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ocess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etermining directors’ remuneration, including shareholder 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re-examine the recommendations in one year’s tim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EFBE-0626-4424-92D9-968A5D10AE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uneration of Risk-Taking Staf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Financial Institution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Recommend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isk-taking staf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financial services secto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focuses on four areas of remuneration polic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tructure of pay (link back to risk-management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overnance (internal transparency, clarity, documented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isclosure (to stakeholders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egislative proposals will follow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ringing remuneration schemes within the scope of prudential oversigh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E69-8EAB-46A5-9424-D03C641A49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Foundation Statut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blic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difficult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oundations face when operating cross-border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hould the outcome be in favour of European Foundation Statue, the aim would be to use a single legal form instead of up to 27 national ones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uropean Foundation would be parallel to the national legal forms and its use would be optional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5-May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D81-4822-4D45-9765-BBDCCA1860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n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edit Rating Agenc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3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nd Council approved the proposal 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ed Regulation on Credit Rating Agencies (CRA’s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RA’s will be expected to comply with stri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tandards of integr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ansparenc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will be subject to ongoing supervision of the Committee of European Securities Regulato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gulation proposes a set of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igorous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 rul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and an effective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rveillance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hereby regulators will supervise credit rating agenc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9539-8A0F-430D-A3A8-7770E7A1C5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Market Abuse Directiv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all for evidence on its review of the application of the Market Abuse Directiv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as reviewing certain element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cope of the markets and financial instrume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ability of listed issuers to delay disclosure of inside informa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sclosure of inside information by issuers of commodity derivativ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0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3180-2791-42BB-A127-FF13EC7681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New Legal Framework for Intermediated Secur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armonisation of the legal framework for securities holding and transacti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y the end of 2009, EC intends to introduce a legislative proposal to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crease legal certainty &amp; efficiency of securities hol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mprove protection of investors' right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1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558-190C-4084-885B-887803EA948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ation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curities Law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on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harmonisation of Securities Law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with relation to the thre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iovannini barrie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ddressed question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ere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holding and disposition of securities held in securities accou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ercise of investor's rights flowing from securities through a "chain" of intermediaries, in particular in cross-border situations;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1-Jun-09. The EC will make a legislative proposal by the end-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3FB9-33D3-4199-99F9-16BBA2847F7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ed Solutions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ross-Border Barriers</a:t>
            </a:r>
            <a:r>
              <a:rPr b="0" lang="ru-RU" sz="26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’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ing and Settlement Advisory and Monitoring Expert Group issued a report on removing industry-related barriers to the cross-border clearing and settlement of securities transac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report gives an overview of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ork by the industry to dismantle the six industry-related "Giovannini Barriers" to post-tra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ate of play on 9 such Barriers attributed to the public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other pertinent topics related to post-trading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CAB-A2FB-4C65-820E-CE642BECE3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Services and </a:t>
            </a:r>
            <a:br>
              <a:rPr sz="3800"/>
            </a:b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Retail Bank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20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C12-893F-4AE8-9DDA-4CE685E7C0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State Ai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ded guidance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eatment of asset relief measures by M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guidance provides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ethodologies of valuation of the impaired asset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necessary remuneration of the State for the asset relief and the procedural steps that will be followed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criteria that will be used to evaluate the State aid given to the bank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6BE2-1B03-4B5C-9EBE-7905A2EB34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entral Counterparty Clear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ternational Swaps and Derivatives Association and the European Banking Federation have committed 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e of Central Counterparty Clearing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(CCP)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for Credit Default Swap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CDS) in the European Unio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signatories committed to cooperating with all relevant bodies in the financial industry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stablish the EU-based central clear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eligible EU contrac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by end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09B3-24F7-4746-B7F5-9BA71E5C66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Action Plan 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-Signatures and e-Identific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the Action Plan on e-signatures and e-identification to facilitate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vision of cross-border public servic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Single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as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the Action Plan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Public authorities offer increasingly more e-service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ir implementation is national-oriented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t creates e-problems for the EU Single Market,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Ss run the risk of not complying with Services Directive and the Public Procurement Directiv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4425-05B2-436F-8E3F-330EE43BC5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Accounting and Audit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7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5B00-0EDD-4475-9140-2B08517DE5D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Group adopt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 Charter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onitoring Group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 group of international regulatory bodies and related organisations committed to advancing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public interest in areas related to international audit 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nnounces the adoption of a formal Charte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harter confirms the formal arrangements agreed upon by participating members and observers to meet their objective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1275-F729-439B-82DE-61438EB96CB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International Auditing Conference with Third Countr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hosted a high-level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Auditing Conferenc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 Brussels on 10-Dec-08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focused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ow to enhance international cooper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mote auditing public oversight systems in third countr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47D8-795B-42E3-9E75-197CBBB3BBB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tandards Advice Review Group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ppointed three new members of the Standards Advice Review Group (SARG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ARG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ask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s to advise EC on the endorsement proces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Standards (IFRS), 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Committee Interpretations (IFRICs).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16C4-984E-4547-A5BD-F5F7103FD0C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Reporting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a Changing World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&amp;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osted a Conference on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Financial Reporting in a Changing World,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Brussel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addressed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policy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in financial report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accounting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raised by the financial crisis: pro-cyclicality of financial statements and possible remedies, i.e. dynamic provision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possible issues for the </a:t>
            </a: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future direction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of financial reporting (broader debate on corporate governance)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FAA4-46A1-426D-B0CB-2B9F4F5EC8A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the 4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and 7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Company Law Directiv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view of the Fourth and Seventh Company Law Dir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aims at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aising issues relating to 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dernisation and simplification of the Accounting Directiv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increasing the clarity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of the text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lawmakers and users in general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30-Apr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6527-AB0E-4F5B-A978-8A4F7D48D56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quivalence in relation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ird Country GAAP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adopt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easures granting equivalence to the Generally Accepted Accounting Principles (GAAPs) of certain third countries as from January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AAPs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, Japan, China, Canada, South Korea and Ind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re found to be equivalent to International Financial Reporting Standards (IFRS) as adopted by the EU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7B5-A13A-4739-A1EF-880D13CCA49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sultation on Possible End-Date for SEPA Migrat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Jun-09</a:t>
            </a:r>
            <a:r>
              <a:rPr b="0" lang="en-GB" sz="32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possible deadlines fo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gration of existing payment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i.e. credit transfers and direct debits)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o the new SEPA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 deadlines for migration signify that SEPA migration is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rreversible proce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hus helping to incentivise both industry and users to speed up migra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eedback from stakeholders invited by 3-Aug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128-248B-40BA-B309-CD95588037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urden Reducti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or Micro Ent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t forward a new proposal allowing MSs to completel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bolish financial reporting obligations for the EU's smallest compan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ggregate administrative burden reduction potential is estimated at around € 6.3 bill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icro entities fulfil two out of the three following criteria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balance sheet total of EUR 500.000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t turnover of EUR 1.000.000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an average number of employees during the financial year of 10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C55-3EE7-4F37-8906-FE01DB503DB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1D9-E50E-4873-A184-4090F498F77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-money and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oss-Border Payment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24-Apr-09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dopted 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o legislative proposal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urrent rules govern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cross-border payments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: the Regulation will apply as of 1-Nov-09, the final deadline for the transposition of the Payment Services Directive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onditions for issu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electronic money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 in the EU: Directive to be transposed by 2011 at the latest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oth legal texts will now be forwarded to the EU Council for final adop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6583-01AF-435D-BE8E-DE1EBC3103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Payment System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arket Expert Group (PSMEG)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set up a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SME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of 50 members) to assist in the preparation of policy in the field of payment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roup’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ss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ssist the Commission in the preparation of legislative acts or policy initiatives on payment system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ovide insight on the practical implementation of these polici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views on the latest best practices;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nsure monitoring of potential issues of concern to the market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A57-96C4-49B3-B633-802A3AF087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moving Barriers to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lectronic Invoic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xpert Group on Electronic Invoicing published i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terim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hich sets out a vision for a European Electronic Invoicing (EEI) Framewor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port outlines a number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arrie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to e-invoicing, the electronic transfer of billing and payment information between supplier and buye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roup plans to draft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ode of practi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the guidance of trading parties, their service providers and tax authorities and to develop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twork model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which supports interoperability, choice of services, and European reach for the exchange of invoic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988D-25DD-4A42-90C1-C8B9D6243E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reviewing the Directive on Deposit Guarantee Schem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im is to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nsure greater effectiveness of the Directive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spond adequately to any deficiencies or risks as evidenced in the current financial crisi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s on 27-Jul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submit a report, and if appropriate, legislative proposals by the end of 20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CBC-D3AC-44F1-9CD8-9E7052AED6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High-Level group on Supervision in the EU published the De Larosière repor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 improvement of supervision for the financial services sector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eld a High Level Conference “Towards a new supervisory architecture in Europe”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9C4D-5907-4D11-8562-6236A45D96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proskurovska</cp:lastModifiedBy>
  <dcterms:modified xsi:type="dcterms:W3CDTF">2009-06-17T10:00:09Z</dcterms:modified>
  <cp:revision>163</cp:revision>
  <dc:subject/>
  <dc:title>Latest developments in the EU legislation on financial services</dc:title>
</cp:coreProperties>
</file>