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47437-D8EC-4459-8ADD-6E7D1967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47F13-C9B3-4089-8A1A-70738C78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0A385-6A7F-4712-AAC4-7A77A097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2DD93-739C-429E-AC25-69E59F7B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2D6EA-D404-4B44-9244-58F7142D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F62E1-5B36-4DE3-A0D1-F0BC867C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B1B29-3F47-47BE-B27D-897F2C7D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8BA8C-49B5-4AD6-B71F-8C78B285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1971F-4C9F-4E03-9A6A-DFE330EB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A6729-7F20-4F94-9250-5E23269E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F09CC-072F-4FDB-B585-6DC3B4D4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CBF1C-0C63-468D-ABDB-8CC40421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9BAEAF-11D5-444A-AB40-CBAA91DADEA9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52F776E-158E-4483-976A-50A641B5F0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V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I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0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P&amp;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395280"/>
            <a:ext cx="1511280" cy="1260360"/>
          </a:xfrm>
          <a:prstGeom prst="wedgeEllipseCallout">
            <a:avLst>
              <a:gd name="adj1" fmla="val -14532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5800" y="1866960"/>
            <a:ext cx="822348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19008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iciency, ROA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0" y="1008000"/>
            <a:ext cx="1619280" cy="1260360"/>
          </a:xfrm>
          <a:prstGeom prst="wedgeEllipseCallout">
            <a:avLst>
              <a:gd name="adj1" fmla="val -32449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5080" y="2519280"/>
            <a:ext cx="4444920" cy="271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2411280"/>
            <a:ext cx="49561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200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520" y="3884760"/>
            <a:ext cx="8637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ock &amp;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ne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k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0360" y="1979640"/>
            <a:ext cx="1619280" cy="1260360"/>
          </a:xfrm>
          <a:prstGeom prst="wedgeEllipseCallout">
            <a:avLst>
              <a:gd name="adj1" fmla="val 96143"/>
              <a:gd name="adj2" fmla="val 10415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Central B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21607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targeted to public se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olled exchange rate and liquid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440000"/>
            <a:ext cx="838836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balanced the budget – March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o little too late – (local elections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d 750 mil € bonds in M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2160360"/>
            <a:ext cx="820908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 some other countries – banks helped government – 2,8 bln 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squeezing out of private sector (stil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able credit 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sing interest r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sks lie in real s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ing Assoc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208548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ac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ensive media cover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questions to banks ended up with 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ordinating respo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presence in newspapers, TV and radio, web portals than entire 200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281 - “value” close to €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87 presences - “value” close to €2,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76, additional web portals 3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9% “neutra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DP Grow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15772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157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final annual calculation of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19640" y="5040360"/>
            <a:ext cx="1960560" cy="17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2160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CPI inflation (1996-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 RPI inflation) and core inflation, 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2575080"/>
            <a:ext cx="4038480" cy="257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8320" y="2617920"/>
            <a:ext cx="4038480" cy="24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16360" y="5157720"/>
            <a:ext cx="396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flation in Croatia and Turkey is measured by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umer price index, and in the other selected countries by harmonized index of consumer prices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s: CBS, Eurostat and central banks' web 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l Reserves and Deposi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287280"/>
            <a:ext cx="1511280" cy="1511280"/>
          </a:xfrm>
          <a:prstGeom prst="wedgeEllipseCallout">
            <a:avLst>
              <a:gd name="adj1" fmla="val -40550"/>
              <a:gd name="adj2" fmla="val 62254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197964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1827360"/>
            <a:ext cx="3159360" cy="4113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814400"/>
            <a:ext cx="833904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rrent Account and Foreign Deb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979640"/>
            <a:ext cx="1511280" cy="1260360"/>
          </a:xfrm>
          <a:prstGeom prst="wedgeEllipseCallout">
            <a:avLst>
              <a:gd name="adj1" fmla="val -31199"/>
              <a:gd name="adj2" fmla="val 6496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611360"/>
            <a:ext cx="4934160" cy="516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6360" y="3749760"/>
            <a:ext cx="3744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Assets – Exchange Ra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16420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80000" y="1673280"/>
            <a:ext cx="319572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320" y="1800360"/>
            <a:ext cx="60433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249084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4720" y="5222880"/>
            <a:ext cx="2554560" cy="143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40000" y="4859280"/>
            <a:ext cx="5751720" cy="130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480000" y="3060720"/>
            <a:ext cx="234000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ital Adequ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1628640"/>
            <a:ext cx="594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ory capita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 exposure to ri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2360" y="720720"/>
            <a:ext cx="1871640" cy="1763640"/>
          </a:xfrm>
          <a:prstGeom prst="wedgeEllipseCallout">
            <a:avLst>
              <a:gd name="adj1" fmla="val -2124"/>
              <a:gd name="adj2" fmla="val 32125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32000" y="2217600"/>
            <a:ext cx="619272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09-06-16T13:55:16Z</dcterms:modified>
  <cp:revision>70</cp:revision>
  <dc:subject/>
  <dc:title>KREDITNI REGISTAR KAO INSTITUCIJA RAZVIJENOG FINANCIJSKOG TRŽIŠ</dc:title>
</cp:coreProperties>
</file>