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5.wmf" ContentType="image/x-wmf"/>
  <Override PartName="/ppt/media/image28.wmf" ContentType="image/x-wmf"/>
  <Override PartName="/ppt/media/image1.jpeg" ContentType="image/jpeg"/>
  <Override PartName="/ppt/media/image15.wmf" ContentType="image/x-wmf"/>
  <Override PartName="/ppt/media/image27.wmf" ContentType="image/x-wmf"/>
  <Override PartName="/ppt/media/image26.wmf" ContentType="image/x-wmf"/>
  <Override PartName="/ppt/media/image14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30DA7-7C74-4197-A8AF-94362D3326E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17F44-E64A-4DA3-A53D-15CF870896E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4CFD6-8ECA-4DEF-B56E-A4041216C7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4E56D-0106-45C2-8940-7A4BE0AD742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7A893-FA94-4024-9677-7C2A71559C0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22A3C-4D2D-415E-BD1C-AC5A1D63803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2F41C-2C5E-4A29-85F9-A2BAC0D82E5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3505B-CC96-4BA9-82AB-EB97C0E1ED0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6C4F6-FD4B-4DD3-B677-C3F8A5CD6A4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D5251-83F7-4F68-9438-B972327983B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BBFEF-238F-4CE1-BE29-357D0F38D8A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3965F-FA5D-4FF2-A04E-49ED777418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3492360" y="836640"/>
            <a:ext cx="2195640" cy="2232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5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492360" y="836640"/>
            <a:ext cx="2195640" cy="2232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"/>
          </p:nvPr>
        </p:nvSpPr>
        <p:spPr>
          <a:xfrm>
            <a:off x="0" y="6381360"/>
            <a:ext cx="37800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2"/>
          </p:nvPr>
        </p:nvSpPr>
        <p:spPr>
          <a:xfrm>
            <a:off x="3995640" y="6381360"/>
            <a:ext cx="7192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867C-D6E7-4D2C-B649-FF4C90028C53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8217000" y="5927760"/>
            <a:ext cx="927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1628640"/>
            <a:ext cx="9144000" cy="32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Turkish Economy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Banking S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June 18, 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200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52613-88A6-48A8-8953-78F8D14C714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General Economic Out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39280" y="1341000"/>
            <a:ext cx="81471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1718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growth declines since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inflation stabilized around 10 per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Public finance discipline achie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growth is critically dependent on capital inflow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re’s an ongoing savings defic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re’s a fast increase in foreign debt st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unemployment which was around 10% increased with the cris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7D0FF-536B-4516-AA53-2E10D9B242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50920" y="2133720"/>
            <a:ext cx="86421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Part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Ban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5217C-DC38-4202-BFD0-E3A35D94BB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Number of B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68360" y="1197000"/>
          <a:ext cx="8218440" cy="453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97000"/>
                    <a:ext cx="821844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797D3-1F1D-4310-A22A-A34E065FF2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Number of Branches and Personnel</a:t>
            </a:r>
            <a:r>
              <a:rPr b="1" lang="en-NZ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68360" y="1628640"/>
          <a:ext cx="4036680" cy="4524840"/>
        </p:xfrm>
        <a:graphic>
          <a:graphicData uri="http://schemas.openxmlformats.org/drawingml/2006/table">
            <a:tbl>
              <a:tblPr/>
              <a:tblGrid>
                <a:gridCol w="4036680"/>
              </a:tblGrid>
              <a:tr h="4524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468360" y="1341360"/>
          <a:ext cx="8218440" cy="453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821844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C26FA-023A-4E70-8157-1F2539EAE3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Total Assets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USD billion)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Total Assets/GDP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50920" y="1413000"/>
          <a:ext cx="8435880" cy="44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13000"/>
                    <a:ext cx="84358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CEB83-F102-4128-A044-34B4F89408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4739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TL/FX Composition of Assets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68360" y="1052640"/>
          <a:ext cx="8280360" cy="475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052640"/>
                    <a:ext cx="8280360" cy="47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D283B-3C50-4477-8CCB-1E1143EB2F6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Loans under follow-up/ </a:t>
            </a:r>
            <a:br>
              <a:rPr sz="3200"/>
            </a:b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Total Loans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tr-TR" sz="2400" spc="-1" strike="noStrike">
                <a:solidFill>
                  <a:srgbClr val="333399"/>
                </a:solidFill>
                <a:latin typeface="Arial"/>
              </a:rPr>
              <a:t>%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68360" y="1341360"/>
          <a:ext cx="8136000" cy="455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8136000" cy="45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40555-006C-4479-94DD-B761C564A6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Arial"/>
              </a:rPr>
              <a:t>Loans/Deposit Ratio</a:t>
            </a:r>
            <a:r>
              <a:rPr b="0" lang="tr-TR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tr-TR" sz="3200" spc="-1" strike="noStrike">
                <a:solidFill>
                  <a:srgbClr val="333399"/>
                </a:solidFill>
                <a:latin typeface="Arial"/>
              </a:rPr>
              <a:t>(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57200" y="1052640"/>
          <a:ext cx="8229600" cy="50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52640"/>
                    <a:ext cx="822960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31C5D-06AD-489A-B359-8A7B49D312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pital Ad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qu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y and Shareholders’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95280" y="1197000"/>
          <a:ext cx="8280360" cy="482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97000"/>
                    <a:ext cx="8280360" cy="48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C238A-503F-4D17-913B-F260FE13C7E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General Outlook of Banking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50560" y="980640"/>
            <a:ext cx="8785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Fast increase in number of brances and personn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Fast increase in total assets and loa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Money substitution is around 3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Loans under follow up is at a low level (3%) and 90% of them are provisio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he ratio of loans/deposits incre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CAR of the sector is around 17 perc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9B6FD-E22F-42C7-8007-EB83E00A88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1916280"/>
            <a:ext cx="76183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Part I</a:t>
            </a:r>
            <a:br>
              <a:rPr sz="3600"/>
            </a:b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Turkish Econ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B49C7-3FCF-4D15-A934-D759FAADB0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095480" y="2205000"/>
            <a:ext cx="6953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Part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Global Crisi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Turkish Banking Sector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71E59-C7D5-479E-85CD-CB4509BBE7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Development of Liabilitie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USD terms, October 2008=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69800" y="1628640"/>
          <a:ext cx="822636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628640"/>
                    <a:ext cx="8226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92911-FBB4-4E85-B260-46D6B9B8DF8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Development of Asset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USD terms, October 2008=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57200" y="1484280"/>
          <a:ext cx="8229600" cy="432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84280"/>
                    <a:ext cx="82296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36DB8-7071-434A-A454-3DAEB8CB4C6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Composition of Liabilitie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TL ter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50920" y="1341360"/>
          <a:ext cx="8642160" cy="46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41360"/>
                    <a:ext cx="864216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E07A1-2167-4F92-8C1C-C791D651D43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Composition of Asset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TL ter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24000" y="1268280"/>
          <a:ext cx="8243640" cy="48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268280"/>
                    <a:ext cx="824364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2B551-7C9C-4656-88D8-50DDC73720B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Deposits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50920" y="1125360"/>
          <a:ext cx="8435880" cy="469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8435880" cy="46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5573E-498E-48DB-A4D7-C4B39C0EB15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Liquid Assets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57200" y="1268280"/>
          <a:ext cx="8229600" cy="455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68280"/>
                    <a:ext cx="8229600" cy="45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2D004-3EFA-445B-A801-0C7B3046410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Securities (TL/USD Mill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50920" y="1125360"/>
          <a:ext cx="8642160" cy="469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8642160" cy="46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3FE11-A30F-4541-99D1-EB37827FFFB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Loans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57200" y="1125360"/>
          <a:ext cx="8229600" cy="46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25360"/>
                    <a:ext cx="822960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92254-992B-4042-BF48-A7D493C1F55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Loans under follow-up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457200" y="1052640"/>
          <a:ext cx="8229600" cy="47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52640"/>
                    <a:ext cx="822960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82070-A99E-4496-AFDF-34639B26071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GDP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% change in real terms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95280" y="1413000"/>
          <a:ext cx="8291520" cy="439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13000"/>
                    <a:ext cx="8291520" cy="43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7D519-FFDE-45E4-86B4-9287A3D7CC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FX Position (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57200" y="1268280"/>
          <a:ext cx="8229600" cy="468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68280"/>
                    <a:ext cx="822960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09220-E52B-4D58-B3C4-50EC8044A21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Effects of the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50560" y="69228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iabilities decreased slightly in real te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Composition of total assets chan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otal loans decreased slightly, while securities incre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oans under follow-up increased sharp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FX risk, liquidity risk and interest risk are ignorably 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Capital adequacy ratio remained at high lev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 quality of loan stock deteriorates due to decreasing economic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0A2E8-A138-429E-AA58-193E0745CDC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Inflation 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% change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50920" y="1197000"/>
          <a:ext cx="871380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871380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9D25F-D243-4D9B-9D2C-B22D89C869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PSBR/GDP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1990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-200</a:t>
            </a: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24000" y="1197000"/>
          <a:ext cx="836280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97000"/>
                    <a:ext cx="836280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88092-9C70-43E5-A55C-8806F3C0BC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Net Savings/GDP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%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95280" y="1125360"/>
          <a:ext cx="829152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29152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667C5-F2E0-456C-96E5-02952FB343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Growth and Capital Flows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68360" y="907920"/>
          <a:ext cx="8218440" cy="482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907920"/>
                    <a:ext cx="8218440" cy="48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81382-8F10-45E4-AE0E-813525121D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External Debt Stock (USD billion)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981000"/>
          <a:ext cx="8435880" cy="496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81000"/>
                    <a:ext cx="8435880" cy="49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CC246-FA72-4F7D-A257-52201F53AF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nemployment Rate (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%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95280" y="981000"/>
          <a:ext cx="8291520" cy="489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981000"/>
                    <a:ext cx="829152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75626-E945-47C7-B192-36F96256BC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07:33:45Z</dcterms:created>
  <dc:creator> </dc:creator>
  <dc:description/>
  <dc:language>en-US</dc:language>
  <cp:lastModifiedBy>mumcum</cp:lastModifiedBy>
  <dcterms:modified xsi:type="dcterms:W3CDTF">2009-06-16T09:56:14Z</dcterms:modified>
  <cp:revision>125</cp:revision>
  <dc:subject/>
  <dc:title>Slide 1</dc:title>
</cp:coreProperties>
</file>