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86575" cy="9677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BF45-B68C-401D-8EB0-5A25ABE4A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E771-CF63-4023-AAFC-D273738C6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0563-E7FD-4116-97A9-EC84A9924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C369-A31A-4ABA-A18E-89F00D4DB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C3C5C-58E6-4A6C-B95F-3C03A65C1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54C04-217E-4484-8802-3C476DA73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A10F4-5B1C-4E46-8795-F8DAC5E5B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192B2-3EFE-4F58-9C73-B3F5DDB67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BC2CD-9EC2-4A9A-B3C7-ACBCC1B4C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03F34-BF2F-4AE4-BD19-7462071D7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DFC1F-BD0E-4B58-89EC-F3C52846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190D-B93D-4928-8F89-E1FE6AE67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89E94-FB24-414F-8787-A39CA596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7A6A1-7349-463B-A16E-1E18D554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46567-86A1-4E70-ADB9-CA2462878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35A6A-BE10-4352-A042-EBB4D8FAF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52C36-DF12-4BBC-8F21-F14340FDD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235B-E7CD-4192-BF41-CF2D0E0CF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9409-4A85-4417-90DC-20C225E3B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96BB-86E2-4988-8B0C-AF1E5DA11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6667-CBB2-4960-978F-190BCD907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F8EE-C8B5-4AAF-9CC5-6D2A16E5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036F-1FD3-4074-ADAC-DB61E40B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47D5-03E2-43B6-BBD9-FEAFC806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ff5050"/>
                </a:gs>
                <a:gs pos="100000">
                  <a:srgbClr val="75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4DED6-7ED9-40C3-ADC2-162AFD9300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ff5050"/>
                </a:gs>
                <a:gs pos="100000">
                  <a:srgbClr val="75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0EFD9-50A4-4B07-8A56-1FA12C51CF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66840" y="456840"/>
            <a:ext cx="629136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13400" y="6210360"/>
            <a:ext cx="423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cc0000"/>
                </a:solidFill>
                <a:latin typeface="Times New Roman"/>
              </a:rPr>
              <a:t>Département des Finances &amp; de l’Économ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762120"/>
            <a:ext cx="7696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sz="5400" spc="-1" strike="noStrike">
                <a:solidFill>
                  <a:srgbClr val="cc0000"/>
                </a:solidFill>
                <a:latin typeface="Times New Roman"/>
              </a:rPr>
              <a:t>European Banking Feder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02920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3200" spc="-1" strike="noStrike">
                <a:solidFill>
                  <a:srgbClr val="cc0000"/>
                </a:solidFill>
                <a:latin typeface="Times New Roman"/>
              </a:rPr>
              <a:t>Monaco, June 20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rance   : 28%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onaco : 22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taly       : 19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K         : 8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elgium : 3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00"/>
                </a:solidFill>
                <a:latin typeface="Arial"/>
              </a:rPr>
              <a:t>C – Population 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16760" y="1828800"/>
            <a:ext cx="5374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Break down by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ationality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243828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2209680"/>
            <a:ext cx="70866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cc0000"/>
                </a:solidFill>
                <a:latin typeface="Arial"/>
              </a:rPr>
              <a:t>D – Focus 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cc0000"/>
                </a:solidFill>
                <a:latin typeface="Arial"/>
              </a:rPr>
              <a:t>          </a:t>
            </a:r>
            <a:r>
              <a:rPr b="1" sz="4400" spc="-1" strike="noStrike">
                <a:solidFill>
                  <a:srgbClr val="cc0000"/>
                </a:solidFill>
                <a:latin typeface="Arial"/>
              </a:rPr>
              <a:t>Banking activities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D – Banking activities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42 credit institutions :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l subsidiaries or branches from European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UM  : 75 billion 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II Banking  sector regulation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1599840"/>
            <a:ext cx="7924680" cy="21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1. A close and long standing relationship with France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3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1.1.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 Monaco and France : </a:t>
            </a:r>
            <a:br>
              <a:rPr sz="3600"/>
            </a:b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  </a:t>
            </a:r>
            <a:br>
              <a:rPr sz="3600"/>
            </a:b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A monetary union </a:t>
            </a:r>
            <a:br>
              <a:rPr sz="3600"/>
            </a:b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well before the euro zone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1.2 Implementation of the French banking regulation : CCLRF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1.3 licensing by French Committee 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CECE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cc0000"/>
                </a:solidFill>
                <a:latin typeface="Arial"/>
              </a:rPr>
              <a:t>1.4 Supervision by the French authorities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sz="3600" spc="-1" strike="noStrike">
                <a:solidFill>
                  <a:srgbClr val="cc0000"/>
                </a:solidFill>
                <a:latin typeface="Arial"/>
              </a:rPr>
              <a:t>Commission Bancai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2. Monaco – part of the Euro zone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828800"/>
            <a:ext cx="74674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 </a:t>
            </a:r>
            <a:br>
              <a:rPr sz="4000"/>
            </a:b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I Economy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II Banking  sector regulation </a:t>
            </a:r>
            <a:br>
              <a:rPr sz="4000"/>
            </a:br>
            <a:r>
              <a:rPr b="0" lang="en-GB" sz="36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440" y="289548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2.1 Monaco joined the Euro zon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on 1.1.2002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2.2 Monaco has recently joined SEPA   :    March 2009</a:t>
            </a:r>
            <a:br>
              <a:rPr sz="4800"/>
            </a:b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00"/>
                </a:solidFill>
                <a:latin typeface="Arial"/>
              </a:rPr>
              <a:t>Thank you 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314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A – Monaco GDP 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A – GDP 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47640" y="1700280"/>
            <a:ext cx="698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1600200"/>
            <a:ext cx="7848720" cy="40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GDP 2007: 4,3 billion €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round 15 % growth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GDP  per capita : 60 K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7709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ectors :  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rade   : 16 %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Banking and finance : 15 %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upport activities: 15 %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Real Estate : 10 %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ourism  : 10 %</a:t>
            </a:r>
            <a:br>
              <a:rPr sz="3600"/>
            </a:b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838080"/>
            <a:ext cx="472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A – GD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B – Monaco Budget </a:t>
            </a:r>
            <a:br>
              <a:rPr sz="4000"/>
            </a:b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B - Budget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2209320"/>
            <a:ext cx="8077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79880" indent="-4798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Budget : 900 M€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me    :  75% of tax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nses : very strong social syst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 M€ in public 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public deb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 2008  :  + 4 M€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62120" y="304812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 – Monaco popul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00"/>
                </a:solidFill>
                <a:latin typeface="Arial"/>
              </a:rPr>
              <a:t>C – Population 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35 000 resid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Working population : 45.0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reak down by continents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urope : 92 %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ther continents : 8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13:16:25Z</dcterms:created>
  <dc:creator> </dc:creator>
  <dc:description/>
  <dc:language>en-US</dc:language>
  <cp:lastModifiedBy>Service Informatique</cp:lastModifiedBy>
  <dcterms:modified xsi:type="dcterms:W3CDTF">2009-06-18T06:45:30Z</dcterms:modified>
  <cp:revision>118</cp:revision>
  <dc:subject/>
  <dc:title>Conférence des Ambassadeurs</dc:title>
</cp:coreProperties>
</file>