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670675" cy="9777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670800" cy="977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778200" y="0"/>
            <a:ext cx="28893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890280" y="733320"/>
            <a:ext cx="4887720" cy="366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Click to move the slide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0" y="9284760"/>
            <a:ext cx="288936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778200" y="9284760"/>
            <a:ext cx="288936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BB512-4E68-454E-AAD8-5B0D5E39CCC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F3D40-4A19-4B69-BACE-496EFE4DDD62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890640" y="733320"/>
            <a:ext cx="4887720" cy="366552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890640" y="733320"/>
            <a:ext cx="4887720" cy="366552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9A232-6D94-4335-8495-5B7372E7341F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890640" y="733320"/>
            <a:ext cx="4887720" cy="366552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32B91-F3A3-472A-86A6-3C9B3498CEF1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890640" y="733320"/>
            <a:ext cx="4887720" cy="366552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7E7F4-D45B-471C-995E-679D46898CA3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890640" y="733320"/>
            <a:ext cx="4887720" cy="366552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033C3-15BC-4FE8-90EB-017D66FDB287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890640" y="733320"/>
            <a:ext cx="4887720" cy="366552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EB2F4-B8FB-4C38-91FB-8DECBE36C866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855C4-1916-4FE4-B5D1-9DC7E38F3C21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890640" y="733320"/>
            <a:ext cx="4887720" cy="366552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3D7F2-CD08-49DC-9284-1149494E3CA4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890640" y="733320"/>
            <a:ext cx="4887720" cy="366552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28FD2-FE26-4AB5-8392-CE23348558AA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890640" y="733320"/>
            <a:ext cx="4887720" cy="366552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890640" y="733320"/>
            <a:ext cx="4887720" cy="366552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6587A-A08F-4A93-8365-6FE901B15B3F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890640" y="733320"/>
            <a:ext cx="4887720" cy="366552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828B0-0EF6-482A-8DB8-C505DA906000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90640" y="733320"/>
            <a:ext cx="4887720" cy="366552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8FF90-9FAE-42BF-A0BF-33C8A7454F55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890640" y="733320"/>
            <a:ext cx="4887720" cy="366552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8C032-4A86-4AF2-B5C1-009F4896F413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890640" y="733320"/>
            <a:ext cx="4887720" cy="366552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1B704-E69E-44EA-84BC-3C489F8A31F8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890640" y="733320"/>
            <a:ext cx="4887720" cy="366552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96BA5-88E2-4BB7-9794-6DD29F4D8684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890640" y="733320"/>
            <a:ext cx="4887720" cy="366552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811CF-DFF3-4956-812C-7FF53A966E40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C3CF2-5E28-4F2C-9AFC-A265CEDB6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79D7B-42B8-4077-9B2C-9E3CA2403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0E58A-CF93-4E4C-A27C-0FEAA8D94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4EB77-9E9B-4039-A373-FED927FB5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85C2E-EF10-495F-A0A9-10BCF180C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C8422-C4FA-4A1A-B31A-505A8DD93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47C8C-138D-46E0-BBF4-877B23815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5CBBB-1734-4A4F-8F1A-724692589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415E8-FFE1-4E9D-9E63-1A70605B0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2894040" y="259920"/>
            <a:ext cx="5710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035DF-3357-4718-9198-134B9279C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E967A-1AC0-46F8-A4F6-190F3EA34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4A53E-C051-4585-92C8-951E0BB58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9BBA3-F48F-4517-BFB5-14556AC7C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2B6A1-8D79-4421-BAA5-16F3C7407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A9667-027A-4555-A888-DA5670F34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E4C5D-CF16-49EE-8532-516A1B238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7CBED-8260-441E-A39F-B06EE8D33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57121-2917-4B04-B289-2E66C3DD6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C7348-9F45-4C4D-86D9-D7835968B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BA038-D9EE-4850-9FD3-20563DD4F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894040" y="259920"/>
            <a:ext cx="5710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A67F9-91BC-4FA8-8424-958F71A3A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54D3E-971C-4777-AC3E-CF04B17DF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0FEE7-B5AF-40C5-AE88-C16F8BC5F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97B19-334E-46DD-9773-F84855F70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Click to edit the outline text format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6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econd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2" marL="11430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Third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3" marL="16002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Four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4" marL="20574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Fif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5" marL="2057400" indent="-228600">
              <a:spcBef>
                <a:spcPts val="624"/>
              </a:spcBef>
              <a:buClr>
                <a:srgbClr val="005ca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ix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6" marL="2057400" indent="-228600">
              <a:spcBef>
                <a:spcPts val="624"/>
              </a:spcBef>
              <a:buClr>
                <a:srgbClr val="005ca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even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68000" y="6381720"/>
            <a:ext cx="213372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95C62-047A-4A64-8B56-CA426A814F0B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Line 8"/>
          <p:cNvSpPr/>
          <p:nvPr/>
        </p:nvSpPr>
        <p:spPr>
          <a:xfrm flipV="1">
            <a:off x="468360" y="1557360"/>
            <a:ext cx="0" cy="530064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5" name="Line 9"/>
          <p:cNvSpPr/>
          <p:nvPr/>
        </p:nvSpPr>
        <p:spPr>
          <a:xfrm>
            <a:off x="468360" y="1557360"/>
            <a:ext cx="4174920" cy="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pic>
        <p:nvPicPr>
          <p:cNvPr id="6" name="Picture 11" descr="EBF FINAL"/>
          <p:cNvPicPr/>
          <p:nvPr/>
        </p:nvPicPr>
        <p:blipFill>
          <a:blip r:embed="rId2"/>
          <a:stretch/>
        </p:blipFill>
        <p:spPr>
          <a:xfrm>
            <a:off x="0" y="189000"/>
            <a:ext cx="2943360" cy="130500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Click to edit the title text format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6"/>
          <p:cNvSpPr/>
          <p:nvPr/>
        </p:nvSpPr>
        <p:spPr>
          <a:xfrm flipV="1">
            <a:off x="468360" y="1557360"/>
            <a:ext cx="0" cy="530064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45" name="Line 7"/>
          <p:cNvSpPr/>
          <p:nvPr/>
        </p:nvSpPr>
        <p:spPr>
          <a:xfrm>
            <a:off x="468360" y="1557360"/>
            <a:ext cx="4174920" cy="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pic>
        <p:nvPicPr>
          <p:cNvPr id="46" name="Picture 8" descr="EBF FINAL"/>
          <p:cNvPicPr/>
          <p:nvPr/>
        </p:nvPicPr>
        <p:blipFill>
          <a:blip r:embed="rId2"/>
          <a:stretch/>
        </p:blipFill>
        <p:spPr>
          <a:xfrm>
            <a:off x="0" y="189000"/>
            <a:ext cx="2943360" cy="1305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Click to edit the outline text format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6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econd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2" marL="11430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Third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3" marL="16002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Four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4" marL="20574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Fif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5" marL="2057400" indent="-228600">
              <a:spcBef>
                <a:spcPts val="624"/>
              </a:spcBef>
              <a:buClr>
                <a:srgbClr val="005ca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ix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6" marL="2057400" indent="-228600">
              <a:spcBef>
                <a:spcPts val="624"/>
              </a:spcBef>
              <a:buClr>
                <a:srgbClr val="005ca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even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Click to edit the title text format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9C874-B404-4A4A-991A-4008F4D679C7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4360" y="177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cc"/>
                </a:solidFill>
                <a:latin typeface="Times New Roman"/>
              </a:rPr>
              <a:t>Future Supervisory Architecture of the EU</a:t>
            </a:r>
            <a:endParaRPr b="0" lang="en-US" sz="32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4149720"/>
            <a:ext cx="640080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Guido RAVOET </a:t>
            </a:r>
            <a:br>
              <a:rPr sz="2500"/>
            </a:b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EBF Secretary Genera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28</a:t>
            </a:r>
            <a:r>
              <a:rPr b="0" lang="en-GB" sz="2500" spc="-1" strike="noStrike" baseline="30000">
                <a:solidFill>
                  <a:srgbClr val="0066cc"/>
                </a:solidFill>
                <a:latin typeface="Times New Roman"/>
              </a:rPr>
              <a:t>th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 EBF Associates’ Meeting</a:t>
            </a:r>
            <a:br>
              <a:rPr sz="2500"/>
            </a:b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Monaco, 18 June 2009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31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9ED54-ABAA-418E-9C51-BCBC086DD99B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340000" y="260280"/>
            <a:ext cx="662472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European Supervisory Authorities</a:t>
            </a: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: Role</a:t>
            </a: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Ensure a </a:t>
            </a: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single rulebook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 (through binding technical standards and interpretative guidelines);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Ensure consistent </a:t>
            </a: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application of the rules 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by supervisors and consistent supervisory practices;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Ensure </a:t>
            </a: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common supervisory culture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 and consistent supervisory practices;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Collect relevant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 </a:t>
            </a: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micro-prudential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 </a:t>
            </a: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information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 from national supervisors.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35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1A394-9050-4471-9397-0AEEE28F10B7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40000" y="260280"/>
            <a:ext cx="662472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European Supervisory Authorities</a:t>
            </a: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: Composition</a:t>
            </a: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Composition of the new ESA follows that of the current Lamfalussy Level 3 Committees: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Secretariat, 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Secretary General and Chair, and 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Board where the Commission, the ESRC and the EFTA-EEA countries would be represented. 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The resources will need to be substantially increased as compared to the current resources of the Level 3 Committees for the new Authorities to fulfil their roles. 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39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10BD0-0EC4-4C00-AC68-64DBF39A6483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40000" y="260280"/>
            <a:ext cx="662472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European Supervisory Authorities</a:t>
            </a: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: Functioning</a:t>
            </a: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Regular </a:t>
            </a: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meetings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;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Decision making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: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476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66cc"/>
                </a:solidFill>
                <a:latin typeface="Times New Roman"/>
              </a:rPr>
              <a:t>Binding technical standards made with qualified majority voting;</a:t>
            </a:r>
            <a:endParaRPr b="0" lang="en-US" sz="19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476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66cc"/>
                </a:solidFill>
                <a:latin typeface="Times New Roman"/>
              </a:rPr>
              <a:t>Interpretative decisions: simple majority procedure;</a:t>
            </a:r>
            <a:endParaRPr b="0" lang="en-US" sz="19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Budget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: the Authorities have their own budget, which is funded by the national authorities and/or industry. Financial and human resources need to be proportionate to the responsibilities of the Authorities and ensure independence;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Accountable 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to Council, Commission and European Parliament.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43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8BC8D-8CD4-4B8F-9CD7-E8A09641A57B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Communication’s proposals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8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808080"/>
                </a:solidFill>
                <a:latin typeface="Times New Roman"/>
              </a:rPr>
              <a:t>European Systemic Risk Council (ESRC)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8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808080"/>
                </a:solidFill>
                <a:latin typeface="Times New Roman"/>
              </a:rPr>
              <a:t>European System of Financial Supervisors (ESFS)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5ca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5cad"/>
                </a:solidFill>
                <a:latin typeface="Times New Roman"/>
              </a:rPr>
              <a:t>ESRC-ESFS Cooperation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47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8BBEA-D6DB-4E1C-BDB5-2975A0FAD9F5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40000" y="260280"/>
            <a:ext cx="662472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Cooperation between ESRC and ESFS</a:t>
            </a: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Cooperation and information sharing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 between the macro and micro pillars would be binding.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On a </a:t>
            </a: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regular basis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, the European Authorities would provide the ESRC with the relevant anonymous data on all financial institutions and markets.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On an </a:t>
            </a: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ad hoc basis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, the ESRC would launch surveys on specific issues, channelled through the European Supervisory Authorities;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For macro-prudential information to feed into the micro-prudential supervisory considerations, representatives of the </a:t>
            </a: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ESRC might participate in colleges of supervisors 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as observers.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51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2F667-9C79-4B7C-AE12-B5BE7CBA0C16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131640" y="259920"/>
            <a:ext cx="532764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Summary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7920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5ca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5cad"/>
                </a:solidFill>
                <a:latin typeface="Times New Roman"/>
              </a:rPr>
              <a:t>The Commission proposed creating the </a:t>
            </a: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European Systemic Risk Council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 (ESRC), the </a:t>
            </a: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European System of Financial Supervisors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 (ESFS) and a way for the two to </a:t>
            </a: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cooperate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.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5ca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5cad"/>
                </a:solidFill>
                <a:latin typeface="Times New Roman"/>
              </a:rPr>
              <a:t>The </a:t>
            </a:r>
            <a:r>
              <a:rPr b="1" lang="en-GB" sz="2100" spc="-1" strike="noStrike">
                <a:solidFill>
                  <a:srgbClr val="005cad"/>
                </a:solidFill>
                <a:latin typeface="Times New Roman"/>
              </a:rPr>
              <a:t>EBF broadly supports</a:t>
            </a:r>
            <a:r>
              <a:rPr b="0" lang="en-GB" sz="2100" spc="-1" strike="noStrike">
                <a:solidFill>
                  <a:srgbClr val="005cad"/>
                </a:solidFill>
                <a:latin typeface="Times New Roman"/>
              </a:rPr>
              <a:t> most of the proposals.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5ca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5cad"/>
                </a:solidFill>
                <a:latin typeface="Times New Roman"/>
              </a:rPr>
              <a:t>Some important </a:t>
            </a:r>
            <a:r>
              <a:rPr b="1" lang="en-GB" sz="2100" spc="-1" strike="noStrike">
                <a:solidFill>
                  <a:srgbClr val="005cad"/>
                </a:solidFill>
                <a:latin typeface="Times New Roman"/>
              </a:rPr>
              <a:t>details still need to be clarified</a:t>
            </a:r>
            <a:r>
              <a:rPr b="0" lang="en-GB" sz="2100" spc="-1" strike="noStrike">
                <a:solidFill>
                  <a:srgbClr val="005cad"/>
                </a:solidFill>
                <a:latin typeface="Times New Roman"/>
              </a:rPr>
              <a:t>.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5ca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5cad"/>
                </a:solidFill>
                <a:latin typeface="Times New Roman"/>
              </a:rPr>
              <a:t>Legislative proposals are expected in </a:t>
            </a:r>
            <a:r>
              <a:rPr b="1" lang="en-GB" sz="2100" spc="-1" strike="noStrike">
                <a:solidFill>
                  <a:srgbClr val="005cad"/>
                </a:solidFill>
                <a:latin typeface="Times New Roman"/>
              </a:rPr>
              <a:t>autumn 2009</a:t>
            </a:r>
            <a:r>
              <a:rPr b="0" lang="en-GB" sz="2100" spc="-1" strike="noStrike">
                <a:solidFill>
                  <a:srgbClr val="005cad"/>
                </a:solidFill>
                <a:latin typeface="Times New Roman"/>
              </a:rPr>
              <a:t>.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54" name="Rectangle 4"/>
          <p:cNvSpPr/>
          <p:nvPr/>
        </p:nvSpPr>
        <p:spPr>
          <a:xfrm>
            <a:off x="6804000" y="1773360"/>
            <a:ext cx="20890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56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8BF04-00D0-484F-B3D6-1434BA2DE6B5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131640" y="259920"/>
            <a:ext cx="532764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7920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5cad"/>
                </a:solidFill>
                <a:latin typeface="Times New Roman"/>
              </a:rPr>
              <a:t>Thank You For Your Attention</a:t>
            </a:r>
            <a:r>
              <a:rPr b="0" lang="en-GB" sz="2100" spc="-1" strike="noStrike">
                <a:solidFill>
                  <a:srgbClr val="005cad"/>
                </a:solidFill>
                <a:latin typeface="Times New Roman"/>
              </a:rPr>
              <a:t>!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98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61E6D-BB13-4EF3-9AD1-3D98A60C9794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131640" y="259920"/>
            <a:ext cx="532764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Outline of Presentation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7920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5ca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5cad"/>
                </a:solidFill>
                <a:latin typeface="Times New Roman"/>
              </a:rPr>
              <a:t>Background 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5ca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5cad"/>
                </a:solidFill>
                <a:latin typeface="Times New Roman"/>
              </a:rPr>
              <a:t>European Systemic Risk Council 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5cad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5cad"/>
                </a:solidFill>
                <a:latin typeface="Times New Roman"/>
              </a:rPr>
              <a:t>Role, Composition, Functioning.</a:t>
            </a:r>
            <a:endParaRPr b="0" lang="en-US" sz="19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5ca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5cad"/>
                </a:solidFill>
                <a:latin typeface="Times New Roman"/>
              </a:rPr>
              <a:t>European System Of Financial Supervisors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5cad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5cad"/>
                </a:solidFill>
                <a:latin typeface="Times New Roman"/>
              </a:rPr>
              <a:t>Role, Composition, Functioning.</a:t>
            </a:r>
            <a:endParaRPr b="0" lang="en-US" sz="19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5ca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5cad"/>
                </a:solidFill>
                <a:latin typeface="Times New Roman"/>
              </a:rPr>
              <a:t>ESRC-ESFS Cooperation 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5cad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5cad"/>
                </a:solidFill>
                <a:latin typeface="Times New Roman"/>
              </a:rPr>
              <a:t>Functioning.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5ca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5cad"/>
                </a:solidFill>
                <a:latin typeface="Times New Roman"/>
              </a:rPr>
              <a:t>Conclusion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01" name="Rectangle 8"/>
          <p:cNvSpPr/>
          <p:nvPr/>
        </p:nvSpPr>
        <p:spPr>
          <a:xfrm>
            <a:off x="6804000" y="1773360"/>
            <a:ext cx="20890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03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DDA4A-B243-48FF-B8DE-99B630B09951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Background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66cc"/>
                </a:solidFill>
                <a:latin typeface="Times New Roman"/>
              </a:rPr>
              <a:t>Jacques de Larosière</a:t>
            </a:r>
            <a:r>
              <a:rPr b="0" lang="en-US" sz="2100" spc="-1" strike="noStrike">
                <a:solidFill>
                  <a:srgbClr val="0066cc"/>
                </a:solidFill>
                <a:latin typeface="Times New Roman"/>
              </a:rPr>
              <a:t> expert group: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66cc"/>
                </a:solidFill>
                <a:latin typeface="Times New Roman"/>
              </a:rPr>
              <a:t>Set up in mid-08;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66cc"/>
                </a:solidFill>
                <a:latin typeface="Times New Roman"/>
              </a:rPr>
              <a:t>Report delivered Feb-09.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66cc"/>
                </a:solidFill>
                <a:latin typeface="Times New Roman"/>
              </a:rPr>
              <a:t>EBF </a:t>
            </a:r>
            <a:r>
              <a:rPr b="0" lang="en-US" sz="2100" spc="-1" strike="noStrike">
                <a:solidFill>
                  <a:srgbClr val="0066cc"/>
                </a:solidFill>
                <a:latin typeface="Times New Roman"/>
              </a:rPr>
              <a:t>expert group: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66cc"/>
                </a:solidFill>
                <a:latin typeface="Times New Roman"/>
              </a:rPr>
              <a:t>Set up in November 2008;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66cc"/>
                </a:solidFill>
                <a:latin typeface="Times New Roman"/>
              </a:rPr>
              <a:t>Comments &amp; proposals to de Larosière group.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66cc"/>
                </a:solidFill>
                <a:latin typeface="Times New Roman"/>
              </a:rPr>
              <a:t>Commission</a:t>
            </a:r>
            <a:r>
              <a:rPr b="0" lang="en-US" sz="2100" spc="-1" strike="noStrike">
                <a:solidFill>
                  <a:srgbClr val="0066cc"/>
                </a:solidFill>
                <a:latin typeface="Times New Roman"/>
              </a:rPr>
              <a:t> </a:t>
            </a:r>
            <a:r>
              <a:rPr b="1" lang="en-US" sz="2100" spc="-1" strike="noStrike">
                <a:solidFill>
                  <a:srgbClr val="0066cc"/>
                </a:solidFill>
                <a:latin typeface="Times New Roman"/>
              </a:rPr>
              <a:t>Communication </a:t>
            </a:r>
            <a:r>
              <a:rPr b="0" lang="en-US" sz="2100" spc="-1" strike="noStrike">
                <a:solidFill>
                  <a:srgbClr val="0066cc"/>
                </a:solidFill>
                <a:latin typeface="Times New Roman"/>
              </a:rPr>
              <a:t>on </a:t>
            </a:r>
            <a:r>
              <a:rPr b="0" i="1" lang="en-US" sz="2100" spc="-1" strike="noStrike">
                <a:solidFill>
                  <a:srgbClr val="0066cc"/>
                </a:solidFill>
                <a:latin typeface="Times New Roman"/>
              </a:rPr>
              <a:t>European Financial Supervision</a:t>
            </a:r>
            <a:r>
              <a:rPr b="0" lang="en-US" sz="2100" spc="-1" strike="noStrike">
                <a:solidFill>
                  <a:srgbClr val="0066cc"/>
                </a:solidFill>
                <a:latin typeface="Times New Roman"/>
              </a:rPr>
              <a:t>: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Published on 27-May-09;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legislative proposals follow in autumn. 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07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3DF4C-83A7-48B6-856B-6D73CF01893E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Communication’s proposals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European Systemic Risk Council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 (ESRC);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European System of Financial Supervisors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 (ESFS);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ESRC-ESFS </a:t>
            </a: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Cooperation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.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11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31A7A-C7FF-4D34-B328-432051ECCB29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340000" y="260280"/>
            <a:ext cx="662472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European Systemic Risk Council:</a:t>
            </a:r>
            <a:br>
              <a:rPr sz="3000"/>
            </a:b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Role</a:t>
            </a: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66cc"/>
                </a:solidFill>
                <a:latin typeface="Times New Roman"/>
              </a:rPr>
              <a:t>ESRC </a:t>
            </a:r>
            <a:r>
              <a:rPr b="1" lang="en-US" sz="2100" spc="-1" strike="noStrike">
                <a:solidFill>
                  <a:srgbClr val="0066cc"/>
                </a:solidFill>
                <a:latin typeface="Times New Roman"/>
              </a:rPr>
              <a:t>role </a:t>
            </a:r>
            <a:r>
              <a:rPr b="0" lang="en-US" sz="2100" spc="-1" strike="noStrike">
                <a:solidFill>
                  <a:srgbClr val="0066cc"/>
                </a:solidFill>
                <a:latin typeface="Times New Roman"/>
              </a:rPr>
              <a:t>is to: 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66cc"/>
                </a:solidFill>
                <a:latin typeface="Times New Roman"/>
              </a:rPr>
              <a:t>provide early warnings of financial vulnerabilities, and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66cc"/>
                </a:solidFill>
                <a:latin typeface="Times New Roman"/>
              </a:rPr>
              <a:t>make recommendations on issues pertaining to macro-financial stability. 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It will fulfil its role by: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Collecting information 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Assessing this information 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Issuing risk warnings 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Collaborating with IMF, FSB and third countries’ peers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15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FFF1B-0A73-40A7-A30C-73902B232736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40000" y="260280"/>
            <a:ext cx="662472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European Systemic Risk Council: Composition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Chair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: ECB President 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Vice-Chair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: non-euro-zone governor elected by ESRC members 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Members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: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vice-president of the ECB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National central banks: 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3 Chairs of European Supervisory Authorities; 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European Commission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Observers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: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27 national supervisory authorities; 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Finance Ministries: Chair of the EFC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 u="sng">
                <a:solidFill>
                  <a:srgbClr val="0066cc"/>
                </a:solidFill>
                <a:uFillTx/>
                <a:latin typeface="Times New Roman"/>
              </a:rPr>
              <a:t>Total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: 34 members + 28 observers 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19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9D6DA-39E4-4B91-9AB1-8A5B8AE4793F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340000" y="260280"/>
            <a:ext cx="662472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European Systemic Risk Council: Functioning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At least three meetings per year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, which all members and observers are entitled to attend and speak;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Decision making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: only members may vote on the basis of a simple majority procedure;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Accountable 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to Council and European Parliament;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Role of the ECB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: the ECB provides administrative and logistic support as well as technical expertise.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23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0A3BF-E0B0-44B7-8863-97598218A7E4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Communication’s proposals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8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808080"/>
                </a:solidFill>
                <a:latin typeface="Times New Roman"/>
              </a:rPr>
              <a:t>European Systemic Risk Council (ESRC)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66cc"/>
                </a:solidFill>
                <a:latin typeface="Times New Roman"/>
              </a:rPr>
              <a:t>European System of Financial Supervisors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 (ESFS)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8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808080"/>
                </a:solidFill>
                <a:latin typeface="Times New Roman"/>
              </a:rPr>
              <a:t>ESRC-ESFS Cooperation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27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28D2B-CD53-4243-86B4-30CA012BDF29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340000" y="260280"/>
            <a:ext cx="662472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European System of  </a:t>
            </a:r>
            <a:br>
              <a:rPr sz="3000"/>
            </a:b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Financial Supervisors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Two levels: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cc"/>
                </a:solidFill>
                <a:latin typeface="Times New Roman"/>
              </a:rPr>
              <a:t>National level: </a:t>
            </a:r>
            <a:r>
              <a:rPr b="0" lang="en-US" sz="2000" spc="-1" strike="noStrike">
                <a:solidFill>
                  <a:srgbClr val="0066cc"/>
                </a:solidFill>
                <a:latin typeface="Times New Roman"/>
              </a:rPr>
              <a:t>national supervisors and colleges; 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cc"/>
                </a:solidFill>
                <a:latin typeface="Times New Roman"/>
              </a:rPr>
              <a:t>European level</a:t>
            </a:r>
            <a:r>
              <a:rPr b="0" lang="en-US" sz="2000" spc="-1" strike="noStrike">
                <a:solidFill>
                  <a:srgbClr val="0066cc"/>
                </a:solidFill>
                <a:latin typeface="Times New Roman"/>
              </a:rPr>
              <a:t>: new Supervisory Authorities </a:t>
            </a: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(banking, insurance and securities).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66cc"/>
                </a:solidFill>
                <a:latin typeface="Times New Roman"/>
              </a:rPr>
              <a:t>National supervisors</a:t>
            </a:r>
            <a:r>
              <a:rPr b="0" lang="en-US" sz="2100" spc="-1" strike="noStrike">
                <a:solidFill>
                  <a:srgbClr val="0066cc"/>
                </a:solidFill>
                <a:latin typeface="Times New Roman"/>
              </a:rPr>
              <a:t> remain responsible for direct day-to-day supervision of individual entities. 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66cc"/>
                </a:solidFill>
                <a:latin typeface="Times New Roman"/>
              </a:rPr>
              <a:t>Colleges of supervisors</a:t>
            </a:r>
            <a:r>
              <a:rPr b="0" lang="en-US" sz="2100" spc="-1" strike="noStrike">
                <a:solidFill>
                  <a:srgbClr val="0066cc"/>
                </a:solidFill>
                <a:latin typeface="Times New Roman"/>
              </a:rPr>
              <a:t> for cross-border groups supervision: national supervisors +</a:t>
            </a:r>
            <a:r>
              <a:rPr b="1" lang="en-US" sz="2100" spc="-1" strike="noStrike">
                <a:solidFill>
                  <a:srgbClr val="0066cc"/>
                </a:solidFill>
                <a:latin typeface="Times New Roman"/>
              </a:rPr>
              <a:t> </a:t>
            </a:r>
            <a:r>
              <a:rPr b="0" lang="en-US" sz="2100" spc="-1" strike="noStrike">
                <a:solidFill>
                  <a:srgbClr val="0066cc"/>
                </a:solidFill>
                <a:latin typeface="Times New Roman"/>
              </a:rPr>
              <a:t>a representative of the relevant European Supervisory Authority as observers.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7T13:53:41Z</dcterms:created>
  <dc:creator>proskurovska</dc:creator>
  <dc:description/>
  <dc:language>en-US</dc:language>
  <cp:lastModifiedBy> </cp:lastModifiedBy>
  <dcterms:modified xsi:type="dcterms:W3CDTF">2009-06-22T10:13:09Z</dcterms:modified>
  <cp:revision>218</cp:revision>
  <dc:subject/>
  <dc:title>Economic and Banking Sector Situation in the Eastern European Countries</dc:title>
</cp:coreProperties>
</file>