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EFC8B-255F-4396-8B59-451F6350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8A12E-29B8-4F48-8290-9EE2CCA0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594D6-771F-4050-B274-25A9B34A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E8D77-B7B6-4F9D-B51F-9E31F093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2DAE0-752A-437B-8DA1-65369DAE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E4A87-18FD-4F96-89F2-4F0754EA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63782-04EB-446B-B677-A28878F9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D51E5-8D0B-4581-94F2-B38E4E8D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F70CC-7854-4490-AC53-0A0474E5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3352F-1CB8-4497-B3D9-9F3FFFC3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48E65-A921-47EF-B2BE-3AC4F7E9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39A9A-7634-443D-8FAB-5CF8A6E6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2004E0-15F6-4494-A7F1-AB9B3EB0260D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3739F43-86ED-4059-B54B-BE95A5DB79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V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I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0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P&amp;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395280"/>
            <a:ext cx="1511280" cy="1260360"/>
          </a:xfrm>
          <a:prstGeom prst="wedgeEllipseCallout">
            <a:avLst>
              <a:gd name="adj1" fmla="val -14532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5800" y="1866960"/>
            <a:ext cx="8223480" cy="461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19008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iciency, ROA,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0" y="1008000"/>
            <a:ext cx="1619280" cy="1260360"/>
          </a:xfrm>
          <a:prstGeom prst="wedgeEllipseCallout">
            <a:avLst>
              <a:gd name="adj1" fmla="val -32449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5080" y="2519280"/>
            <a:ext cx="4444920" cy="271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80000" y="2411280"/>
            <a:ext cx="49561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200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520" y="3884760"/>
            <a:ext cx="86374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ock &amp;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ney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k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0360" y="1979640"/>
            <a:ext cx="1619280" cy="1260360"/>
          </a:xfrm>
          <a:prstGeom prst="wedgeEllipseCallout">
            <a:avLst>
              <a:gd name="adj1" fmla="val 96143"/>
              <a:gd name="adj2" fmla="val 10415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Central B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21607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targeted to public se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olled exchange rate and liquid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1440000"/>
            <a:ext cx="838836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balanced the budget – March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o little too late – (local elections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sued 750 mil € bonds in M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2160360"/>
            <a:ext cx="820908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like some other countries – banks helped government – 2,8 bln €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squeezing out of private sector (stil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sonable credit 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ising interest r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sks lie in real sec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ing Assoc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208548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remely ac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ensive media cover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questions to banks ended up with 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ordinating respon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presence in newspapers, TV and radio, web portals than entire 200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281 - “value” close to €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87 presences - “value” close to €2,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76, additional web portals 3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9% “neutral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DP Grow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157720"/>
            <a:ext cx="35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157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final annual calculation of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419640" y="5040360"/>
            <a:ext cx="1960560" cy="1738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19640" y="179280"/>
            <a:ext cx="2160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CPI inflation (1996-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1998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 RPI inflation) and core inflation, 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2575080"/>
            <a:ext cx="4038480" cy="257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48320" y="2617920"/>
            <a:ext cx="4038480" cy="24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16360" y="5157720"/>
            <a:ext cx="396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flation in Croatia and Turkey is measured by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umer price index, and in the other selected countries by harmonized index of consumer prices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s: CBS, Eurostat and central banks' web 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l Reserves and Deposi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287280"/>
            <a:ext cx="1511280" cy="1511280"/>
          </a:xfrm>
          <a:prstGeom prst="wedgeEllipseCallout">
            <a:avLst>
              <a:gd name="adj1" fmla="val -40550"/>
              <a:gd name="adj2" fmla="val 62254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19640" y="1979640"/>
            <a:ext cx="4319640" cy="34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1827360"/>
            <a:ext cx="3159360" cy="4113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814400"/>
            <a:ext cx="833904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rrent Account and Foreign Deb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1979640"/>
            <a:ext cx="1511280" cy="1260360"/>
          </a:xfrm>
          <a:prstGeom prst="wedgeEllipseCallout">
            <a:avLst>
              <a:gd name="adj1" fmla="val -31199"/>
              <a:gd name="adj2" fmla="val 6496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611360"/>
            <a:ext cx="4934160" cy="516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56360" y="3749760"/>
            <a:ext cx="374472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Assets – Exchange Ra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16420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80000" y="1673280"/>
            <a:ext cx="319572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320" y="1800360"/>
            <a:ext cx="60433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249084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4720" y="5222880"/>
            <a:ext cx="2554560" cy="143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240000" y="4859280"/>
            <a:ext cx="5751720" cy="130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480000" y="3060720"/>
            <a:ext cx="2340000" cy="154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pital Adequac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1628640"/>
            <a:ext cx="594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ory capita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 exposure to ris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2360" y="720720"/>
            <a:ext cx="1871640" cy="1763640"/>
          </a:xfrm>
          <a:prstGeom prst="wedgeEllipseCallout">
            <a:avLst>
              <a:gd name="adj1" fmla="val -2124"/>
              <a:gd name="adj2" fmla="val 32125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32000" y="2217600"/>
            <a:ext cx="619272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09-06-16T13:55:16Z</dcterms:modified>
  <cp:revision>70</cp:revision>
  <dc:subject/>
  <dc:title>KREDITNI REGISTAR KAO INSTITUCIJA RAZVIJENOG FINANCIJSKOG TRŽIŠ</dc:title>
</cp:coreProperties>
</file>