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1339-067D-4D15-970A-D7255431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2C1-0C22-413A-9728-A4480565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2BC7-D16B-4622-9FBF-C242D9C6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FBE5-57F9-4D98-B6A6-A729C6F8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C310-9385-4836-9315-4C4632FE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104B-5B42-44D6-B674-EAD0285E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7EB7-EC0D-4839-BDBB-73A8119E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32BC-DBBA-42F6-9BB0-AC21D03D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0292-671D-44F8-8861-25B61FCF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B99F-B1F8-428F-AD0C-3DC48887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215A-6525-47FF-AF42-6B74D769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0E6-1A00-49BC-A895-40E04EB7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AD97-9C92-4F1B-918F-A288161C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5CBD-B32B-41F9-B552-E145898F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1CA0-CC2A-4E99-BB75-7ED87467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4923-0A03-44AD-B0E4-019D9288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AC5D-394A-4AB2-8AF4-1C294207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6D8-8687-4732-AAD3-0055BC7B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6322-9C1F-45B2-BB00-FCE8EA92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64B4-3AFC-4BA3-B5FA-02648AB3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79D9-A413-43FB-8EC7-39594844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2696-5A1A-4ACD-B0E7-62CDE642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F5B8-260A-4E07-9DD0-70142FB2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0D7A-E98E-4456-8BE0-61CFA99B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5592-4A85-4174-90F8-8B4E9D0F3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5BEA-BFC5-4817-85C9-E7FFBE8D8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6840" y="456840"/>
            <a:ext cx="6291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3400" y="621036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0000"/>
                </a:solidFill>
                <a:latin typeface="Times New Roman"/>
              </a:rPr>
              <a:t>Département des Finances &amp; de l’Écon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sz="5400" spc="-1" strike="noStrike">
                <a:solidFill>
                  <a:srgbClr val="cc0000"/>
                </a:solidFill>
                <a:latin typeface="Times New Roman"/>
              </a:rPr>
              <a:t>European Banking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29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cc0000"/>
                </a:solidFill>
                <a:latin typeface="Times New Roman"/>
              </a:rPr>
              <a:t>Monaco, 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nce   : 28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onaco : 2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y       : 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K        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um : 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760" y="1828800"/>
            <a:ext cx="537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reak down b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tionality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096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D – Focu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sz="4400" spc="-1" strike="noStrike">
                <a:solidFill>
                  <a:srgbClr val="cc0000"/>
                </a:solidFill>
                <a:latin typeface="Arial"/>
              </a:rPr>
              <a:t>Banking activit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 – Banking activitie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2 credit instit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ubsidiaries or branches from Europea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UM  : 75 billion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. A close and long standing relationship with Franc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Monaco and France :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A monetary union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well before the euro zon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2 Implementation of the French banking regulation : CCLRF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3 licensing by French Committee 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CEC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1.4 Supervision by the French authoriti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Commission Banc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2. Monaco – part of the Euro zon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 Econom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 </a:t>
            </a:r>
            <a:br>
              <a:rPr sz="4000"/>
            </a:b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1 Monaco joined the Euro z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on 1.1.200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2 Monaco has recently joined SEPA   :    March 2009</a:t>
            </a:r>
            <a:br>
              <a:rPr sz="48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 – Monaco GDP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A – GDP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170028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600200"/>
            <a:ext cx="7848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DP 2007: 4,3 billion 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ound 15 % grow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DP  per capita : 60 K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ctors : 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de   : 16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nking and finance : 15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ort activities: 15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l Estate : 10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urism  : 10 %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38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 –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B – Monaco Budget </a:t>
            </a:r>
            <a:br>
              <a:rPr sz="4000"/>
            </a:b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 - Budge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Budget : 900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   :  75% of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: very strong soci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M€ in public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ublic deb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2008  :  + 4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0481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 – Monaco 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35 000 resi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Working population : 45.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k down by contine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: 92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continents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25Z</dcterms:created>
  <dc:creator> </dc:creator>
  <dc:description/>
  <dc:language>en-US</dc:language>
  <cp:lastModifiedBy>Service Informatique</cp:lastModifiedBy>
  <dcterms:modified xsi:type="dcterms:W3CDTF">2009-06-18T06:45:30Z</dcterms:modified>
  <cp:revision>118</cp:revision>
  <dc:subject/>
  <dc:title>Conférence des Ambassadeurs</dc:title>
</cp:coreProperties>
</file>