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1.jpeg" ContentType="image/jpeg"/>
  <Override PartName="/ppt/media/image15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051F9-8223-4F23-B4F7-8D5DB8350A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5FAA9-B0C5-438A-ADD6-4C2CF9D994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A969C-3379-4A0B-A9DD-348B7F8AA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007E2-BB91-472E-A006-9D022BC189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EB076-2061-4B6F-9ACD-E1163EAB5B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674E-BF95-43E6-8A24-3202C4B95F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DEFD7-D864-4115-B90A-DDD49A76572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91682-DFF8-4A3A-93C7-0DA0455E69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C3BFF-1268-4546-ADC1-3830EE6E085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1C16C-95E3-4529-8A3C-BB7A7D960F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9B200-2444-4FEE-AD4F-E88B369BCE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8ECCA-C425-4F2A-9364-08237B367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5FF6-7FCD-4AB9-AE13-1CB6DF77DF0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17000" y="5927760"/>
            <a:ext cx="927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628640"/>
            <a:ext cx="91440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June 18, 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8B8C3-FAEF-4E8D-9E8F-4EBDE9EE40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280" y="134100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declines since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inflation stabilized around 10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ublic finance disciplin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is critically dependent on capital in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n ongoing savings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 fast increase in foreign debt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unemployment which was around 10% increased with the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6D896-3DB2-4D18-8C15-1CF015F587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13372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D2308-DF4D-406E-917C-E046436BD6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umber of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97000"/>
          <a:ext cx="82184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8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39C27-9534-4A4A-9AC7-A36FA1D874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Number of Branches and Personnel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628640"/>
          <a:ext cx="4036680" cy="4524840"/>
        </p:xfrm>
        <a:graphic>
          <a:graphicData uri="http://schemas.openxmlformats.org/drawingml/2006/table">
            <a:tbl>
              <a:tblPr/>
              <a:tblGrid>
                <a:gridCol w="4036680"/>
              </a:tblGrid>
              <a:tr h="452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68360" y="1341360"/>
          <a:ext cx="8218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18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311E9-7A15-49D1-ADAC-C27664AF73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USD billion)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/GD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413000"/>
          <a:ext cx="84358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43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E8B49-A9DA-407A-B1D6-5B3A2E46CE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L/FX Composition of Asse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052640"/>
          <a:ext cx="828036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881B9-C5F1-43F2-9EEB-ADAB4E24CD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Loans under follow-up/ </a:t>
            </a:r>
            <a:br>
              <a:rPr sz="3200"/>
            </a:b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otal Loan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341360"/>
          <a:ext cx="813600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136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AABCC-7C14-4886-BC03-66E55F1D6F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Loans/Deposit Ratio</a:t>
            </a:r>
            <a:r>
              <a:rPr b="0" lang="tr-T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229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02E33-0975-4734-BB16-A1BF8B59F0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ital Ad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 and Share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1197000"/>
          <a:ext cx="8280360" cy="48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80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83867-C5B6-45EE-AAD2-038277AEE8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Outlook of 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98064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number of brances an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total assets an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ey substitution is around 3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ans under follow up is at a low level (3%) and 90% of them are provisio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ratio of loans/deposit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AR of the sector is around 17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62B85-25E7-4516-B273-B1382AE88B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7618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</a:t>
            </a:r>
            <a:br>
              <a:rPr sz="3600"/>
            </a:b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D7658-872F-47E9-A0FE-76B993F426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95480" y="2205000"/>
            <a:ext cx="69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lobal Crisi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urkish Banking Sector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30D71-E09F-4953-8181-B5CB004128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9800" y="1628640"/>
          <a:ext cx="8226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28640"/>
                    <a:ext cx="822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D73A3-563C-45AE-B61F-B8CF721D22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84280"/>
          <a:ext cx="8229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B5B6A-CACA-416B-A3BD-506AFB55C9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34136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5CF3-8013-48A2-919D-8F9DC0ACBD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24364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243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90BC-4F13-4A0F-B024-66F5AD1621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posi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125360"/>
          <a:ext cx="843588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4358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25002-58B0-493A-AF91-CFFA29B587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iquid Asse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268280"/>
          <a:ext cx="822960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2D963-42AF-418F-8615-8F592F02FE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Securities (TL/USD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125360"/>
          <a:ext cx="864216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178F4-C3E0-4320-89EC-6949C3782B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CF04-65FF-423E-A618-69F676468C1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under follow-up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052640"/>
          <a:ext cx="822960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89F4F-F797-4EE9-9C8D-74F266F4EFC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GDP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 in real terms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413000"/>
          <a:ext cx="829152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915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05717-284D-4C8A-A1AC-635944ECFF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FX Position (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268280"/>
          <a:ext cx="82296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85CF2-999B-4B56-B926-0C156305433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ffects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692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abilities decreased slightly in real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position of total assets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tal loans decreased slightly, while securities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ans under follow-up increased shar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X risk, liquidity risk and interest risk are ignorabl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pital adequacy ratio remained at high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quality of loan stock deteriorates due to decreasing economi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2D52C-595E-4ED1-9A37-A4D0D232D1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Inflation 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9700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F4133-B1BC-423A-A172-1EB67354F6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SBR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1990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-200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97000"/>
          <a:ext cx="8362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62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CCC3B-47C5-4957-9E32-405FC203BF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et Savings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125360"/>
          <a:ext cx="8291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91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5129-B083-4A1F-9524-E576365842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Growth and Capital Flows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907920"/>
          <a:ext cx="821844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18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D17C2-EC2C-4AFD-9E94-4851F5E837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xternal Debt Stock (USD billion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981000"/>
          <a:ext cx="84358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4358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C8CF-1B1F-4CF7-8538-FE469E3C19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mployment Rate (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981000"/>
          <a:ext cx="82915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291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DC2D3-70BA-49A4-837F-D23A7EB761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 </dc:creator>
  <dc:description/>
  <dc:language>en-US</dc:language>
  <cp:lastModifiedBy>mumcum</cp:lastModifiedBy>
  <dcterms:modified xsi:type="dcterms:W3CDTF">2009-06-16T09:56:14Z</dcterms:modified>
  <cp:revision>125</cp:revision>
  <dc:subject/>
  <dc:title>Slide 1</dc:title>
</cp:coreProperties>
</file>