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86575" cy="9677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B7AA-4CEF-4F1D-89F8-446F2FE10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512C-EABD-44F7-AF18-ECCBBEA23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DDAE-D507-47DC-9CBD-EFA7B8B38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6459-6EBF-4C88-BD82-E0CADF1FE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9CC5F-9D65-498D-B05A-E79CA3FE6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9E021-458A-4EE1-878C-5BCFA0183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EB561-C956-4D59-90AC-D18ED353F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E835C-D026-42D4-8355-6A8E9EFBC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1EB40-EFCF-468B-B177-12A6AD8D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CE31F-85BB-4C20-B180-0E830D94D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9BAAF-A422-452B-B064-EB2B8F64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462A-2054-4368-B299-6FB7F74EF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37CCA-CF94-4EC4-B2AD-8525B478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4F16A-EDC4-46D6-A2C6-3C17BF3C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659D5-F114-4F3C-9E16-441051E09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52FCA-0AD9-4C7A-9866-877FEFE5A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1C018-7642-4E81-9DF1-A35FA31DE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350B-94DC-4F8F-874A-232DA4CAD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F4FE-4B67-49DF-9AA6-962C6B4A1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E74C-1B97-4AD8-95A9-C375E50D3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47AB-D21C-4C3F-99DE-A39FC0031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0235-FF60-4104-A5DD-73C604F0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7200-F85C-4BFE-B6B8-F6C322D8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FA77-8E0A-4A1F-8360-35302798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ff5050"/>
                </a:gs>
                <a:gs pos="100000">
                  <a:srgbClr val="75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DDA40-057B-4413-AC52-E673BEA818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ff5050"/>
                </a:gs>
                <a:gs pos="100000">
                  <a:srgbClr val="75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B578F-0D2B-46C0-BAAB-D9485B7CA2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66840" y="456840"/>
            <a:ext cx="629136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13400" y="6210360"/>
            <a:ext cx="423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cc0000"/>
                </a:solidFill>
                <a:latin typeface="Times New Roman"/>
              </a:rPr>
              <a:t>Département des Finances &amp; de l’Économ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762120"/>
            <a:ext cx="7696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sz="5400" spc="-1" strike="noStrike">
                <a:solidFill>
                  <a:srgbClr val="cc0000"/>
                </a:solidFill>
                <a:latin typeface="Times New Roman"/>
              </a:rPr>
              <a:t>European Banking Feder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02920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3200" spc="-1" strike="noStrike">
                <a:solidFill>
                  <a:srgbClr val="cc0000"/>
                </a:solidFill>
                <a:latin typeface="Times New Roman"/>
              </a:rPr>
              <a:t>Monaco, June 20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rance   : 28%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onaco : 22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taly       : 19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K         : 8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elgium : 3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00"/>
                </a:solidFill>
                <a:latin typeface="Arial"/>
              </a:rPr>
              <a:t>C – Population 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16760" y="1828800"/>
            <a:ext cx="5374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Break down by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ationality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243828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2209680"/>
            <a:ext cx="70866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cc0000"/>
                </a:solidFill>
                <a:latin typeface="Arial"/>
              </a:rPr>
              <a:t>D – Focus 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cc0000"/>
                </a:solidFill>
                <a:latin typeface="Arial"/>
              </a:rPr>
              <a:t>          </a:t>
            </a:r>
            <a:r>
              <a:rPr b="1" sz="4400" spc="-1" strike="noStrike">
                <a:solidFill>
                  <a:srgbClr val="cc0000"/>
                </a:solidFill>
                <a:latin typeface="Arial"/>
              </a:rPr>
              <a:t>Banking activities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D – Banking activities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42 credit institutions :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l subsidiaries or branches from European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UM  : 75 billion 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II Banking  sector regulation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1599840"/>
            <a:ext cx="7924680" cy="21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1. A close and long standing relationship with France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3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1.1.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 Monaco and France : </a:t>
            </a:r>
            <a:br>
              <a:rPr sz="3600"/>
            </a:b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  </a:t>
            </a:r>
            <a:br>
              <a:rPr sz="3600"/>
            </a:b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A monetary union </a:t>
            </a:r>
            <a:br>
              <a:rPr sz="3600"/>
            </a:b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well before the euro zone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1.2 Implementation of the French banking regulation : CCLRF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1.3 licensing by French Committee 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CECE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cc0000"/>
                </a:solidFill>
                <a:latin typeface="Arial"/>
              </a:rPr>
              <a:t>1.4 Supervision by the French authorities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sz="3600" spc="-1" strike="noStrike">
                <a:solidFill>
                  <a:srgbClr val="cc0000"/>
                </a:solidFill>
                <a:latin typeface="Arial"/>
              </a:rPr>
              <a:t>Commission Bancai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2. Monaco – part of the Euro zone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828800"/>
            <a:ext cx="74674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 </a:t>
            </a:r>
            <a:br>
              <a:rPr sz="4000"/>
            </a:b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I Economy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II Banking  sector regulation </a:t>
            </a:r>
            <a:br>
              <a:rPr sz="4000"/>
            </a:br>
            <a:r>
              <a:rPr b="0" lang="en-GB" sz="36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440" y="289548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2.1 Monaco joined the Euro zon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on 1.1.2002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2.2 Monaco has recently joined SEPA   :    March 2009</a:t>
            </a:r>
            <a:br>
              <a:rPr sz="4800"/>
            </a:b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00"/>
                </a:solidFill>
                <a:latin typeface="Arial"/>
              </a:rPr>
              <a:t>Thank you 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314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A – Monaco GDP 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A – GDP 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47640" y="1700280"/>
            <a:ext cx="698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1600200"/>
            <a:ext cx="7848720" cy="40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GDP 2007: 4,3 billion €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round 15 % growth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GDP  per capita : 60 K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7709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ectors :  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rade   : 16 %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Banking and finance : 15 %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upport activities: 15 %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Real Estate : 10 %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ourism  : 10 %</a:t>
            </a:r>
            <a:br>
              <a:rPr sz="3600"/>
            </a:b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838080"/>
            <a:ext cx="472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A – GD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B – Monaco Budget </a:t>
            </a:r>
            <a:br>
              <a:rPr sz="4000"/>
            </a:b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B - Budget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2209320"/>
            <a:ext cx="8077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79880" indent="-4798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Budget : 900 M€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me    :  75% of tax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nses : very strong social syst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 M€ in public 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public deb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 2008  :  + 4 M€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62120" y="304812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 – Monaco popul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00"/>
                </a:solidFill>
                <a:latin typeface="Arial"/>
              </a:rPr>
              <a:t>C – Population 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35 000 resid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Working population : 45.0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reak down by continents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urope : 92 %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ther continents : 8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13:16:25Z</dcterms:created>
  <dc:creator> </dc:creator>
  <dc:description/>
  <dc:language>en-US</dc:language>
  <cp:lastModifiedBy>Service Informatique</cp:lastModifiedBy>
  <dcterms:modified xsi:type="dcterms:W3CDTF">2009-06-18T06:45:30Z</dcterms:modified>
  <cp:revision>118</cp:revision>
  <dc:subject/>
  <dc:title>Conférence des Ambassadeurs</dc:title>
</cp:coreProperties>
</file>