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7841-15CC-4271-8480-DAF6DBFF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920-7A08-4685-A58C-B609C503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EE5F-9556-42D7-9FBD-C4A60D0F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7ED-50B7-466A-B615-6E070194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379-09D7-4C20-9424-9CCF8DAB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A288-BF01-4CA2-82E9-EC7DBB45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3621-FA93-43A7-9461-1004E6E8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F93C-16E7-4B19-B896-16B33A46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E6C-D533-4332-9301-D90754F9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C401-37BE-4EF8-B7BD-F5C29A97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0927-A1EB-44AA-8D51-94C3135C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1D82-FF47-498F-B80A-E73F6A59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79D4-49D1-48CB-A327-741ADE2917A5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Post FSAP Task Force Report on Better Regulation and 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ecent problem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the PSD (Payments Services Directive)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ducted by the Commission : factual errors, bias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anti-banks, overestimation of benefits (50-100 B€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Mortgage Credit conducted by London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onomics : too simplistic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2B93-BA62-44B2-9053-D54CE7C858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Recent improvement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Creation of the IAB (Impact Assessment Board) to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review IA done related to each proposal of the Commission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Independent body reporting directly to the President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of the Commission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Systematic creation of IA units in each DG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IA conducted in the context of Basel II quoted as good practice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Good consultation process for UCITS and Mortgage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904E-15C4-413C-B9B1-E718D95631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gested Improvem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to the EU system in 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open dialogue between industry and Commission, setting objectives and priorit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ncourage market based solutions (voluntary codes of conduct, co and self regulation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cus on investment and compliance costs when addressing the reduction of administrative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should apply to all important pend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significant involvement of the European Parliament and the European Council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37DB-5E1D-49AE-A045-5F379E2128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o address the recent developments adequately, EBF internal measures need to be taken quickly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udget latitud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dicated staff member from the EBF Secretariat to work on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BF Guidelines including checklist (list of questions that consultative committees should ask during any legislative procedure to ensure that BR and IA standards are respected by the EU institutions)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 Hoc Task Force and the Involvement of EMAC (Advisory committee on voluntary basi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83BF-08C9-4A5D-A6BE-95C7432123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ole of the Post FSAP TF (general support and monitoring of the BR &amp; IA process within EBF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nvolvement of small associations (IA studies taking into account geographical and size issu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Test Case for 2007 (Ex-Co to choose between 3 different subjects)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VAT Regime for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Bank Accounts and Mobilit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Distance Marketing of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EF4-4023-4574-B3C6-AE7C042010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ecutive Committee to approve the report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Publish the report and send it to all interested parties especially to the European Institu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tinue monitoring and updating the national best practices in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rt a first test case in IA for 2007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obby the EU Institutions regarding the improvement of the BR procedures especially IA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70B-6396-48E5-9879-7E8BA0CD39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hairman of the Post FSAP Task For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ean Francois P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BF Secretari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ébastien de Brouw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lie Beyrouth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41F-F921-4657-A6A5-2FFFC753CD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change experiences and best practices at national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 the EU system in BR and IA: guidelines, methodology and previous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opt a proactive role at EBF level in the area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739-7B2C-49DE-9241-F5D05C1378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ptember 2006: Decision of the Ex-Co to assess further the issue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cember 2006 – April 2007: 4 meetings of the Task Force chaired by Jean Francois PON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une 2007: Report of the Task Force delivered to the Ex-co for approval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715-216F-4DB5-B71B-900D6C9A9A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Better Regulation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n EU policy using different tools and processes to make sur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at regulation is used only when necessary and that the burdens they impose are proportionate to their aim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s of better regulation tools and process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y exist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ystematic use of impact assessment and public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in the development of new policy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al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732C-6379-4A57-98DC-296EB2B85E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Impact Assessmen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Designed to help in structuring and developing 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Identifies and assesses the problem at stake and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pursu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Helps to identify the main options for achieving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and analyzes their likely impacts in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economic, environmental and social field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Uses quantification and economic analy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9D7-AB4F-4F82-8732-B8A7F1431F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and IA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ndard form has been adopted, divided in 4 main chapter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ication/reduction of administrative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nsultation/dialogu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mpact Assess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Ex Post Analysi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8469-A7B4-451C-88FA-94E86D34E9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and 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vantages of the standard form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mpare in one document all national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experiences in BR by subject matt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dentify gaps and space for further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improv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361B-A8CB-4F77-9599-731B8F8B7A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Conclusions from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n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lmost all EU countries are moving forward by adopting tools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ig differences still exist between EU countries for the importance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similar standards between different EU countries in order to facilitate comparis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perfect mod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2574-0273-4285-8172-4C9934FBFE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 and IA at EU and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ral European Commission’s officials have been invited to present the EU system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 special chapter on the EU experience in BR and IA has been added to the document on national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IF paper on effective regulation has been discuss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F5A-D49B-4187-B823-6975AE286D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5:09:26Z</dcterms:created>
  <dc:creator>beyrouthy</dc:creator>
  <dc:description/>
  <dc:language>en-US</dc:language>
  <cp:lastModifiedBy>mumcum</cp:lastModifiedBy>
  <dcterms:modified xsi:type="dcterms:W3CDTF">2007-08-06T07:32:18Z</dcterms:modified>
  <cp:revision>7</cp:revision>
  <dc:subject/>
  <dc:title>Post FSAP Task Force Report on Better Regulation and Impact Assessment</dc:title>
</cp:coreProperties>
</file>