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4612-891D-4E6B-BF00-56722FC68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A754-759D-4B7B-9A02-81AC1078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14DB-E6B5-48D1-8CD8-1E4AA0A7B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28F8-F04D-49FF-96F2-10FBBAE3A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352A-857D-4586-8186-8DFDBD43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069A-07A4-4F29-9DEC-4B77AD94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4073-A12B-422A-9BE9-71041F6E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AEAF-136B-4D26-995D-DC89FE89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9E97-A38A-48A4-A6D1-3DA098E8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030A-CAF1-450C-B228-87702555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40C2-3CEB-4C94-A6CB-23DDACC8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8C94-D6A1-4139-AC8E-9A029D48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2FB1-4B23-462E-AF31-3509FEC16810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Times New Roman"/>
              </a:rPr>
              <a:t>Post FSAP Task Force Report on Better Regulation and Impact 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ent Experiences in the         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Financial Sector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Recent problem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A on the PSD (Payments Services Directive)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ducted by the Commission : factual errors, bias</a:t>
            </a: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anti-banks, overestimation of benefits (50-100 B€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A on Mortgage Credit conducted by London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onomics : too simplistic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3462-FE47-45D3-92D5-59352F157B5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ent Experiences in the         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Financial Sector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Recent improvements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Creation of the IAB (Impact Assessment Board) to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review IA done related to each proposal of the Commission. 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Independent body reporting directly to the President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of the Commission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Systematic creation of IA units in each DG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IA conducted in the context of Basel II quoted as good practice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Good consultation process for UCITS and Mortgage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Credit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9217-BE66-43C0-9C0F-128E83F219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ggested Improvement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to the EU system in B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ore open dialogue between industry and Commission, setting objectives and prioriti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ncourage market based solutions (voluntary codes of conduct, co and self regulation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cus on investment and compliance costs when addressing the reduction of administrative burde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A should apply to all important pending legis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ore significant involvement of the European Parliament and the European Council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826F-43C3-434E-B5CB-0A00C16ED3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BF Internal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Organization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o address the recent developments adequately, EBF internal measures need to be taken quickly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udget latitud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Dedicated staff member from the EBF Secretariat to work on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BF Guidelines including checklist (list of questions that consultative committees should ask during any legislative procedure to ensure that BR and IA standards are respected by the EU institutions)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 Hoc Task Force and the Involvement of EMAC (Advisory committee on voluntary basi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0254-A68A-4EE8-A474-D7C7B193EC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BF Internal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Organization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Role of the Post FSAP TF (general support and monitoring of the BR &amp; IA process within EBF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nvolvement of small associations (IA studies taking into account geographical and size issue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A Test Case for 2007 (Ex-Co to choose between 3 different subjects)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VAT Regime for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Bank Accounts and Mobilit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Distance Marketing of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1EF3-C52F-4A01-B0C3-546AC8729F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xecutive Committee to approve the report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Publish the report and send it to all interested parties especially to the European Instituti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tinue monitoring and updating the national best practices in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tart a first test case in IA for 2007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Lobby the EU Institutions regarding the improvement of the BR procedures especially IA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21C5-31B0-4F3F-8102-B99761153E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Chairman of the Post FSAP Task Forc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Jean Francois P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EBF Secretari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ébastien de Brouwe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lie Beyrouth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DBA3-19C5-48C2-A42E-E0398B8FE8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xchange experiences and best practices at national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ssess the EU system in BR and IA: guidelines, methodology and previous experien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opt a proactive role at EBF level in the area of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FCCF-C1B9-4913-85F8-2C6B9717A8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ptember 2006: Decision of the Ex-Co to assess further the issue of better regu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December 2006 – April 2007: 4 meetings of the Task Force chaired by Jean Francois PON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June 2007: Report of the Task Force delivered to the Ex-co for approval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1234-46A0-401A-B336-4FFFB7B3D6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What is Better Regulation?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n EU policy using different tools and processes to make sur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at regulation is used only when necessary and that the burdens they impose are proportionate to their aim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Examples of better regulation tools and process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implify existing legis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ystematic use of impact assessment and public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in the development of new policy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posal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312C-FE05-49A5-BBA2-E786630D95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What is Impact Assessment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Designed to help in structuring and developing 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polici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Identifies and assesses the problem at stake and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objectives pursued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Helps to identify the main options for achieving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objectives and analyzes their likely impacts in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economic, environmental and social field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Uses quantification and economic analysi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BA24-B983-4FA3-9CCE-83DFFC3D35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onal experiences in BR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and IA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tandard form has been adopted, divided in 4 main chapters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implification/reduction of administrative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burde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Consultation/dialogu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mpact Assessmen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Ex Post Analysi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8B68-6C5D-4984-A5F5-B6822CE5C9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onal experiences in BR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and IA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vantages of the standard form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Compare in one document all national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experiences in BR by subject matte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dentify gaps and space for further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improvemen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4BB6-765B-47C5-BEC9-41DD878F15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 Conclusions from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national experi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lmost all EU countries are moving forward by adopting tools of better regu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ig differences still exist between EU countries for the importance of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No similar standards between different EU countries in order to facilitate comparis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No perfect mod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F5D5-CD18-4183-A3EE-9068F1E8B7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 and IA at EU and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International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ral European Commission’s officials have been invited to present the EU system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 special chapter on the EU experience in BR and IA has been added to the document on national experien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IF paper on effective regulation has been discussed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7E9B-BFBF-464F-8C69-157FA0EFC4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1T15:09:26Z</dcterms:created>
  <dc:creator>beyrouthy</dc:creator>
  <dc:description/>
  <dc:language>en-US</dc:language>
  <cp:lastModifiedBy>mumcum</cp:lastModifiedBy>
  <dcterms:modified xsi:type="dcterms:W3CDTF">2007-08-06T07:32:18Z</dcterms:modified>
  <cp:revision>7</cp:revision>
  <dc:subject/>
  <dc:title>Post FSAP Task Force Report on Better Regulation and Impact Assessment</dc:title>
</cp:coreProperties>
</file>