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D93F-0AA1-429F-A683-14C54CF9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9C99-64FB-4F67-9297-B6F8FB82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A5AB-E243-4DF3-BBC7-DEFD2F12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30F7-372B-466A-A9C2-A6EF1A2E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1997-9456-4324-8271-5D57EBF3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7622-BB64-4D01-BE70-9227FD25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95B8-84A7-48B8-920D-FAA74ADE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CC6D-8279-4E7C-AE64-615C3DCB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897C-B1C5-4208-82B1-A0651FDB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C95-E3B5-42EF-8A3B-2486A538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6978-63BD-46A3-B579-49538565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8393-6569-4C29-B50E-6AA993BC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6406-864E-4789-A2DE-47FDF1393F31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Times New Roman"/>
              </a:rPr>
              <a:t>Post FSAP Task Force Report on Better Regulation and Impact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ecent problem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the PSD (Payments Services Directive)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ducted by the Commission : factual errors, bias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anti-banks, overestimation of benefits (50-100 B€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Mortgage Credit conducted by London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onomics : too simplistic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4AC0-B09F-4515-B81C-9428B8C026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Recent improvements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Creation of the IAB (Impact Assessment Board) to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review IA done related to each proposal of the Commission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Independent body reporting directly to the President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of the Commission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Systematic creation of IA units in each DG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IA conducted in the context of Basel II quoted as good practice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Good consultation process for UCITS and Mortgage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E571-D8AB-4A32-B9DC-503562DA61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ggested Improvemen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to the EU system in B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open dialogue between industry and Commission, setting objectives and priorit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ncourage market based solutions (voluntary codes of conduct, co and self regulation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cus on investment and compliance costs when addressing the reduction of administrative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should apply to all important pend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significant involvement of the European Parliament and the European Council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A778-9DC3-4AE8-9919-C25001988F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o address the recent developments adequately, EBF internal measures need to be taken quickly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udget latitud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dicated staff member from the EBF Secretariat to work on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BF Guidelines including checklist (list of questions that consultative committees should ask during any legislative procedure to ensure that BR and IA standards are respected by the EU institutions)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 Hoc Task Force and the Involvement of EMAC (Advisory committee on voluntary basi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BF52-18FC-4DF1-A189-D80A2EB910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ole of the Post FSAP TF (general support and monitoring of the BR &amp; IA process within EBF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nvolvement of small associations (IA studies taking into account geographical and size issu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Test Case for 2007 (Ex-Co to choose between 3 different subjects)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VAT Regime for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Bank Accounts and Mobilit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Distance Marketing of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328B-3C3B-4F6A-875D-79E7CAA4D2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ecutive Committee to approve the report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Publish the report and send it to all interested parties especially to the European Institu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tinue monitoring and updating the national best practices in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rt a first test case in IA for 2007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obby the EU Institutions regarding the improvement of the BR procedures especially IA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5A39-847A-46D7-82D9-C830461A03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hairman of the Post FSAP Task For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ean Francois P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BF Secretari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ébastien de Brouw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lie Beyrouth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3C26-2384-4CA1-A36A-0509C644D0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change experiences and best practices at national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 the EU system in BR and IA: guidelines, methodology and previous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opt a proactive role at EBF level in the area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9F26-C6C7-4E34-BDC1-4DD9E518F7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ptember 2006: Decision of the Ex-Co to assess further the issue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cember 2006 – April 2007: 4 meetings of the Task Force chaired by Jean Francois PON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une 2007: Report of the Task Force delivered to the Ex-co for approval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F901-046A-47CF-8CEB-594CD8C8A9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Better Regulation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n EU policy using different tools and processes to make sur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at regulation is used only when necessary and that the burdens they impose are proportionate to their aim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s of better regulation tools and process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y exist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ystematic use of impact assessment and public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in the development of new policy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al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12A1-7F4A-4613-A76A-3E22CEC7C8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Impact Assessmen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Designed to help in structuring and developing 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Identifies and assesses the problem at stake and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pursu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Helps to identify the main options for achieving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and analyzes their likely impacts in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economic, environmental and social field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Uses quantification and economic analy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6058-CE4E-4239-AAF7-F76928B583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and IA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ndard form has been adopted, divided in 4 main chapter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ication/reduction of administrative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nsultation/dialogu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mpact Assess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Ex Post Analysi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AF7-C604-4181-A893-0C22234397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and 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vantages of the standard form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mpare in one document all national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experiences in BR by subject matt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dentify gaps and space for further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improv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61C6-B699-44C9-A8D7-05CF2196D0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Conclusions from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national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lmost all EU countries are moving forward by adopting tools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ig differences still exist between EU countries for the importance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similar standards between different EU countries in order to facilitate comparis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perfect mod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74A9-90F4-4B80-8D11-6761DD79FA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 and IA at EU and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International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ral European Commission’s officials have been invited to present the EU system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 special chapter on the EU experience in BR and IA has been added to the document on national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IF paper on effective regulation has been discuss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69B7-BEF9-4DDA-A3E3-A039880EAE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5:09:26Z</dcterms:created>
  <dc:creator>beyrouthy</dc:creator>
  <dc:description/>
  <dc:language>en-US</dc:language>
  <cp:lastModifiedBy>mumcum</cp:lastModifiedBy>
  <dcterms:modified xsi:type="dcterms:W3CDTF">2007-08-06T07:32:18Z</dcterms:modified>
  <cp:revision>7</cp:revision>
  <dc:subject/>
  <dc:title>Post FSAP Task Force Report on Better Regulation and Impact Assessment</dc:title>
</cp:coreProperties>
</file>