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81B6-A211-4C2D-BACC-E61CAC105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0214-33A3-4034-B5D6-2AFDB03D9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FBCF-BFDC-4924-8C52-D30544EC6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BD48-8582-450D-90C3-F9F977EEC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5A8B-1536-41B3-9B74-D9EED11AB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43F7-CAB2-44E2-91E1-3CA7D2A2A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FF52-4F11-4771-ADC7-8F96F3724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E58B-8995-4D74-B68C-51B76E7DF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0B3F-C304-481B-BEB4-FD65A6CF5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B8ED-F377-458E-B561-7AAEF22C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7658-D709-4D4F-AD18-E505A1FE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C62F-854E-4272-BB1E-9B83D6E69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490A1-F3CB-42AF-BDCC-E3736C5652CA}" type="slidenum"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94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cc"/>
                </a:solidFill>
                <a:latin typeface="Times New Roman"/>
              </a:rPr>
              <a:t>Post FSAP Task Force Report on Better Regulation and Impact Assess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ent Experiences in the            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Financial Sector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Recent problems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IA on the PSD (Payments Services Directive)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nducted by the Commission : factual errors, bias</a:t>
            </a:r>
            <a:br>
              <a:rPr sz="28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anti-banks, overestimation of benefits (50-100 B€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IA on Mortgage Credit conducted by London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onomics : too simplistic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FBA1-2B0E-4726-AEF7-4166E11D1C9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ent Experiences in the            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Financial Sector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Times New Roman"/>
              </a:rPr>
              <a:t>Recent improvements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- Creation of the IAB (Impact Assessment Board) to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review IA done related to each proposal of the Commission. 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Independent body reporting directly to the President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of the Commission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- Systematic creation of IA units in each DG 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- IA conducted in the context of Basel II quoted as good practice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- Good consultation process for UCITS and Mortgage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Credit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379D-AEE5-436C-BFE2-4FA7E5730FF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ggested Improvement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to the EU system in B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More open dialogue between industry and Commission, setting objectives and prioriti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ncourage market based solutions (voluntary codes of conduct, co and self regulations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ocus on investment and compliance costs when addressing the reduction of administrative burde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IA should apply to all important pending legislati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More significant involvement of the European Parliament and the European Council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8123-7972-4B7F-8847-942D8147026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BF Internal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Organization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To address the recent developments adequately, EBF internal measures need to be taken quickly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Budget latitude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Dedicated staff member from the EBF Secretariat to work on IA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BF Guidelines including checklist (list of questions that consultative committees should ask during any legislative procedure to ensure that BR and IA standards are respected by the EU institutions) 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d Hoc Task Force and the Involvement of EMAC (Advisory committee on voluntary basis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6E1B-1AE1-4496-9F8B-7A63805ED9F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BF Internal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Organization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Role of the Post FSAP TF (general support and monitoring of the BR &amp; IA process within EBF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Involvement of small associations (IA studies taking into account geographical and size issues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IA Test Case for 2007 (Ex-Co to choose between 3 different subjects)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VAT Regime for Financial Servi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Bank Accounts and Mobility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Distance Marketing of Financial Servi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DEEC-5BE8-47CB-B4A7-F0E606355BA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xecutive Committee to approve the report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Publish the report and send it to all interested parties especially to the European Institution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ntinue monitoring and updating the national best practices in BR and IA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tart a first test case in IA for 2007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Lobby the EU Institutions regarding the improvement of the BR procedures especially IA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55BF-C477-4FB0-8902-14014A01F9E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Chairman of the Post FSAP Task Force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                       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Jean Francois Pon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EBF Secretaria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                     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ébastien de Brouwer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                          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lie Beyrouthy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2679-46AA-40F5-8D4D-852DE8434A9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xchange experiences and best practices at national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ssess the EU system in BR and IA: guidelines, methodology and previous experien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dopt a proactive role at EBF level in the area of BR and IA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1D5F-2C4A-4387-9E45-1871FFBD0DF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ptember 2006: Decision of the Ex-Co to assess further the issue of better regulati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December 2006 – April 2007: 4 meetings of the Task Force chaired by Jean Francois PON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June 2007: Report of the Task Force delivered to the Ex-co for approval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F0FE-57ED-4BE6-9B80-EF854CB6A93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What is Better Regulation?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n EU policy using different tools and processes to make sure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at regulation is used only when necessary and that the burdens they impose are proportionate to their aim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Examples of better regulation tools and process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Simplify existing legislati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ystematic use of impact assessment and public 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in the development of new policy 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roposals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31FE-5FE4-4E0F-A3A2-6E3F67BF52C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What is Impact Assessment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Designed to help in structuring and developing  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polici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- Identifies and assesses the problem at stake and the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objectives pursued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- Helps to identify the main options for achieving the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objectives and analyzes their likely impacts in the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economic, environmental and social field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   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- Uses quantification and economic analysi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FBEF-72F4-4E71-AC59-99957AC1931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tional experiences in BR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and IA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tandard form has been adopted, divided in 4 main chapters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Simplification/reduction of administrative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burde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Consultation/dialogue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Impact Assessmen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Ex Post Analysis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8703-37EE-44FB-8D75-887F0D8F575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tional experiences in BR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and IA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dvantages of the standard form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Compare in one document all national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experiences in BR by subject matter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Identify gaps and space for further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improvement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13FD-86C3-46BE-8DDD-5CE271F1F96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 Conclusions from  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national experi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lmost all EU countries are moving forward by adopting tools of better regulati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Big differences still exist between EU countries for the importance of BR and IA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No similar standards between different EU countries in order to facilitate comparis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No perfect mod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BCEC-84BA-4E5B-BD74-23799F51D95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 and IA at EU and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International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veral European Commission’s officials have been invited to present the EU system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 special chapter on the EU experience in BR and IA has been added to the document on national experien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IIF paper on effective regulation has been discussed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2CE2-6214-4866-915B-C0D881CF699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1T15:09:26Z</dcterms:created>
  <dc:creator>beyrouthy</dc:creator>
  <dc:description/>
  <dc:language>en-US</dc:language>
  <cp:lastModifiedBy>mumcum</cp:lastModifiedBy>
  <dcterms:modified xsi:type="dcterms:W3CDTF">2007-08-06T07:32:18Z</dcterms:modified>
  <cp:revision>7</cp:revision>
  <dc:subject/>
  <dc:title>Post FSAP Task Force Report on Better Regulation and Impact Assessment</dc:title>
</cp:coreProperties>
</file>