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D8663-368D-438C-A03E-FEF78804C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E9A55-081E-4979-8925-73D942676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C1D50-925D-4EFD-8774-583C701E2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C90FA-BA88-4DAA-B040-DB06C856F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0F2EC-FB34-45F5-A3E2-758B42726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324CD-331C-4822-BBEF-B28D9331C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DF605-39D6-4382-A88E-4FB88B36B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436FF-230B-4186-8FE9-638DD2363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B23B1-473C-44EC-9FA8-7936A81FE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F96FD-A804-4A12-A00A-9EFF6074F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78A4C-6F43-4101-8581-3D985BE88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8B13F-9FE4-475D-A5E7-BE6772424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68000" y="6381720"/>
            <a:ext cx="213372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66cc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cc"/>
                </a:solidFill>
                <a:latin typeface="Times New Roman"/>
              </a:rPr>
              <a:t>&lt;footer&gt;</a:t>
            </a:r>
            <a:r>
              <a:rPr b="0" lang="en-US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7063B-72EB-46D1-8B5B-BCA7DE0F730B}" type="slidenum">
              <a:rPr b="0" lang="en-US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 flipV="1">
            <a:off x="468360" y="1557360"/>
            <a:ext cx="0" cy="530064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68360" y="1557360"/>
            <a:ext cx="4174920" cy="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0" y="189000"/>
            <a:ext cx="2943360" cy="130500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194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cc"/>
                </a:solidFill>
                <a:latin typeface="Times New Roman"/>
              </a:rPr>
              <a:t>Post FSAP Task Force Report on Better Regulation and Impact Assess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cent Experiences in the              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   Financial Sector (1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66cc"/>
                </a:solidFill>
                <a:uFillTx/>
                <a:latin typeface="Times New Roman"/>
              </a:rPr>
              <a:t>Recent problems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- IA on the PSD (Payments Services Directive)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conducted by the Commission : factual errors, bias</a:t>
            </a:r>
            <a:br>
              <a:rPr sz="28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  anti-banks, overestimation of benefits (50-100 B€)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- IA on Mortgage Credit conducted by London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onomics : too simplistic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B941B-735A-4B40-A0B8-EC92B7C7CC5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cent Experiences in the              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   Financial Sector (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66cc"/>
                </a:solidFill>
                <a:uFillTx/>
                <a:latin typeface="Times New Roman"/>
              </a:rPr>
              <a:t>Recent improvements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- Creation of the IAB (Impact Assessment Board) to 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review IA done related to each proposal of the Commission.  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Independent body reporting directly to the President 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of the Commission 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- Systematic creation of IA units in each DG </a:t>
            </a: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- IA conducted in the context of Basel II quoted as good practice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- Good consultation process for UCITS and Mortgage 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Credit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5C586-C046-4A1E-805A-3B067D2661F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uggested Improvement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  to the EU system in BR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More open dialogue between industry and Commission, setting objectives and prioritie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ncourage market based solutions (voluntary codes of conduct, co and self regulations)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Focus on investment and compliance costs when addressing the reduction of administrative burden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IA should apply to all important pending legislation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More significant involvement of the European Parliament and the European Council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95068-F3D5-4ECF-8361-1657A1B84D6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BF Internal  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      Organization (1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To address the recent developments adequately, EBF internal measures need to be taken quickly: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Budget latitude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Dedicated staff member from the EBF Secretariat to work on IA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BF Guidelines including checklist (list of questions that consultative committees should ask during any legislative procedure to ensure that BR and IA standards are respected by the EU institutions) 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Ad Hoc Task Force and the Involvement of EMAC (Advisory committee on voluntary basis)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0EB94-9BFA-4BF9-BF02-B2D2548A3E4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BF Internal  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      Organization (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Role of the Post FSAP TF (general support and monitoring of the BR &amp; IA process within EBF)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Involvement of small associations (IA studies taking into account geographical and size issues)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IA Test Case for 2007 (Ex-Co to choose between 3 different subjects):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- VAT Regime for Financial Service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- Bank Accounts and Mobility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- Distance Marketing of Financial Service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4AA6F-8B87-4522-A0E2-BC7FB981AF8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xecutive Committee to approve the report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Publish the report and send it to all interested parties especially to the European Institution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Continue monitoring and updating the national best practices in BR and IA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Start a first test case in IA for 2007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Lobby the EU Institutions regarding the improvement of the BR procedures especially IA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529C0-9AFD-44D9-8369-199DB24905C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66cc"/>
                </a:solidFill>
                <a:uFillTx/>
                <a:latin typeface="Times New Roman"/>
              </a:rPr>
              <a:t>Chairman of the Post FSAP Task Force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                              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Jean Francois Pon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66cc"/>
                </a:solidFill>
                <a:uFillTx/>
                <a:latin typeface="Times New Roman"/>
              </a:rPr>
              <a:t>EBF Secretariat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                            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Sébastien de Brouwer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                                 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lie Beyrouthy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C30BF-59AC-4165-8E34-EB29F5DEAD7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xchange experiences and best practices at national level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Assess the EU system in BR and IA: guidelines, methodology and previous experience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Adopt a proactive role at EBF level in the area of BR and IA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A36F9-5C05-4080-8DCE-8D5ADC8B377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met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September 2006: Decision of the Ex-Co to assess further the issue of better regulation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December 2006 – April 2007: 4 meetings of the Task Force chaired by Jean Francois PONS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June 2007: Report of the Task Force delivered to the Ex-co for approval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284AE-1480-4079-8DC3-74198469408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ition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66cc"/>
                </a:solidFill>
                <a:uFillTx/>
                <a:latin typeface="Times New Roman"/>
              </a:rPr>
              <a:t>What is Better Regulation?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An EU policy using different tools and processes to make sure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that regulation is used only when necessary and that the burdens they impose are proportionate to their aim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66cc"/>
                </a:solidFill>
                <a:uFillTx/>
                <a:latin typeface="Times New Roman"/>
              </a:rPr>
              <a:t>Examples of better regulation tools and processe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- Simplify existing legislation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- S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ystematic use of impact assessment and public 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     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consultation in the development of new policy 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     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proposals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78C92-33FA-4E9A-B091-2D63E872D9A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ition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66cc"/>
                </a:solidFill>
                <a:uFillTx/>
                <a:latin typeface="Times New Roman"/>
              </a:rPr>
              <a:t>What is Impact Assessment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- </a:t>
            </a:r>
            <a:r>
              <a:rPr b="0" lang="en" sz="2800" spc="-1" strike="noStrike">
                <a:solidFill>
                  <a:srgbClr val="0066cc"/>
                </a:solidFill>
                <a:latin typeface="Times New Roman"/>
              </a:rPr>
              <a:t>Designed to help in structuring and developing  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0066cc"/>
                </a:solidFill>
                <a:latin typeface="Times New Roman"/>
              </a:rPr>
              <a:t>      </a:t>
            </a:r>
            <a:r>
              <a:rPr b="0" lang="en" sz="2800" spc="-1" strike="noStrike">
                <a:solidFill>
                  <a:srgbClr val="0066cc"/>
                </a:solidFill>
                <a:latin typeface="Times New Roman"/>
              </a:rPr>
              <a:t>policie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" sz="2800" spc="-1" strike="noStrike">
                <a:solidFill>
                  <a:srgbClr val="0066cc"/>
                </a:solidFill>
                <a:latin typeface="Times New Roman"/>
              </a:rPr>
              <a:t>- Identifies and assesses the problem at stake and the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0066cc"/>
                </a:solidFill>
                <a:latin typeface="Times New Roman"/>
              </a:rPr>
              <a:t>      </a:t>
            </a:r>
            <a:r>
              <a:rPr b="0" lang="en" sz="2800" spc="-1" strike="noStrike">
                <a:solidFill>
                  <a:srgbClr val="0066cc"/>
                </a:solidFill>
                <a:latin typeface="Times New Roman"/>
              </a:rPr>
              <a:t>objectives pursued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" sz="2800" spc="-1" strike="noStrike">
                <a:solidFill>
                  <a:srgbClr val="0066cc"/>
                </a:solidFill>
                <a:latin typeface="Times New Roman"/>
              </a:rPr>
              <a:t>- Helps to identify the main options for achieving the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0066cc"/>
                </a:solidFill>
                <a:latin typeface="Times New Roman"/>
              </a:rPr>
              <a:t>      </a:t>
            </a:r>
            <a:r>
              <a:rPr b="0" lang="en" sz="2800" spc="-1" strike="noStrike">
                <a:solidFill>
                  <a:srgbClr val="0066cc"/>
                </a:solidFill>
                <a:latin typeface="Times New Roman"/>
              </a:rPr>
              <a:t>objectives and analyzes their likely impacts in the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0066cc"/>
                </a:solidFill>
                <a:latin typeface="Times New Roman"/>
              </a:rPr>
              <a:t>      </a:t>
            </a:r>
            <a:r>
              <a:rPr b="0" lang="en" sz="2800" spc="-1" strike="noStrike">
                <a:solidFill>
                  <a:srgbClr val="0066cc"/>
                </a:solidFill>
                <a:latin typeface="Times New Roman"/>
              </a:rPr>
              <a:t>economic, environmental and social field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0066cc"/>
                </a:solidFill>
                <a:latin typeface="Times New Roman"/>
              </a:rPr>
              <a:t>    </a:t>
            </a:r>
            <a:r>
              <a:rPr b="0" lang="en" sz="2800" spc="-1" strike="noStrike">
                <a:solidFill>
                  <a:srgbClr val="0066cc"/>
                </a:solidFill>
                <a:latin typeface="Times New Roman"/>
              </a:rPr>
              <a:t>- Uses quantification and economic analysi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0E7AF-AC6D-4BCE-9286-6D5317B19C9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ational experiences in BR  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and IA (1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Standard form has been adopted, divided in 4 main chapters: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- Simplification/reduction of administrative  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   burden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- Consultation/dialogue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- Impact Assessment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- Ex Post Analysis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6683E-3E10-48DF-B01A-1357572AF87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ational experiences in BR  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  and IA (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Advantages of the standard form: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- Compare in one document all national 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   experiences in BR by subject matter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- Identify gaps and space for further 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   improvement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419E1-9025-4B9A-BFF1-693F691AD4F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 Conclusions from    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national experi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Almost all EU countries are moving forward by adopting tools of better regulation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Big differences still exist between EU countries for the importance of BR and IA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No similar standards between different EU countries in order to facilitate comparison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No perfect model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4A1A5-3C03-4AB0-8CD1-EB2DB518AA1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R and IA at EU and 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International lev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Several European Commission’s officials have been invited to present the EU system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A special chapter on the EU experience in BR and IA has been added to the document on national experience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IIF paper on effective regulation has been discussed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63989-9F9C-4AFB-9DEF-05C92772BEF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1T15:09:26Z</dcterms:created>
  <dc:creator>beyrouthy</dc:creator>
  <dc:description/>
  <dc:language>en-US</dc:language>
  <cp:lastModifiedBy>mumcum</cp:lastModifiedBy>
  <dcterms:modified xsi:type="dcterms:W3CDTF">2007-08-06T07:32:18Z</dcterms:modified>
  <cp:revision>7</cp:revision>
  <dc:subject/>
  <dc:title>Post FSAP Task Force Report on Better Regulation and Impact Assessment</dc:title>
</cp:coreProperties>
</file>