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572-EEEE-4497-8B6E-4FD210D9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9D73-A633-4EE4-8FCA-CDB04C55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B829-B11B-47B9-AFF1-2863232E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F5E-EDE9-492A-A32B-352669EC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4B7F-1EC2-469C-AC63-EAB49792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D20A-D2D8-44A0-B155-6472604A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25A9-33ED-470D-8D30-71A4651C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5D16-A9C9-4A9B-AA5F-D22E96CE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F97-321E-47F9-87EB-1D06C22E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1C4-4A88-4F3B-B4E1-9661E6E8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C707-7487-4A81-94F8-E1A3C3E5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1E81-06B4-4C1A-AA29-30C437D4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5BC0-BA9E-42AC-98D5-00AC9A8CC92A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UKRAINIAN BANKING SECTOR </a:t>
            </a:r>
            <a:br>
              <a:rPr sz="4400"/>
            </a:b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OVERVIEW AND OUTLOOK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8862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FBE Associates meeting 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Krak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w,29</a:t>
            </a:r>
            <a:r>
              <a:rPr b="0" i="1" lang="en-U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th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June 2007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8336-7019-4A7B-BA6D-870EF4590B7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Official  Exchange  Rate  for  the  UAH  against  US  dollar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1981080"/>
          <a:ext cx="754380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981080"/>
                    <a:ext cx="7543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16200" y="6161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331-7508-4BC8-AFBF-44617EA5CDD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Net assets &amp; their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00320" y="1297080"/>
          <a:ext cx="7418160" cy="51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0320" y="1297080"/>
                    <a:ext cx="741816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F98B-CBD4-4CAF-8061-1B5804BADFE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Capital &amp; its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1295280"/>
          <a:ext cx="7543800" cy="517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295280"/>
                    <a:ext cx="754380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F310-C4C7-4C57-9DE0-EF8CACEBD5E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Loans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66680" y="1297080"/>
          <a:ext cx="7774200" cy="525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97080"/>
                    <a:ext cx="777420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D315-11E7-4275-9425-2D22C3618F4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Interest rates in national currency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76520"/>
          <a:ext cx="7724880" cy="47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77248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C5AF-D251-4D69-9108-B9581302277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activity  of  the  Association  of  Ukrainian  Banks  is  directed  at  the  integration  of  Ukraine  to  the  European  Union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Joining the World Trade Organization by Ukraine and the issue of foreign banks affiliate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Bringing  banking  instruments  of  regulation  and  supervision  in  Ukraine  to  the  European  standard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Transition of the Ukrainian banks to the international  accounting system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2CE-DB9B-4560-97EB-4351FCCCA51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46479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hank you for  your attention!</a:t>
            </a:r>
            <a:br>
              <a:rPr sz="2800"/>
            </a:b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025640"/>
            <a:ext cx="734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5791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ank you for  cooperation!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8480" y="6172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3248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C9DD-46CC-40A9-9435-83F2D0561F9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Founded in 1990 and   based in Kyiv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125 member bank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approximately 90% of  banking </a:t>
            </a:r>
            <a:r>
              <a:rPr b="0" lang="uk-UA" sz="3200" spc="-1" strike="noStrike">
                <a:solidFill>
                  <a:srgbClr val="1c1c1c"/>
                </a:solidFill>
                <a:latin typeface="Arial"/>
              </a:rPr>
              <a:t>                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sector's asset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is led by 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Oleksandr  Suhonyako from 1993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40CA-639B-44B7-9644-6F6FC6AA9BE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Mission  of  the  Association  of  Ukrainian  Banks: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858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moting development  of  the  Ukrainian  commercial  banks  system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Establishing and maintaining  the best possible platform on which the banking groups can 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do competitive, profitable and responsible bank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8931-CEF8-4239-8462-201CDCDBA2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ims  of  the  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8480" y="6170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Favourable  legal  and  normative  environment   for  banks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tection  of banks  from  political  pressure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Confidence  of the society  and  foreign  partners  to  the  banking  system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Up-grading professional  skills  of  bank  staff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0CBE-2D6D-4036-AC23-F5F31EE2CC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Principles  of  the  Ukrainian  Banks  Association  activity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ransparency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Self-dependence and  independence from the state  power  bodies;  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Non-commercial  activity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3E37-71BF-47CC-A428-EA06F3233C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resources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personnel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Information (bank statements, Web-site)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finances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8E56-A1DE-47F2-8DF1-F0BF43330E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650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results  of  the  Ukrainian  Banks  Association  activity 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Contribution  to  taking  off  Ukraine  from  the FATF’s  black  list;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Verkhovna  Rada  of  Ukraine  took  into  consideration the Association’s  position  concerning premature admission  of  foreign  banks  affiliates  to  Ukraine;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Association  in  interaction  with  the  National Bank of Ukraine stopped  spreading  of  political  crises  to  the  banks.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0176-A266-4F88-B93E-0C9213C696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  of establishing   Ukrainian  banking  system  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anks  privatization in  the  early  1990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ggressive and unfavourable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administrative  and  economic  environment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Difficulties in  the  development  of  the  financial  markets as well as  in the increase of capital  and  profitability  of   bank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75C7-DDEB-4637-B20E-47D9573C211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… 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(continuation):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orrower takes  priority  over creditor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"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banking  legislation  of  Ukraine in  general meets the  appropriate  standards  of  law  of  the  European  Union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."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The  Ukrainian  and  European  advisory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centre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High professional  standard  of  governors of  the  National  Bank  of  Ukraine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8480" y="6172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2D7E-FE52-4172-BD37-7BD7D4CD55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2:39:58Z</dcterms:created>
  <dc:creator>Евгения С. Кузьменко</dc:creator>
  <dc:description/>
  <dc:language>en-US</dc:language>
  <cp:lastModifiedBy>mumcum</cp:lastModifiedBy>
  <dcterms:modified xsi:type="dcterms:W3CDTF">2007-08-06T07:33:29Z</dcterms:modified>
  <cp:revision>264</cp:revision>
  <dc:subject/>
  <dc:title>Презентация PowerPoint</dc:title>
</cp:coreProperties>
</file>