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BBA17-19D1-42F4-B856-FFAB4512B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301DC-B58E-4ADF-AA0B-EDC93B0AC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930B5-7155-4BB0-B20F-55B0FFE53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E4DEC-6DA5-4839-9B9E-F986BAAAF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2B3DE-BDC0-480A-A396-8E6741D96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97E38-C87F-43A4-A7EB-907837F80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419B9-2D7E-4DA6-9D20-23C5CCA22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95C4B-8127-4D0B-B5A8-8F01BD313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7E47C-00A0-473B-A646-79815D946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A1328-9D6D-403D-868C-B0CF70116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870A4-F348-4721-8890-70F497DF8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A2FB5-5C58-4BF3-B45D-125F77666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B05D-027E-4438-AE80-5C279D09565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EU legislation concerning financial services</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12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russels, 7</a:t>
            </a:r>
            <a:r>
              <a:rPr b="0" lang="en-GB" sz="2800" spc="-1" strike="noStrike" baseline="30000">
                <a:solidFill>
                  <a:srgbClr val="ffff00"/>
                </a:solidFill>
                <a:latin typeface="Times New Roman"/>
              </a:rPr>
              <a:t>th</a:t>
            </a:r>
            <a:r>
              <a:rPr b="0" lang="en-GB" sz="2800" spc="-1" strike="noStrike">
                <a:solidFill>
                  <a:srgbClr val="ffff00"/>
                </a:solidFill>
                <a:latin typeface="Times New Roman"/>
              </a:rPr>
              <a:t> of December 2006</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2124000" y="189000"/>
            <a:ext cx="5148360" cy="22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6. </a:t>
            </a:r>
            <a:r>
              <a:rPr b="1" i="1" lang="en-GB" sz="4000" spc="-1" strike="noStrike">
                <a:solidFill>
                  <a:srgbClr val="ffff00"/>
                </a:solidFill>
                <a:latin typeface="Times New Roman"/>
              </a:rPr>
              <a:t>Capital Requirement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95280" y="1916280"/>
            <a:ext cx="7848720" cy="424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Council and Parliament signed a Directiv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ne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IN Council adopted the Directive already in Octo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introduces an updated supervisory framework in the EU which reflects the BASEL II r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ber States can now focus on transposing and implementing the Directive by the end of this year.</a:t>
            </a:r>
            <a:endParaRPr b="0" lang="en-US" sz="2800" spc="-1" strike="noStrike">
              <a:solidFill>
                <a:srgbClr val="ffffff"/>
              </a:solidFill>
              <a:latin typeface="Times New Roman"/>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3" name="PlaceHolder 2"/>
          <p:cNvSpPr>
            <a:spLocks noGrp="1"/>
          </p:cNvSpPr>
          <p:nvPr>
            <p:ph/>
          </p:nvPr>
        </p:nvSpPr>
        <p:spPr>
          <a:xfrm>
            <a:off x="611280" y="1700280"/>
            <a:ext cx="8076960" cy="4392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rtgage Credit</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Green Paper – July 2005;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White Paper – May 2007?)</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U framework for investment funds (November 2006)</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implementing the Prospectuses Directive (October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5" name="PlaceHolder 2"/>
          <p:cNvSpPr>
            <a:spLocks noGrp="1"/>
          </p:cNvSpPr>
          <p:nvPr>
            <p:ph/>
          </p:nvPr>
        </p:nvSpPr>
        <p:spPr>
          <a:xfrm>
            <a:off x="611280" y="1915920"/>
            <a:ext cx="8076960" cy="4103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to improve supervisory approval process for M&amp;A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on complex financial history of issuers (August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ve implementing certain transparency requirements for issuers (May 200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15920"/>
            <a:ext cx="741672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Mortgage Credi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7" name="PlaceHolder 2"/>
          <p:cNvSpPr>
            <a:spLocks noGrp="1"/>
          </p:cNvSpPr>
          <p:nvPr>
            <p:ph/>
          </p:nvPr>
        </p:nvSpPr>
        <p:spPr>
          <a:xfrm>
            <a:off x="611280" y="1557000"/>
            <a:ext cx="806616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Green Paper” on action in the EU mortgage market was published already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5.</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vided EC initial views on the recommendations of the Mortgage Credit Working Group;</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xamined the case for Commission action in EU mortgage credit market (Whether and how?);</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G Market’ hosted a public hearing on 7 December 2005 on the conclusions of consulta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ite Paper” expected by May 2007.</a:t>
            </a:r>
            <a:endParaRPr b="0" lang="en-US" sz="2800" spc="-1" strike="noStrike">
              <a:solidFill>
                <a:srgbClr val="ffffff"/>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White Paper” on modernising EU investment fund marke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9"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White Paper” was published by the Commission on 1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ets out EC’s vision for the modernisation of the EU framework for investment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ments should simplify the existing Directiv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ensure that investors receive useful cost and performance disclosures when selecting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make it easier for the industry to achieve cost savings and specialisation benefits across the single market.</a:t>
            </a:r>
            <a:endParaRPr b="0" lang="en-US" sz="2800" spc="-1" strike="noStrike">
              <a:solidFill>
                <a:srgbClr val="ffffff"/>
              </a:solidFill>
              <a:latin typeface="Times New Roman"/>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Regulation implementing the Prospectuse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1"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2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Octo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Prospectuses Directiv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oncerns information contained in prospectuses and its forma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deals with incorporation by reference and publication of such prospectuses and dissemination of advertisements.</a:t>
            </a:r>
            <a:endParaRPr b="0" lang="en-US" sz="2800" spc="-1" strike="noStrike">
              <a:solidFill>
                <a:srgbClr val="ffffff"/>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Directive to improve supervisory approval process for M&amp;A</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3" name="PlaceHolder 2"/>
          <p:cNvSpPr>
            <a:spLocks noGrp="1"/>
          </p:cNvSpPr>
          <p:nvPr>
            <p:ph/>
          </p:nvPr>
        </p:nvSpPr>
        <p:spPr>
          <a:xfrm>
            <a:off x="684360" y="2276640"/>
            <a:ext cx="763272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mmission has proposed a Directive on 12</a:t>
            </a:r>
            <a:r>
              <a:rPr b="0" lang="en-GB" sz="2800" spc="-1" strike="noStrike" u="sng" baseline="30000">
                <a:solidFill>
                  <a:srgbClr val="ffffff"/>
                </a:solidFill>
                <a:uFillTx/>
                <a:latin typeface="Times New Roman"/>
              </a:rPr>
              <a:t>th</a:t>
            </a:r>
            <a:r>
              <a:rPr b="0" lang="en-GB"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tighten the procedures that MS supervisory authorities have to follow when assessing M&amp;A’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improve clarity and transparenc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Directive will amend various existing Directives in respective sectors.</a:t>
            </a:r>
            <a:endParaRPr b="0" lang="en-US" sz="2800" spc="-1" strike="noStrike">
              <a:solidFill>
                <a:srgbClr val="ffffff"/>
              </a:solidFill>
              <a:latin typeface="Times New Roman"/>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1. </a:t>
            </a:r>
            <a:r>
              <a:rPr b="1" i="1" lang="en-US" sz="4000" spc="-1" strike="noStrike">
                <a:solidFill>
                  <a:srgbClr val="ffff00"/>
                </a:solidFill>
                <a:latin typeface="Times New Roman"/>
              </a:rPr>
              <a:t>Regulation on complex financial history of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5"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10</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Directive on financial information in prospectuses where the issuer has a complex financial history or has made a significant financial commitment”.</a:t>
            </a:r>
            <a:endParaRPr b="0" lang="en-US" sz="2800" spc="-1" strike="noStrike">
              <a:solidFill>
                <a:srgbClr val="ffff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000"/>
            <a:ext cx="82090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1" i="1" lang="en-US" sz="4000" spc="-1" strike="noStrike">
                <a:solidFill>
                  <a:srgbClr val="ffff00"/>
                </a:solidFill>
                <a:latin typeface="Times New Roman"/>
              </a:rPr>
              <a:t>Directive implementing certain transparency requirements for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7"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Directive was published by the Commission on 24</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lay down detailed rules for the implementation of certain provisions of Directive on the harmonisation of transparency requirements in relation to information about issuers whose securities are admitted to trading on a regulated market.</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 and other</a:t>
            </a:r>
            <a:endParaRPr b="0" lang="en-US" sz="4400" spc="-1" strike="noStrike">
              <a:solidFill>
                <a:srgbClr val="ffff00"/>
              </a:solidFill>
              <a:latin typeface="Times New Roman"/>
            </a:endParaRPr>
          </a:p>
        </p:txBody>
      </p:sp>
      <p:sp>
        <p:nvSpPr>
          <p:cNvPr id="79" name="PlaceHolder 2"/>
          <p:cNvSpPr>
            <a:spLocks noGrp="1"/>
          </p:cNvSpPr>
          <p:nvPr>
            <p:ph/>
          </p:nvPr>
        </p:nvSpPr>
        <p:spPr>
          <a:xfrm>
            <a:off x="468000" y="1483920"/>
            <a:ext cx="8351640" cy="49690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Group on Customer Mobility (Octo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s for technical advice from CEBS (August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the E-Money Directive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gue Securities Convention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document on Post-Trading (May 2006)</a:t>
            </a:r>
            <a:endParaRPr b="0" lang="en-US" sz="32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7 most recent issues</a:t>
            </a:r>
            <a:endParaRPr b="0" lang="en-US" sz="4400" spc="-1" strike="noStrike">
              <a:solidFill>
                <a:srgbClr val="ffff00"/>
              </a:solidFill>
              <a:latin typeface="Times New Roman"/>
            </a:endParaRPr>
          </a:p>
        </p:txBody>
      </p:sp>
      <p:sp>
        <p:nvSpPr>
          <p:cNvPr id="45"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 and other</a:t>
            </a:r>
            <a:r>
              <a:rPr b="0" lang="en-US" sz="3600" spc="-1" strike="noStrike">
                <a:solidFill>
                  <a:srgbClr val="ffffff"/>
                </a:solidFill>
                <a:latin typeface="Times New Roman"/>
              </a:rPr>
              <a:t> (-5-)</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260280"/>
            <a:ext cx="79930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Expert Group on Customer Mobility</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94920" y="2060640"/>
            <a:ext cx="820908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first meeting of the group took plac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of the group: the issues related to current accou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exchange of views on customer mobility in relation to bank accounts on domestic switching and cross-border switc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obstacles to customer mobility were identified.</a:t>
            </a:r>
            <a:endParaRPr b="0" lang="en-US" sz="28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4. Calls for technical advice from CEB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PlaceHolder 2"/>
          <p:cNvSpPr>
            <a:spLocks noGrp="1"/>
          </p:cNvSpPr>
          <p:nvPr>
            <p:ph/>
          </p:nvPr>
        </p:nvSpPr>
        <p:spPr>
          <a:xfrm>
            <a:off x="394920" y="1773360"/>
            <a:ext cx="8209080" cy="468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issued 2 calls for technical advice from CEBS in August 2006.</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of own fund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quantitative analysis of the types of capital held by credit institutions within Member State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commodities business under Article 48 of Directive 2006/49/EC.</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ssessment of the prudential risks that arise from the conduct of commodities business and from the activities of firms carrying out this business.</a:t>
            </a:r>
            <a:endParaRPr b="0" lang="en-US" sz="28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Review of the E-Money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5" name="PlaceHolder 2"/>
          <p:cNvSpPr>
            <a:spLocks noGrp="1"/>
          </p:cNvSpPr>
          <p:nvPr>
            <p:ph/>
          </p:nvPr>
        </p:nvSpPr>
        <p:spPr>
          <a:xfrm>
            <a:off x="684360" y="1773000"/>
            <a:ext cx="770544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staff working document was published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improve legal certaint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reate a more business-friendly and streamlined regulatory framework for the issuance of E-Mone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ensure coherence and consistency with the PSD.</a:t>
            </a:r>
            <a:endParaRPr b="0" lang="en-US" sz="2800" spc="-1" strike="noStrike">
              <a:solidFill>
                <a:srgbClr val="ffffff"/>
              </a:solidFill>
              <a:latin typeface="Times New Roman"/>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6. Hague Securities Conventio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7" name="PlaceHolder 2"/>
          <p:cNvSpPr>
            <a:spLocks noGrp="1"/>
          </p:cNvSpPr>
          <p:nvPr>
            <p:ph/>
          </p:nvPr>
        </p:nvSpPr>
        <p:spPr>
          <a:xfrm>
            <a:off x="468360" y="1773000"/>
            <a:ext cx="81360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legal assessment and recommendation to sign the Convention was issued on 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gue Securities Convention = an international treaty providing a uniform legal formula for determining the ownership of securities held in electronic for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ttlement finality Directive should be amended so that securities settlement systems are governed by one Convention law only.</a:t>
            </a:r>
            <a:endParaRPr b="0" lang="en-US" sz="2800" spc="-1" strike="noStrike">
              <a:solidFill>
                <a:srgbClr val="ffffff"/>
              </a:solidFill>
              <a:latin typeface="Times New Roman"/>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7. Working document on Post-Trading</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9" name="PlaceHolder 2"/>
          <p:cNvSpPr>
            <a:spLocks noGrp="1"/>
          </p:cNvSpPr>
          <p:nvPr>
            <p:ph/>
          </p:nvPr>
        </p:nvSpPr>
        <p:spPr>
          <a:xfrm>
            <a:off x="468360" y="1773360"/>
            <a:ext cx="813600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working document was published on 2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ation of a lengthy – 2 year consultation proc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conclusion: “action should be taken to eliminate the barri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mpact assessment substantially based on this working document is under preparation.</a:t>
            </a:r>
            <a:endParaRPr b="0" lang="en-US" sz="2800" spc="-1" strike="noStrike">
              <a:solidFill>
                <a:srgbClr val="ffffff"/>
              </a:solidFill>
              <a:latin typeface="Times New Roman"/>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91" name="" descr=""/>
          <p:cNvPicPr/>
          <p:nvPr/>
        </p:nvPicPr>
        <p:blipFill>
          <a:blip r:embed="rId2"/>
          <a:stretch/>
        </p:blipFill>
        <p:spPr>
          <a:xfrm>
            <a:off x="3657600" y="304920"/>
            <a:ext cx="1600200" cy="1506240"/>
          </a:xfrm>
          <a:prstGeom prst="rect">
            <a:avLst/>
          </a:prstGeom>
          <a:ln w="0">
            <a:noFill/>
          </a:ln>
        </p:spPr>
      </p:pic>
      <p:pic>
        <p:nvPicPr>
          <p:cNvPr id="92"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7" name="PlaceHolder 2"/>
          <p:cNvSpPr>
            <a:spLocks noGrp="1"/>
          </p:cNvSpPr>
          <p:nvPr>
            <p:ph/>
          </p:nvPr>
        </p:nvSpPr>
        <p:spPr>
          <a:xfrm>
            <a:off x="323640" y="1773000"/>
            <a:ext cx="8381880" cy="489564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dustry Code of Conduct in clearing and settlement (Nov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No 1329/2006 regarding the interpretation of IFRIC Nr. 8 and 9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on formation of PLLC’s and the maintenance and alteration of their capital</a:t>
            </a:r>
            <a:r>
              <a:rPr b="0" lang="en-US" sz="3200" spc="-1" strike="noStrike">
                <a:solidFill>
                  <a:srgbClr val="ffffff"/>
                </a:solidFill>
                <a:latin typeface="Times New Roman"/>
              </a:rPr>
              <a:t> (September 2006)</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9" name="PlaceHolder 2"/>
          <p:cNvSpPr>
            <a:spLocks noGrp="1"/>
          </p:cNvSpPr>
          <p:nvPr>
            <p:ph/>
          </p:nvPr>
        </p:nvSpPr>
        <p:spPr>
          <a:xfrm>
            <a:off x="250560" y="1915920"/>
            <a:ext cx="8381880" cy="388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vel 2 implementing measures to Third AML Directive (August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to tighten controls on money transfers (July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pital Requirements Directive</a:t>
            </a:r>
            <a:r>
              <a:rPr b="0" lang="en-US" sz="3200" spc="-1" strike="noStrike">
                <a:solidFill>
                  <a:srgbClr val="ffffff"/>
                </a:solidFill>
                <a:latin typeface="Times New Roman"/>
              </a:rPr>
              <a:t> (June 2006)</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 Industry Code of Conduct in clearing and settlemen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 name="PlaceHolder 2"/>
          <p:cNvSpPr>
            <a:spLocks noGrp="1"/>
          </p:cNvSpPr>
          <p:nvPr>
            <p:ph/>
          </p:nvPr>
        </p:nvSpPr>
        <p:spPr>
          <a:xfrm>
            <a:off x="755640" y="2205000"/>
            <a:ext cx="7632720" cy="39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Code of Conduct was signed by industry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asures detailed in the Code addres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in prices and service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and interoperabilit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bundling of services and accounting separation.</a:t>
            </a:r>
            <a:endParaRPr b="0" lang="en-US" sz="2800" spc="-1" strike="noStrike">
              <a:solidFill>
                <a:srgbClr val="ffffff"/>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 </a:t>
            </a:r>
            <a:r>
              <a:rPr b="1" i="1" lang="en-US" sz="4000" spc="-1" strike="noStrike">
                <a:solidFill>
                  <a:srgbClr val="ffff00"/>
                </a:solidFill>
                <a:latin typeface="Times New Roman"/>
              </a:rPr>
              <a:t>Regulation No 1329/2006 regarding the interpretation of IFRIC Nr. 8 and 9</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 name="PlaceHolder 2"/>
          <p:cNvSpPr>
            <a:spLocks noGrp="1"/>
          </p:cNvSpPr>
          <p:nvPr>
            <p:ph/>
          </p:nvPr>
        </p:nvSpPr>
        <p:spPr>
          <a:xfrm>
            <a:off x="755280" y="2637000"/>
            <a:ext cx="7993080" cy="34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gulation was adopted by the Commission on 8</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8 = scope for the International Report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IFRS) Nr.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9 = reassessment of Embedded Derivatives</a:t>
            </a:r>
            <a:endParaRPr b="0" lang="en-US" sz="2800" spc="-1" strike="noStrike">
              <a:solidFill>
                <a:srgbClr val="ffffff"/>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286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3. Directive to simplify the formation, maintenance and alteration of companies’ capit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5" name="PlaceHolder 2"/>
          <p:cNvSpPr>
            <a:spLocks noGrp="1"/>
          </p:cNvSpPr>
          <p:nvPr>
            <p:ph/>
          </p:nvPr>
        </p:nvSpPr>
        <p:spPr>
          <a:xfrm>
            <a:off x="324000" y="2707920"/>
            <a:ext cx="8353440" cy="352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Directive was adopted on 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make it easier to take certain measures affecting the size, structure and ownership of capital.</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mends parts of the 1976 Second Company Law Directive.</a:t>
            </a:r>
            <a:endParaRPr b="0" lang="en-US" sz="2800" spc="-1" strike="noStrike">
              <a:solidFill>
                <a:srgbClr val="ffffff"/>
              </a:solidFill>
              <a:latin typeface="Times New Roman"/>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4. ‘Level 2’ implementing measures to Third AML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323640" y="2060640"/>
            <a:ext cx="856908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echnical measures implementing the Directive were adopted by the Commission on 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finition of “Politically Exposed Pers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when customer due diligence may be simplifi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exclusion from scope of Directive certain persons/entities conducting very limited financial services.</a:t>
            </a:r>
            <a:endParaRPr b="0" lang="en-US" sz="2800" spc="-1" strike="noStrike">
              <a:solidFill>
                <a:srgbClr val="ffffff"/>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5. </a:t>
            </a:r>
            <a:r>
              <a:rPr b="1" i="1" lang="en-US" sz="4000" spc="-1" strike="noStrike">
                <a:solidFill>
                  <a:srgbClr val="ffff00"/>
                </a:solidFill>
                <a:latin typeface="Times New Roman"/>
              </a:rPr>
              <a:t>Regulation to tighten controls on money transf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23640" y="1915920"/>
            <a:ext cx="856908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Parliament gave assent to the proposed Regulation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ghtens controls on money transfers in order to cut off funding sources for terrorists and other criminal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that money transfers be accompanied by the identity of the send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uncil of Ministers is expected to vote on the regulation in due course.</a:t>
            </a:r>
            <a:endParaRPr b="0" lang="en-US" sz="2800" spc="-1" strike="noStrike">
              <a:solidFill>
                <a:srgbClr val="ffffff"/>
              </a:solidFill>
              <a:latin typeface="Times New Roman"/>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Kronbergs</cp:lastModifiedBy>
  <dcterms:modified xsi:type="dcterms:W3CDTF">2006-12-11T10:47:46Z</dcterms:modified>
  <cp:revision>660</cp:revision>
  <dc:subject/>
  <dc:title>PROPOSED AMENDMENTS AND LATEST CHANGES IN THE EU DIRECTIVES FOR THE FINANCIAL SECTOR </dc:title>
</cp:coreProperties>
</file>