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5C41-6111-4FE4-B42E-722B45636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42F1-A7F9-4ED1-B654-662EF1A8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227E-F4F8-4C54-8927-CAEF9BD0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6BB-6DBB-400D-902E-293D067A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EC5-3D07-4904-B57B-917E0BA6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DBF-ECA4-4711-8D3F-C3B51B8A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7D9-8A64-46EE-94BE-1B846990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92E-4D89-49D3-B75F-831D94F3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8EC-0956-42B9-9C96-EC74B814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B37-EE7B-4ADB-888A-743196D7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5DE-0EDF-46F3-BEB8-4FCEF6BF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69B-FABF-4E92-AC39-03B3610D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4470-CE4E-47AB-9830-3AD883E0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3C33-DF39-4D15-B0D1-7813DB09116F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66cc"/>
                </a:solidFill>
                <a:latin typeface="Times New Roman"/>
              </a:rPr>
              <a:t>Basel II: Latest developments and future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Presentation to the Associates Meetin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- Brussels, 7 December 200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verging supervisory pract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of banks’ liquidity manage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isis management arrang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nkruptcy &amp; winding u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61144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BBEB-317C-4718-85DA-F0A0C7CFF3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Wilfried Wilms, Senior Adviser (w.wilms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Uta Wassmuth, Adviser (u.wassmuth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00196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7A07-C59E-433E-A0A6-EDFE6D6765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Presentation 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EBF initiativ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arge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owards a new supervisory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2548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6B0-A9F5-4879-B096-91C2AF268A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apital Requirements Directive agreed in the EU in October 2005 and signed by the Council and Parliament in June 2006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ransposition into national legislation by the end of this yea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date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1 January 2007/ 1 January 2008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24360" y="3781440"/>
            <a:ext cx="237672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FA1-C489-4446-AB03-ED3359294B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 initiatives around Basel II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D Transposition Group: deals with issues of interpretation (Commission + Member Stat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EBF CRD Forum on the MemberNet: exchange of information and view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scussions in the Capital Adequacy Working Group, including the application of Pillar II and the home/host relationshi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operation and exchange of information in the IBFED Basel W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6E01-9093-463F-A62E-632B0DD0C6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Need for monitoring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“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Laundry List”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ational discre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of CEBS’ guidelines in practi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227400"/>
            <a:ext cx="5111640" cy="30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18B-E641-49E0-BCDE-638B374CDD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QIS 4 results: material decrease in capital and wide dispersion of resul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otice of proposed rulemaking on 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gap year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definitions and floors of EADs and LGD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ntragroup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Pillar II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everage ratio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1A to be released shortl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13557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314-4613-45C6-B27F-263DDECCD7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Going forward: Large Expo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Large Exposures: EU specific rule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Remained unchanged in the CR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mmission report by the end of 2007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ndustry view: far-reaching review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: some mitigating measures in the meant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4973-9EE5-4E58-9064-F545478D37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Towards a new supervisory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462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6C13-E895-4F3E-A9C1-FA95EB5347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urrent model to allocate supervisory responsibilities: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home country control (bank + its branch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+ consolidated supervision (banking group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ew model proposed by the industr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under the leadership of the home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o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(College of supervisors/ Operational Network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Mechanism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8F7D-1C5E-447A-AE48-B4B0CE857F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26:16Z</dcterms:created>
  <dc:creator>Wassmuth</dc:creator>
  <dc:description/>
  <dc:language>en-US</dc:language>
  <cp:lastModifiedBy>mumcum</cp:lastModifiedBy>
  <dcterms:modified xsi:type="dcterms:W3CDTF">2006-12-15T11:59:25Z</dcterms:modified>
  <cp:revision>16</cp:revision>
  <dc:subject/>
  <dc:title>Slide 1</dc:title>
</cp:coreProperties>
</file>