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6D50-26FF-4176-9B58-A9D326CF8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nerally in favour of a regulatory initiative seen as a means to further integrate the retail banking market of course under certain condition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we would also favor a targted full harmonisation, meaning that key elements of the regulation on consumer credits should be fully harmonised</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nerally in favour of a regulatory initiative seen as a means to further integrate the retail banking market of course under certain cond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would also favor a targted full harmonisation, meaning that key elements of the regulation on consumer credits should be fully harmoni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had and still have strong concerns on some provisions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cope : exclusion of all credits secured by a mortgage or an immovable properties, as well as other unsecrud home loans because they are different products – more long terms product (which are also funded throught LT instruments (with corresponding faciliti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overdrafs should also be excluded because appreciated by their simplicity and low costs (overdraft are also often not standalone products but rather integral to current accounts functionality – so even with a lighter/simplified regime would make them expensive and potentially unprofitable for lende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contrary to a broader approach/definition of the APRC that would include any kind of fees in connection with a credit agreement (cost of operating a bank account or the costs related to ancillary services (like insurance costs), we are supportive of a more narrow definition covering only the costs directly in connection with the credit agreement (also a key element that has to be fully harmonised) reasons : the purpose of the APRC is to compare product and because they are not part of the same product but additional servic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nked credit agreement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text stated that the lender should adhere to the principle of responsible lending by arguing that the lender is responsible for the consumer’s default because it failed to assess his credithworthiness adequately. We strongly oppose – even if the principle of begaving responsibly when lending money is not contested (and already applied and part of the risk management of a lender that should remain within the realm of prudential supervision) we think that it is inapropriate to give to this principle the connotation of a lgeal obligation which would imply a private law liability regime a give to consumers the possibility to claim for damages from the lender whenever the consumer can no longer pay back his lo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 also the fact that the lender should assist/advice by explaining him the specific effects (advantages &amp; disadvantages) on an consumer of a credit agreement. We are not against such a service but it has to be considered as an additional service per se and cannot be mandatory (impossible to apply in distance selling electronic media)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en credit agreement : the possibility to terminate them without notice (if not will be forced to set aside regulatory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ght of withdrawal : should be fully harmonised. Allowing diverging implementations would prevent the deveopment of the consumer credit market. As regard the duration of the withdrawal period we also deem it innapropriate to establish a 14 day period because the very nature of the consumer credit agreement and also we think that the consumer should have the possibility to waive this righ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arly repayment : The right to early repayment of the principal without any compelling reasons should only be granted to the consumer provided that the lender is fully compensated for the losses incurred for the early termination of the contra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1AD01-45C4-44D1-9D43-CC23BAAD6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DC62D-A025-4E1F-983D-301153C92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E21DD-570F-4C2B-B844-8A6C517C2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22048-BE0D-4207-B861-47D54C6A1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DD784-8F98-4587-896F-139A5E80B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F9F8A-41A1-4609-93A8-2F7751C42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875ED-9FFA-4927-A8C1-AF2C561FC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FB36D-7CB3-4205-AFC0-7FB4108A3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7A025-2EF0-4EF3-8C1A-250761CE3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0129A-10D9-4AAF-AD87-9BBA17715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D035C-5D19-4A38-AAA3-56D48B1D5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AC984-7ACF-4CCE-B03B-73A3B213E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2789-AF28-402F-8B41-2BFC477A0E01}"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2"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1999 Financial Services Action Plan</a:t>
            </a:r>
            <a:r>
              <a:rPr b="0" lang="nl-BE" sz="2800" spc="-1" strike="noStrike">
                <a:solidFill>
                  <a:srgbClr val="3f96ff"/>
                </a:solidFill>
                <a:latin typeface="Times New Roman"/>
              </a:rPr>
              <a:t> </a:t>
            </a:r>
            <a:r>
              <a:rPr b="0" i="1" lang="nl-BE" sz="2800" spc="-1" strike="noStrike">
                <a:solidFill>
                  <a:srgbClr val="3f96ff"/>
                </a:solidFill>
                <a:latin typeface="Times New Roman"/>
              </a:rPr>
              <a:t>(FSAP) with 42 measures to be adopted by 2005</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ain focus on wholesale sector</a:t>
            </a:r>
            <a:endParaRPr b="0" lang="en-US" sz="1800" spc="-1" strike="noStrike">
              <a:solidFill>
                <a:srgbClr val="0066cc"/>
              </a:solidFill>
              <a:latin typeface="Times New Roman"/>
            </a:endParaRPr>
          </a:p>
          <a:p>
            <a:pPr marL="361800" indent="-361800">
              <a:spcBef>
                <a:spcPts val="3501"/>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2005 Post-FSAP White Paper</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olicy period: 2005 – 2010</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Identified retail financial services as a whole for further initiatives (possibly legislative)</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B4315102-C1D5-4D1A-997D-7FDC06369659}"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4"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No BIG BANG approach</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Identification of limited n° of concrete projects</a:t>
            </a:r>
            <a:r>
              <a:rPr b="0" lang="nl-BE" sz="2800" spc="-1" strike="noStrike">
                <a:solidFill>
                  <a:srgbClr val="3f96ff"/>
                </a:solidFill>
                <a:latin typeface="Times New Roman"/>
              </a:rPr>
              <a:t>:</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ortgage credit</a:t>
            </a:r>
            <a:r>
              <a:rPr b="0" lang="nl-BE" sz="1800" spc="-1" strike="noStrike">
                <a:solidFill>
                  <a:srgbClr val="0066cc"/>
                </a:solidFill>
                <a:latin typeface="Times New Roman"/>
              </a:rPr>
              <a:t>	</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onsumer credit</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ayme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Bank accou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redit intermediaries</a:t>
            </a:r>
            <a:endParaRPr b="0" lang="en-US" sz="1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a:t>
            </a:r>
            <a:r>
              <a:rPr b="0" i="1" lang="nl-BE" sz="2800" spc="-1" strike="noStrike">
                <a:solidFill>
                  <a:srgbClr val="3f96ff"/>
                </a:solidFill>
                <a:latin typeface="Times New Roman"/>
              </a:rPr>
              <a:t>Better regulation” principles apply</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FBE supportive of greater integration</a:t>
            </a:r>
            <a:endParaRPr b="0" lang="en-US" sz="2800" spc="-1" strike="noStrike">
              <a:solidFill>
                <a:srgbClr val="0066cc"/>
              </a:solidFill>
              <a:latin typeface="Times New Roman"/>
            </a:endParaRPr>
          </a:p>
        </p:txBody>
      </p:sp>
      <p:sp>
        <p:nvSpPr>
          <p:cNvPr id="4" name="PlaceHolder 3"/>
          <p:cNvSpPr>
            <a:spLocks noGrp="1"/>
          </p:cNvSpPr>
          <p:nvPr>
            <p:ph type="sldNum" idx="3"/>
          </p:nvPr>
        </p:nvSpPr>
        <p:spPr/>
        <p:txBody>
          <a:bodyPr/>
          <a:p>
            <a:fld id="{E0B7392A-C016-4ABA-9DB6-1AF384F1C7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r>
              <a:rPr b="0" lang="en-GB" sz="2800" spc="-1" strike="noStrike">
                <a:solidFill>
                  <a:srgbClr val="0066cc"/>
                </a:solidFill>
                <a:latin typeface="Times New Roman"/>
              </a:rPr>
              <a:t>   </a:t>
            </a:r>
            <a:br>
              <a:rPr sz="2800"/>
            </a:br>
            <a:r>
              <a:rPr b="0" lang="en-GB" sz="2800" spc="-1" strike="noStrike">
                <a:solidFill>
                  <a:srgbClr val="0066cc"/>
                </a:solidFill>
                <a:latin typeface="Times New Roman"/>
              </a:rPr>
              <a:t>The legislative process</a:t>
            </a:r>
            <a:endParaRPr b="0" lang="en-US" sz="2800" spc="-1" strike="noStrike">
              <a:solidFill>
                <a:srgbClr val="000000"/>
              </a:solidFill>
              <a:latin typeface="Arial"/>
            </a:endParaRPr>
          </a:p>
        </p:txBody>
      </p:sp>
      <p:sp>
        <p:nvSpPr>
          <p:cNvPr id="5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61800" indent="0">
              <a:lnSpc>
                <a:spcPts val="22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Original Directive of December 1986. A Study of 1995 showed implementation in Member States at higher levels – original aim not achieved...</a:t>
            </a: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roposal for amendment of the 1986 Directive in Sept. 2002, </a:t>
            </a:r>
            <a:r>
              <a:rPr b="0" lang="en-US" sz="1800" spc="-1" strike="noStrike">
                <a:solidFill>
                  <a:srgbClr val="0066cc"/>
                </a:solidFill>
                <a:latin typeface="Times New Roman"/>
                <a:ea typeface="ＭＳ Ｐゴシック"/>
              </a:rPr>
              <a:t>followed by a first reading resolution by the EP in April 2004  </a:t>
            </a:r>
            <a:endParaRPr b="0" lang="en-US" sz="1800" spc="-1" strike="noStrike">
              <a:solidFill>
                <a:srgbClr val="0066cc"/>
              </a:solidFill>
              <a:latin typeface="Times New Roman"/>
            </a:endParaRPr>
          </a:p>
          <a:p>
            <a:pPr marL="361800" indent="-361800">
              <a:lnSpc>
                <a:spcPts val="29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In October 2005, new EC proposal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No impact assessment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mpetitiveness Council (May 2006) </a:t>
            </a: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deletion of the mutual recognition clause</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uncil WP &amp; Coreper meetings – various new proposals submitted : number of change proposed to meet concerns of the national delegations lowering the level of harmonisation   </a:t>
            </a: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a:t>
            </a:r>
            <a:r>
              <a:rPr b="0" lang="en-US" sz="1800" spc="-1" strike="noStrike">
                <a:solidFill>
                  <a:srgbClr val="0066cc"/>
                </a:solidFill>
                <a:latin typeface="Times New Roman"/>
                <a:ea typeface="ＭＳ Ｐゴシック"/>
              </a:rPr>
              <a:t>N</a:t>
            </a:r>
            <a:r>
              <a:rPr b="1" lang="en-US" sz="1800" spc="-1" strike="noStrike">
                <a:solidFill>
                  <a:srgbClr val="0066cc"/>
                </a:solidFill>
                <a:latin typeface="Times New Roman"/>
                <a:ea typeface="ＭＳ Ｐゴシック"/>
              </a:rPr>
              <a:t>o qualified majority to reach a political agreement</a:t>
            </a:r>
            <a:endParaRPr b="0" lang="en-US" sz="1800" spc="-1" strike="noStrike">
              <a:solidFill>
                <a:srgbClr val="0066cc"/>
              </a:solidFill>
              <a:latin typeface="Times New Roman"/>
            </a:endParaRPr>
          </a:p>
          <a:p>
            <a:pPr marL="36180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Progress Report in the Competitiveness Council on 4 December 2006</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DA8C483E-9CAF-4B55-A793-3AFB4FE084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Generally in favour of a legislative initiative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n impact assessment</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 full targeted harmonisation approach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Main concerns : </a:t>
            </a:r>
            <a:endParaRPr b="0" lang="en-US" sz="2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esponsible lending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APRC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ight of withdrawal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Scope – overdrafts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Linked credit agreement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Early repaymen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E2A5960A-4B8E-4004-9A65-5D606A192C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60"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fontScale="99000"/>
          </a:bodyPr>
          <a:p>
            <a:pPr marL="357840" indent="-35784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Main concerns : </a:t>
            </a:r>
            <a:endParaRPr b="0" lang="en-US" sz="1800" spc="-1" strike="noStrike">
              <a:solidFill>
                <a:srgbClr val="0066cc"/>
              </a:solidFill>
              <a:latin typeface="Times New Roman"/>
            </a:endParaRPr>
          </a:p>
          <a:p>
            <a:pPr marL="35784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esponsible lending</a:t>
            </a:r>
            <a:r>
              <a:rPr b="0" lang="en-US" sz="1800" spc="-1" strike="noStrike">
                <a:solidFill>
                  <a:srgbClr val="0066cc"/>
                </a:solidFill>
                <a:latin typeface="Times New Roman"/>
                <a:ea typeface="ＭＳ Ｐゴシック"/>
              </a:rPr>
              <a:t> : inappropriate to this principles the connotation of a legal obligation that would imply a private law liability regime  </a:t>
            </a:r>
            <a:endParaRPr b="0" lang="en-US" sz="1800" spc="-1" strike="noStrike">
              <a:solidFill>
                <a:srgbClr val="0066cc"/>
              </a:solidFill>
              <a:latin typeface="Times New Roman"/>
            </a:endParaRPr>
          </a:p>
          <a:p>
            <a:pPr lvl="1" marL="88956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ea typeface="ＭＳ Ｐゴシック"/>
              </a:rPr>
              <a:t>	</a:t>
            </a:r>
            <a:r>
              <a:rPr b="0" lang="nl-BE" sz="1800" spc="-1" strike="noStrike">
                <a:solidFill>
                  <a:srgbClr val="0066cc"/>
                </a:solidFill>
                <a:latin typeface="Times New Roman"/>
                <a:ea typeface="ＭＳ Ｐゴシック"/>
              </a:rPr>
              <a:t>+ no mandatory duty to advice/assist</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APRC </a:t>
            </a:r>
            <a:r>
              <a:rPr b="0" lang="en-US" sz="1800" spc="-1" strike="noStrike">
                <a:solidFill>
                  <a:srgbClr val="0066cc"/>
                </a:solidFill>
                <a:latin typeface="Times New Roman"/>
                <a:ea typeface="ＭＳ Ｐゴシック"/>
              </a:rPr>
              <a:t>: supportive of a narrow definition covering only the costs directly in connection with the credit agreement (and not other fees or ancillary cos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ight of withdrawal</a:t>
            </a:r>
            <a:r>
              <a:rPr b="0" lang="en-US" sz="1800" spc="-1" strike="noStrike">
                <a:solidFill>
                  <a:srgbClr val="0066cc"/>
                </a:solidFill>
                <a:latin typeface="Times New Roman"/>
                <a:ea typeface="ＭＳ Ｐゴシック"/>
              </a:rPr>
              <a:t> : appropriate duration should 7 days (and not 14 days). Consumers should have the possibility to waive this righ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Scope – overdrafts</a:t>
            </a:r>
            <a:r>
              <a:rPr b="0" lang="en-US" sz="1800" spc="-1" strike="noStrike">
                <a:solidFill>
                  <a:srgbClr val="0066cc"/>
                </a:solidFill>
                <a:latin typeface="Times New Roman"/>
                <a:ea typeface="ＭＳ Ｐゴシック"/>
              </a:rPr>
              <a:t> : exclusion of overdrafts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Linked credit agreement</a:t>
            </a:r>
            <a:r>
              <a:rPr b="0" lang="en-US" sz="1800" spc="-1" strike="noStrike">
                <a:solidFill>
                  <a:srgbClr val="0066cc"/>
                </a:solidFill>
                <a:latin typeface="Times New Roman"/>
                <a:ea typeface="ＭＳ Ｐゴシック"/>
              </a:rPr>
              <a:t> : (when the consumer has the right to withdraw from the purchase agreement, he also has the right to withdraw from the linked agreement). Only if neither of the 2 contracts would have been concluded without the other and each achieves its purpose only with the conclusion of the other contract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Early repayment</a:t>
            </a:r>
            <a:r>
              <a:rPr b="0" lang="en-US" sz="1800" spc="-1" strike="noStrike">
                <a:solidFill>
                  <a:srgbClr val="0066cc"/>
                </a:solidFill>
                <a:latin typeface="Times New Roman"/>
                <a:ea typeface="ＭＳ Ｐゴシック"/>
              </a:rPr>
              <a:t> : only be granted to the consumer provided that the lender is fully compensated for the losses incurred for the early termination of the contrac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D45A8DA0-258C-4159-BCDB-55864FC93318}"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18:18:53Z</dcterms:created>
  <dc:creator>deBrouwer</dc:creator>
  <dc:description/>
  <dc:language>en-US</dc:language>
  <cp:lastModifiedBy>mumcum</cp:lastModifiedBy>
  <dcterms:modified xsi:type="dcterms:W3CDTF">2006-12-15T12:04:01Z</dcterms:modified>
  <cp:revision>20</cp:revision>
  <dc:subject/>
  <dc:title>Slide 1</dc:title>
</cp:coreProperties>
</file>