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3FC8-4A2C-4A21-A777-ED376A53E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BD5E-1039-49C9-B0A6-DF70C344C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B6C6-1A98-4CF6-83F3-4910BF9C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5298-600C-4BF2-AC4A-2BD2D768E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CBFF-CDFB-4212-942A-B0770782D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AADD-D29F-474C-B75A-F60C8A06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9B8B-C4C4-4BAE-BE57-E89261DC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D267-71A1-46DE-A918-DECACDD0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772F-F29A-4232-BA16-AA500876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1A85-1467-4427-BDCF-1D41BBEA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4BFF-F7AD-448C-BA0B-944A718B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DA05-1D2A-4E17-BB55-AFC6CF76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2AFE-0CBA-4C55-8B8F-8D38875D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96F8-DF9C-40A1-85F7-97BB679FD521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66cc"/>
                </a:solidFill>
                <a:latin typeface="Times New Roman"/>
              </a:rPr>
              <a:t>Basel II: Latest developments and future persp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Presentation to the Associates Meeting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- Brussels, 7 December 2006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Obstac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Diverging supervisory pract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Supervision of banks’ liquidity managemen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risis management arrangemen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Deposit Guarantee Schem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Bankruptcy &amp; winding up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796000" y="3429000"/>
            <a:ext cx="261144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F58B-4641-46E2-BE8A-75A0FBC0B5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Conta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Wilfried Wilms, Senior Adviser (w.wilms@ebf-fbe.eu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Uta Wassmuth, Adviser (u.wassmuth@ebf-fbe.eu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156360" y="1557360"/>
            <a:ext cx="2001960" cy="20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9513-A4CD-4B2A-BDC5-426C1857A8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Presentation Out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Basel II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Implementation in the EU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EBF initiativ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Ongoing debate in the U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Large Exposur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Towards a new supervisory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architectur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Consolidated supervisor concept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Obstacl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3068640"/>
            <a:ext cx="2548080" cy="254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E4A1-951A-4995-93E6-F9B895DBDD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Implementation in the E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apital Requirements Directive agreed in the EU in October 2005 and signed by the Council and Parliament in June 2006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Transposition into national legislation by the end of this yea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Implementation date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1 January 2007/ 1 January 2008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724360" y="3781440"/>
            <a:ext cx="2376720" cy="209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33C2-A1FF-4803-B3E9-896FDF87B7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EBF initiatives around Basel II implem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RD Transposition Group: deals with issues of interpretation (Commission + Member State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EBF CRD Forum on the MemberNet: exchange of information and view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Discussions in the Capital Adequacy Working Group, including the application of Pillar II and the home/host relationship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ooperation and exchange of information in the IBFED Basel WG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5D1F-E3ED-425B-ACB7-E8C89987DF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Need for monitoring and re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“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Laundry List”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National discreti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Implementation of CEBS’ guidelines in practic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76720" y="3227400"/>
            <a:ext cx="5111640" cy="300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6318-B7F9-4CC6-9703-C8D819FE89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Ongoing debate in the 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1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QIS 4 results: material decrease in capital and wide dispersion of resul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21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Notice of proposed rulemaking on Basel II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gap year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definitions and floors of EADs and LGD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intragroup exposur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Pillar II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leverage ratio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21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Basel 1A to be released shortl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867280" y="3716280"/>
            <a:ext cx="1355760" cy="180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B53A-1D86-4BF7-9C7E-789A52EFED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Going forward: Large Expos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Large Exposures: EU specific rules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Remained unchanged in the CRD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Commission report by the end of 2007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Industry view: far-reaching review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EBF: some mitigating measures in the meantim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CAEC-69E5-444C-AEB9-FD3B393B55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Towards a new supervisory archite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onsolidated supervisor concep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Obstacl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932360" y="2276640"/>
            <a:ext cx="2546280" cy="338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A431-B246-4C27-BAA3-A28C5B5923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Consolidated supervisor conce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urrent model to allocate supervisory responsibilities: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home country control (bank + its branche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+ consolidated supervision (banking group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New model proposed by the industry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supervision under the leadership of the home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superviso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(College of supervisors/ Operational Network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Mechanism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E778-27D6-49A4-A2EF-E74E22785E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09:26:16Z</dcterms:created>
  <dc:creator>Wassmuth</dc:creator>
  <dc:description/>
  <dc:language>en-US</dc:language>
  <cp:lastModifiedBy>mumcum</cp:lastModifiedBy>
  <dcterms:modified xsi:type="dcterms:W3CDTF">2006-12-15T11:59:25Z</dcterms:modified>
  <cp:revision>16</cp:revision>
  <dc:subject/>
  <dc:title>Slide 1</dc:title>
</cp:coreProperties>
</file>