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6E9D-5BB7-45CC-B26A-E233D796E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C7C-2CC3-46E0-BCD1-6EFB87CA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D3F-1181-4D65-9318-E3F17334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431-28F9-40A2-804F-623919FC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A44D-B928-4CC8-985B-209BF12F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0FC-9561-4589-97B7-935B3C1D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1B6-8265-4B09-9304-76BD7980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F78C-C3BE-46B8-813A-BFCE99A6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C807-C0A2-44EA-8F9B-B490D327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F121-5BD4-4FB7-9EA8-3B2845AB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B3C-C6B7-4A02-A09B-07B9784D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FFD-F4CE-461B-98E7-D946A27D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AADC-602E-45BA-B030-359BA5E0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6269-DA0D-4879-987F-3D5093E46B67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66cc"/>
                </a:solidFill>
                <a:latin typeface="Times New Roman"/>
              </a:rPr>
              <a:t>Basel II: Latest developments and future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Presentation to the Associates Meetin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- Brussels, 7 December 200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verging supervisory pract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of banks’ liquidity manage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isis management arrang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nkruptcy &amp; winding u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61144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2819-1DC8-4BE0-B709-61CC2C78F4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Wilfried Wilms, Senior Adviser (w.wilms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Uta Wassmuth, Adviser (u.wassmuth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00196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81E3-C3CC-4367-AB54-7A8432C445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Presentation 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EBF initiativ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arge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owards a new supervisory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2548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AED0-0353-4D45-BDC2-9AFF82010D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apital Requirements Directive agreed in the EU in October 2005 and signed by the Council and Parliament in June 2006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ransposition into national legislation by the end of this yea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date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1 January 2007/ 1 January 2008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24360" y="3781440"/>
            <a:ext cx="237672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B526-B8D0-4227-999C-7703B2B4B1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 initiatives around Basel II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D Transposition Group: deals with issues of interpretation (Commission + Member Stat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EBF CRD Forum on the MemberNet: exchange of information and view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scussions in the Capital Adequacy Working Group, including the application of Pillar II and the home/host relationshi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operation and exchange of information in the IBFED Basel W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C37-D54F-42C4-ADAB-633967A138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Need for monitoring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“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Laundry List”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ational discre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of CEBS’ guidelines in practi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27400"/>
            <a:ext cx="5111640" cy="30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9288-BB9D-421E-8503-E17024AD24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QIS 4 results: material decrease in capital and wide dispersion of resul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otice of proposed rulemaking on 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gap year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definitions and floors of EADs and LGD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ntragroup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Pillar II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everage ratio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1A to be released shortl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13557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AB15-F58C-4A9E-BDCB-788052DC26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Going forward: Large Expo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Large Exposures: EU specific rule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Remained unchanged in the CR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mmission report by the end of 2007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ndustry view: far-reaching review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: some mitigating measures in the meant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2727-6768-45E6-B82F-463D70A10C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Towards a new supervisory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462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679-2196-4D62-9171-C04D1F0CB1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urrent model to allocate supervisory responsibilities: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home country control (bank + its branch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+ consolidated supervision (banking group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ew model proposed by the industr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under the leadership of the home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o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(College of supervisors/ Operational Network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Mechanism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E14B-D73D-4570-A0AE-7B5FA65FD5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26:16Z</dcterms:created>
  <dc:creator>Wassmuth</dc:creator>
  <dc:description/>
  <dc:language>en-US</dc:language>
  <cp:lastModifiedBy>mumcum</cp:lastModifiedBy>
  <dcterms:modified xsi:type="dcterms:W3CDTF">2006-12-15T11:59:25Z</dcterms:modified>
  <cp:revision>16</cp:revision>
  <dc:subject/>
  <dc:title>Slide 1</dc:title>
</cp:coreProperties>
</file>