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BD98-A958-4255-BCFC-1DB9AC5C9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2E2-29EA-4270-AC82-835C6C17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689D-AA55-4688-8BE2-55649616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69B8-466E-4BE9-AE35-F93F7E45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4F7-F125-4455-B876-62CBFCDC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7CF-1329-41BB-A7FC-5573F9D7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160F-861A-4DCE-BC69-B148390B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607-7866-42A6-9DED-268290A0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FE3-A184-47E2-8B38-BE03B9F5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18F3-CDDF-44CE-A867-CCE339A0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DBAB-6429-4BD5-A623-0728C3FD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B08-2818-48EA-A89E-A0A9B33C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9FEA-C5F2-4F79-9894-9541EF45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B726-CE3F-46A8-84C1-6DDCD52F84E0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66cc"/>
                </a:solidFill>
                <a:latin typeface="Times New Roman"/>
              </a:rPr>
              <a:t>Basel II: Latest developments and future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Presentation to the Associates Meetin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- Brussels, 7 December 200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verging supervisory pract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of banks’ liquidity manage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isis management arrang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nkruptcy &amp; winding u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61144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E49F-D848-4870-82A9-C3DDB60A22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Wilfried Wilms, Senior Adviser (w.wilms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Uta Wassmuth, Adviser (u.wassmuth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00196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8329-792F-4BCC-8932-75959B10DF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Presentation 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EBF initiativ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arge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owards a new supervisory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2548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7B8-F9C7-49A1-8C53-57E6809BB1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apital Requirements Directive agreed in the EU in October 2005 and signed by the Council and Parliament in June 2006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ransposition into national legislation by the end of this yea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date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1 January 2007/ 1 January 2008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24360" y="3781440"/>
            <a:ext cx="237672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793-C294-4009-BB7E-104D5FD59A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 initiatives around Basel II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D Transposition Group: deals with issues of interpretation (Commission + Member Stat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EBF CRD Forum on the MemberNet: exchange of information and view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scussions in the Capital Adequacy Working Group, including the application of Pillar II and the home/host relationshi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operation and exchange of information in the IBFED Basel W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77A-999C-41A1-8C65-3EFC5CF8E8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Need for monitoring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“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Laundry List”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ational discre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of CEBS’ guidelines in practi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227400"/>
            <a:ext cx="5111640" cy="30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A5A-18FC-4A0E-9900-39961EF488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QIS 4 results: material decrease in capital and wide dispersion of resul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otice of proposed rulemaking on 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gap year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definitions and floors of EADs and LGD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ntragroup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Pillar II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everage ratio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1A to be released shortl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13557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434-AEEB-4018-9DA6-AC1DEE5EF8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Going forward: Large Expo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Large Exposures: EU specific rule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Remained unchanged in the CR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mmission report by the end of 2007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ndustry view: far-reaching review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: some mitigating measures in the meant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78DB-3EE7-4A82-AF19-0A820BAEAC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Towards a new supervisory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462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F02E-BB69-48E7-8019-EDD1688190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urrent model to allocate supervisory responsibilities: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home country control (bank + its branch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+ consolidated supervision (banking group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ew model proposed by the industr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under the leadership of the home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o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(College of supervisors/ Operational Network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Mechanism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EDD9-8416-4927-91EE-D71992B548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26:16Z</dcterms:created>
  <dc:creator>Wassmuth</dc:creator>
  <dc:description/>
  <dc:language>en-US</dc:language>
  <cp:lastModifiedBy>mumcum</cp:lastModifiedBy>
  <dcterms:modified xsi:type="dcterms:W3CDTF">2006-12-15T11:59:25Z</dcterms:modified>
  <cp:revision>16</cp:revision>
  <dc:subject/>
  <dc:title>Slide 1</dc:title>
</cp:coreProperties>
</file>