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606-4AD5-475B-8072-C84BF1BE2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1CE7A-BF54-4943-BFD1-C2A6E31A1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00472-B94D-417F-90F4-F6D8C7023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B5A6-E1AF-4535-BF34-B254513CE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B3B90-BFCA-4F11-8F8A-2F4B6C59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3C35-5574-4C6A-8942-D613DC187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577BD-2847-498E-A33A-B24C753C9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FDFC8-20C7-4223-8AD3-05573CEDC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0556F-44D4-4518-B4B9-D7C7389DA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F10E-A475-43C5-AEDC-4FF64E67D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A6B5-B851-44CC-AC6B-0C04C3279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8DF3A-C281-4831-931B-81323C50A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CBA65-D646-448C-8858-FCB5D0890A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BE" sz="2800" spc="-1" strike="noStrike">
                <a:solidFill>
                  <a:srgbClr val="ffff00"/>
                </a:solidFill>
                <a:latin typeface="Arial"/>
                <a:ea typeface="Times New Roman"/>
              </a:rPr>
              <a:t>*</a:t>
            </a:r>
            <a:br>
              <a:rPr sz="2800"/>
            </a:br>
            <a:r>
              <a:rPr b="1" i="1" lang="en-GB" sz="4400" spc="-1" strike="noStrike">
                <a:solidFill>
                  <a:srgbClr val="ffff00"/>
                </a:solidFill>
                <a:latin typeface="Arial"/>
                <a:ea typeface="Times New Roman"/>
              </a:rPr>
              <a:t>Latest developments in EU legislation concerning the financial services area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br>
              <a:rPr sz="44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10th edition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*</a:t>
            </a:r>
            <a:br>
              <a:rPr sz="2800"/>
            </a:br>
            <a:r>
              <a:rPr b="0" lang="en-GB" sz="2800" spc="-1" strike="noStrike">
                <a:solidFill>
                  <a:srgbClr val="ffff00"/>
                </a:solidFill>
                <a:latin typeface="Times New Roman"/>
              </a:rPr>
              <a:t>Brussels, 8 December 2005</a:t>
            </a:r>
            <a:endParaRPr b="0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157640" y="311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733920" y="76320"/>
            <a:ext cx="1752480" cy="1349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514600" y="1447920"/>
            <a:ext cx="4191120" cy="48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Arial"/>
                <a:ea typeface="Arial"/>
              </a:rPr>
              <a:t>FEDERATION BANCAIRE DE L’UNION EUROPEENN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BANKING FEDERATION OF THE EUROPEAN UNION</a:t>
            </a:r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Capital Requirement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RD consisting of 2 Directives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ill introduce a state of the art supervisory framework in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flects the BASEL II rules on capital measurement and capital standards agreed at the G-10 level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ember States will have to apply the Directive from the start of 2007, for most sophisticated approaches from 2008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th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Company Law Directive on statutory audit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94920" y="2133720"/>
            <a:ext cx="8458200" cy="40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Also this Directive was adopted by ECOFIN Council on 1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Aiming at reinforcing and harmonising the statutory audit function throughout the EU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ets out principles for public supervision in Member Stat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quires application of the IAS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se measures should help to restore faith in the profession and its independen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Anti-Money Laundering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45820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is third AML Directive was adopted on 7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applies to the financial and other key services sectors and it also covers all providers of goods, when payments are made in cash in excess of 15,000 Euro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ose subject to the Directive need to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identify and verify the identity of their custom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report suspicions of ML and terrorist financing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take various supporting measure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rective has to be implemented within 2 years – by the end of 2007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80769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Recent proposal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11280" y="2133720"/>
            <a:ext cx="8076960" cy="39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on New Legal Framework for payments market (Dec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ulation on information on the payer accompanying transfers of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ive extending MiFiD transposition (June 200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5. New Legal Framework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for a Directive was presented by the European Commission on 1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w Directive once adopted sh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ke cross-border payments as easy, cheap and secure as domestic pay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uarantee fair and open access to payments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rease and standardise consumer protec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6.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to tighten controls of money transfe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6 July 2005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better traceability of money transfer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quire that money transfers be accompanied by  the identity of the sende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nsure that this information will be immediately available to the appropriate law enforcement authoriti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28600"/>
            <a:ext cx="7416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000" spc="-1" strike="noStrike">
                <a:solidFill>
                  <a:srgbClr val="ffff00"/>
                </a:solidFill>
                <a:latin typeface="Times New Roman"/>
              </a:rPr>
              <a:t>7. </a:t>
            </a:r>
            <a:r>
              <a:rPr b="1" lang="en-GB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rective extending MiFiD transposition</a:t>
            </a:r>
            <a:r>
              <a:rPr b="0" lang="en-GB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proposal was presented by the European Commission on 20 June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proposal, once adopted, would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extend the MiFiD transposition deadline by 6 month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ive firms and markets another 6 months to adapt their structures and procedure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n parallel consultations on different MiFiD implementing legislation are constantly going 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zoom dir="in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8036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Evaluation of the FSAP, part I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ossible implementing measures to Transparency Directive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Regulation on Cross-border payments in euros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39280" y="1628640"/>
            <a:ext cx="8209080" cy="48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ertain Money-Laundering obligations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orking document in relation to AML Directive (Sept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Mortgage Credit in EU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Consultation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413000"/>
            <a:ext cx="83534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ramework for Investment Funds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the Deposit Guarantee Schemes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view of E-Money Directive (Jul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reen Paper on EU Financial services policy for the next 5 years (May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zoom dir="in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50920" y="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8. Evaluation of the FSAP, part I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24000" y="1341360"/>
            <a:ext cx="835344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part I of its FSAP evaluation on 7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irst step of an exhaustive analysis of the impact of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Focus on the process of adoption of the measures put forward in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Views on the general perception of the FSAP process; on consultation and Lamfalussy process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eadline for comments is set at 31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9. Implementing measures to Transparency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4920" y="1844640"/>
            <a:ext cx="8497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published their working document on possible implementing measures in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: draft legal text containing possible implementing measures to the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art II: draft recommendation on the use of standard forms for the purpose of notifying acquisition or disposal of major holding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8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50920" y="22860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0. Regulation on Cross-border payments in euro</a:t>
            </a: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844640"/>
            <a:ext cx="835344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mmission has launched a consultation on the review of the Regulation on 19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utlines information gathered to date by the Commission servic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ffers stakeholders the opportunity to comment on the key issu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raft Evaluation report expected to be released in H1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1. Certain AML obligations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560" y="1773000"/>
            <a:ext cx="856908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by the Commission on 25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ines AML obligations in two area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non-face to face transaction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electronic commerc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is set at 16 Jan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2. Working document in relation to AML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23640" y="1773000"/>
            <a:ext cx="835164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was launched on 12 Sept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Relates to Chapter VI of Directive: adoption of implementing measure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roposes to prioritise the subjects. Priorities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simplified customer due diligenc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- politically Exposed Persons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21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3. Green Paper on mortgage Credit in the EU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95280" y="1773000"/>
            <a:ext cx="835344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GB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consultation on action in the EU mortgage market was launched on 19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Green Paper provides EC initial views on the recommendations of the Mortgage Credit Working Grou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examines the case for Commission action in EU mortgage credit market (Whether and how?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G Markt hosted a public hearing yesterday (7 December 2005) on the conclusions of consultation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ffffff"/>
                </a:solidFill>
                <a:latin typeface="Times New Roman"/>
              </a:rPr>
              <a:t>Deadline for responses was set at 30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50920" y="11592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4. Green Paper on EU framework for Investment Fund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35344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the enhancement of the EU framework for investment funds was launched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reen Paper reviews the functioning of the legislative framework provided for by the UCITS Directive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vites consideration and comment on wide range of proposals aimed at boosting efficiency of the single market for investment fund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eadline for responses was set at 15 November 2005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5. The Deposit Guarantee Schemes Directive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4000" y="1844280"/>
            <a:ext cx="86407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 and it lasted until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llow-up communication is expected by mid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port on minimum guarantee level of Deposit Guarantee Schemes of 20,000 euros was opened later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for this consultation is set at 15 February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6. The E-Money Directive</a:t>
            </a: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35344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 on review of this Directive was launched also on 14 Jul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eed to reassess whether the legal framework is still in tune with modern market developmen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dependent study carried out by consultants is going to be commissioned by the EC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C is intended to come forward with a follow-up report containing recommendations by spring 2006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4 Octo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50920" y="260280"/>
            <a:ext cx="8424720" cy="14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17. Green paper on EU Financial services policy for the next 5 years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71200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Green Paper was published by the EC on 3 Ma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aunched ideas to further integrate EU financial marke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cused primarily on implementing existing rules agreed under the FSAP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plored ways of improving cross-border access to retail financial services and asset management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Deadline for responses was set at 1 August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financial services policy programme should be published by mid Dec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blinds dir="vert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09480" y="2438280"/>
            <a:ext cx="777240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Thank you for your attention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3657600" y="304920"/>
            <a:ext cx="1600200" cy="15062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3886200" y="5257800"/>
            <a:ext cx="1157400" cy="129528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</a:rPr>
              <a:t>17 most recent issu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2590920"/>
            <a:ext cx="80773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Adopted measure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4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Recent proposal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3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Consultation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(-10-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ffff00"/>
                </a:solidFill>
                <a:uFillTx/>
                <a:latin typeface="Times New Roman"/>
              </a:rPr>
              <a:t>Adopted measur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8188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egulation endorsing the IAS 39 Fair Value Option (Novem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apital Requirements Directive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8</a:t>
            </a:r>
            <a:r>
              <a:rPr b="0" lang="en-US" sz="3600" spc="-1" strike="noStrike" baseline="30000">
                <a:solidFill>
                  <a:srgbClr val="ffffff"/>
                </a:solidFill>
                <a:latin typeface="Times New Roman"/>
              </a:rPr>
              <a:t>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ompany Law Directive on statutory audit (October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nti-Money Laundering Directive (June 200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</a:t>
            </a:r>
            <a:r>
              <a:rPr b="1" i="1" lang="en-US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Regulation endorsing the IAS 39 Fair Value option</a:t>
            </a:r>
            <a:r>
              <a:rPr b="0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94920" y="1988640"/>
            <a:ext cx="8458200" cy="44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Times New Roman"/>
              </a:rPr>
              <a:t>The Regulation was adopted on 15 November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t endorses the IAS 39 on financial instruments: Recognition and Measurement, the Fair Value Option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gally binding retroactively: as of 1 January 2005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AS 39 was adopted already in November 2004, but had two carve-outs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dge accounting carve-out still remain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3T11:39:59Z</dcterms:created>
  <dc:creator>Fédération Bancaire</dc:creator>
  <dc:description/>
  <dc:language>en-US</dc:language>
  <cp:lastModifiedBy>AlparslanM</cp:lastModifiedBy>
  <dcterms:modified xsi:type="dcterms:W3CDTF">2005-12-05T14:42:44Z</dcterms:modified>
  <cp:revision>569</cp:revision>
  <dc:subject/>
  <dc:title>PROPOSED AMENDMENTS AND LATEST CHANGES IN THE EU DIRECTIVES FOR THE FINANCIAL SECTOR </dc:title>
</cp:coreProperties>
</file>