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CE00-CDCD-4323-BE74-59566675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A042-91C3-4BF0-AC7E-9CD98A3B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E434-55AA-4B40-9B4E-AA7BA219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3DF9-3919-41F1-8303-BDB12BAF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65C6-B466-4505-9D05-A6A10F93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47A4-F0B0-4549-82E7-D21B16B9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62F6-3D6D-47E8-A5DC-03C029BA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A125-EADF-4B52-B0A2-898E89C7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6928-B6DF-44E4-B339-F0A86362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BA43-BEC4-45DA-8CBE-1FF79E1C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9BA6-BBD8-4171-B0E2-B4375E3B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704A-5B9C-42DA-B628-0084E755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1F9E-1E4F-407D-8CB2-41AC64A9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F66C-D706-42ED-8F97-4BEB258B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3655-CF2B-45EA-8270-7139984D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047F-555B-462E-B935-3BEB0D9C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6293-C76B-44E2-AE08-CC1DFA83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30F9-7618-41DC-BDFD-9237F0CB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9393-D207-41F3-AB1F-A16AE31C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5FD8-3998-4592-BD79-69667EE2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0507-1293-4E81-9ADC-1F3B2C59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F951-F452-4D01-9021-C43EE6D8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E4F9-14BE-425B-9D07-1D77AB4D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5C21-7D97-4B23-BFBE-35AEA930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070C-CBD7-43F8-A188-B2CB6BF5C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E118-1E27-4688-9386-1946DB09B0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LARGEMENT OF THE EUROZONE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allenges ahead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History of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0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1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complete liberalization of capital movemen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4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2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achieving convergence targ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9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launch of the euro on financial mark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2002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b: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 introduction of euro notes and coins in 12 EMU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New EU Member States and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U enlargement on 1 May 2004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No opt-outs for new Member Sta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Treaty =&gt; straight into stage 3 of the EMU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Further step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136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oining the ERM 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Maastricht convergence criteri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procedu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doption of the Euro and introduction of Euro notes and coi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entative time-tab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the Maastricht criteria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price stability (inflation, &gt;2.2% for 2004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long-term interest rates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budget deficit ( 3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total government debt (60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stability in the exchange r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 - 2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al preparations for introduction of Euro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conomic and monetary policy challeng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arning from experiences of the Euro-zone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Questions for discussion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844640"/>
            <a:ext cx="82818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potential entrants to the Euro Zon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n is your country planning to join the Euro Z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are the main challenges your country may 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ticular questions to existing Euro Zone Member Sta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existing Euro Zone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challenges in your count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lessons lear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as the impact the adoption of Euro has had on a country’s economy and on the lives of ordinary citiz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4:13Z</dcterms:modified>
  <cp:revision>60</cp:revision>
  <dc:subject/>
  <dc:title> CAPITAL REQUIREMENTS DIRECTIVE: OPPORTUNITIES AND CHALLENGES</dc:title>
</cp:coreProperties>
</file>