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A749D-D30E-469B-837C-BEA576A68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360" y="417312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E0FC6-3250-4F10-8758-03FB4A67F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836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540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47D39-E95B-4E96-A1D2-935AD44E1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50800" y="19159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33240" y="19159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360" y="41731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50800" y="41731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33240" y="41731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3AA49-CFBB-4F90-8F57-CED076658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F2545-AB1B-409B-AAA0-A324F72C5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6DE0A-0B5D-4E74-AA1B-2B7AF7DA3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ED24F-6251-4B0C-8E89-AD04ECA40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04BFD-E1A7-40F2-B282-DCF1CFCE3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EF619-0C4E-492D-9060-61267DF6B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68360" y="836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B8D64-33D7-4568-8F33-703C7458E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836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4B445-C1A7-43DD-ADA2-47DF37D45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BB199-156D-4401-B916-C0C2E934A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8540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30F56-0CC0-4145-A019-453A20AA9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8360" y="417312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C93B5-D865-4C8B-A1B8-E19A66C75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8360" y="417312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7E94B-6D64-4387-B606-767F1778B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836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8540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69437-6576-4C1B-9FE3-F9BCFB3F6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50800" y="19159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33240" y="19159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8360" y="41731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50800" y="41731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33240" y="41731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E6834-3880-4375-A631-CA9E3EC15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B48F7-C423-41FF-8811-A0D23F13B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E84C2-8070-48AB-9F4C-1C20D07A7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E8760-F528-4572-83EA-87F7FC153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68360" y="836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05506-8DF4-4C67-9B00-084A45CB9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36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D5B97-A071-4413-9043-ED38FA2F1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540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B6E72-C279-4B0F-A4A0-89A7CFA89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8360" y="417312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52FF5-5407-4AE7-8DC7-7094E6705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2F5A5-57B1-41EC-9031-4B5A4F44B6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772400" y="5943600"/>
            <a:ext cx="714240" cy="542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3708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 u="sng">
                <a:solidFill>
                  <a:srgbClr val="000099"/>
                </a:solidFill>
                <a:uFillTx/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99"/>
                </a:solidFill>
                <a:uFillTx/>
                <a:latin typeface="Times New Roman"/>
              </a:rPr>
              <a:t>&lt;footer&gt;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Times New Roman"/>
              </a:rPr>
              <a:t>www.fbe.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C25D2-3686-4214-BFB9-C1E6CB93162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-171360"/>
            <a:ext cx="9144000" cy="83664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692280"/>
            <a:ext cx="9144000" cy="0"/>
          </a:xfrm>
          <a:prstGeom prst="line">
            <a:avLst/>
          </a:prstGeom>
          <a:ln w="507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8101080" y="-100080"/>
            <a:ext cx="885600" cy="6382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4920" y="0"/>
            <a:ext cx="432108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ffffff"/>
                </a:solidFill>
                <a:latin typeface="Century Gothic"/>
              </a:rPr>
              <a:t>European Banking Federa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ffffff"/>
                </a:solidFill>
                <a:latin typeface="Century Gothic"/>
              </a:rPr>
              <a:t>Fédération bancaire européenn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6308640"/>
            <a:ext cx="9144000" cy="0"/>
          </a:xfrm>
          <a:prstGeom prst="line">
            <a:avLst/>
          </a:prstGeom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315280" y="6093000"/>
            <a:ext cx="144360" cy="1443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8604360" y="6093000"/>
            <a:ext cx="144360" cy="1443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8891640" y="6093000"/>
            <a:ext cx="144360" cy="1443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4360" y="1341360"/>
            <a:ext cx="777240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AN-EUROPEAN PENSIONS 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&amp; 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26</a:t>
            </a:r>
            <a:r>
              <a:rPr b="1" lang="en-US" sz="3200" spc="-1" strike="noStrike" baseline="30000">
                <a:solidFill>
                  <a:srgbClr val="000099"/>
                </a:solidFill>
                <a:latin typeface="Arial"/>
              </a:rPr>
              <a:t>TH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 REGIME  </a:t>
            </a:r>
            <a:br>
              <a:rPr sz="3200"/>
            </a:b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971640" y="3212640"/>
            <a:ext cx="76816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20</a:t>
            </a:r>
            <a:r>
              <a:rPr b="1" lang="en-GB" sz="2400" spc="-1" strike="noStrike" baseline="30000">
                <a:solidFill>
                  <a:srgbClr val="000099"/>
                </a:solidFill>
                <a:latin typeface="Arial"/>
              </a:rPr>
              <a:t>th</a:t>
            </a: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 MEETING OF THE ASSOCIATE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BUDAPEST, 12 MAY 2005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99"/>
                </a:solidFill>
                <a:latin typeface="Arial"/>
              </a:rPr>
              <a:t>THE 26</a:t>
            </a:r>
            <a:r>
              <a:rPr b="1" lang="en-GB" sz="3600" spc="-1" strike="noStrike" baseline="30000">
                <a:solidFill>
                  <a:srgbClr val="000099"/>
                </a:solidFill>
                <a:latin typeface="Arial"/>
              </a:rPr>
              <a:t>TH</a:t>
            </a:r>
            <a:r>
              <a:rPr b="1" lang="en-GB" sz="3600" spc="-1" strike="noStrike">
                <a:solidFill>
                  <a:srgbClr val="000099"/>
                </a:solidFill>
                <a:latin typeface="Arial"/>
              </a:rPr>
              <a:t> REGIME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Optional laws to create non complicated pan-EU product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To exist alongside national legal system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Consumers choose between national laws and the 26</a:t>
            </a:r>
            <a:r>
              <a:rPr b="0" lang="en-GB" sz="3200" spc="-1" strike="noStrike" baseline="30000">
                <a:solidFill>
                  <a:srgbClr val="000099"/>
                </a:solidFill>
                <a:latin typeface="Arial"/>
              </a:rPr>
              <a:t>th</a:t>
            </a: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 regime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Offered to multinational and local consumers – focus on retail sector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99"/>
                </a:solidFill>
                <a:latin typeface="Arial"/>
              </a:rPr>
              <a:t>THE 26</a:t>
            </a:r>
            <a:r>
              <a:rPr b="1" lang="en-GB" sz="3600" spc="-1" strike="noStrike" baseline="30000">
                <a:solidFill>
                  <a:srgbClr val="000099"/>
                </a:solidFill>
                <a:latin typeface="Arial"/>
              </a:rPr>
              <a:t>TH</a:t>
            </a:r>
            <a:r>
              <a:rPr b="1" lang="en-GB" sz="3600" spc="-1" strike="noStrike">
                <a:solidFill>
                  <a:srgbClr val="000099"/>
                </a:solidFill>
                <a:latin typeface="Arial"/>
              </a:rPr>
              <a:t> REGIME II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Suitable for fragmented markets (where 25 regimes exist), e.g. consumer credit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Less relevant for harmonised markets  (where a single regime has replaced national laws) e.g. wholesale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26920" y="2133720"/>
            <a:ext cx="7848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99"/>
                </a:solidFill>
                <a:latin typeface="Arial"/>
              </a:rPr>
              <a:t>THE 26</a:t>
            </a:r>
            <a:r>
              <a:rPr b="1" lang="en-GB" sz="3600" spc="-1" strike="noStrike" baseline="30000">
                <a:solidFill>
                  <a:srgbClr val="000099"/>
                </a:solidFill>
                <a:latin typeface="Arial"/>
              </a:rPr>
              <a:t>TH</a:t>
            </a:r>
            <a:r>
              <a:rPr b="1" lang="en-GB" sz="3600" spc="-1" strike="noStrike">
                <a:solidFill>
                  <a:srgbClr val="000099"/>
                </a:solidFill>
                <a:latin typeface="Arial"/>
              </a:rPr>
              <a:t> REGIME III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3848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99"/>
                </a:solidFill>
                <a:uFillTx/>
                <a:latin typeface="Arial"/>
              </a:rPr>
              <a:t>Advantage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Arial"/>
              </a:rPr>
              <a:t>Integrates fragmented market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Arial"/>
              </a:rPr>
              <a:t>Quick to implemen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Arial"/>
              </a:rPr>
              <a:t>Consumer choice and economies of scale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Arial"/>
              </a:rPr>
              <a:t>Tax incentives on 26</a:t>
            </a:r>
            <a:r>
              <a:rPr b="0" lang="en-GB" sz="2800" spc="-1" strike="noStrike" baseline="30000">
                <a:solidFill>
                  <a:srgbClr val="000099"/>
                </a:solidFill>
                <a:latin typeface="Arial"/>
              </a:rPr>
              <a:t>th</a:t>
            </a:r>
            <a:r>
              <a:rPr b="0" lang="en-GB" sz="2800" spc="-1" strike="noStrike">
                <a:solidFill>
                  <a:srgbClr val="000099"/>
                </a:solidFill>
                <a:latin typeface="Arial"/>
              </a:rPr>
              <a:t> regime product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59480" y="1915920"/>
            <a:ext cx="403848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99"/>
                </a:solidFill>
                <a:uFillTx/>
                <a:latin typeface="Arial"/>
              </a:rPr>
              <a:t>Disadvantage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Arial"/>
              </a:rPr>
              <a:t>Multiplicity of legal system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Arial"/>
              </a:rPr>
              <a:t>Unlevel playing field between bank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Arial"/>
              </a:rPr>
              <a:t>Better alternatives to create convergence and flexibility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99"/>
                </a:solidFill>
                <a:latin typeface="Arial"/>
              </a:rPr>
              <a:t>THE 26</a:t>
            </a:r>
            <a:r>
              <a:rPr b="1" lang="en-GB" sz="3600" spc="-1" strike="noStrike" baseline="30000">
                <a:solidFill>
                  <a:srgbClr val="000099"/>
                </a:solidFill>
                <a:latin typeface="Arial"/>
              </a:rPr>
              <a:t>TH</a:t>
            </a:r>
            <a:r>
              <a:rPr b="1" lang="en-GB" sz="3600" spc="-1" strike="noStrike">
                <a:solidFill>
                  <a:srgbClr val="000099"/>
                </a:solidFill>
                <a:latin typeface="Arial"/>
              </a:rPr>
              <a:t> REGIME IV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… </a:t>
            </a: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just one option of many to integrate the    retail financial services market…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99"/>
                </a:solidFill>
                <a:latin typeface="Arial"/>
              </a:rPr>
              <a:t>PAN-EUROPEAN PENSIONS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the scale of the EU’s ageing problem is so enormous that more radical alternatives to traditional approaches are needed.” 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uropean Financial Services Roundtable (EFR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99"/>
                </a:solidFill>
                <a:latin typeface="Arial"/>
              </a:rPr>
              <a:t>PAN-EUROPEAN PENSIONS II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EFR has developed a series of framework principles to develop a pan-European pension product delivered through the 26</a:t>
            </a:r>
            <a:r>
              <a:rPr b="0" lang="en-GB" sz="3200" spc="-1" strike="noStrike" baseline="30000">
                <a:solidFill>
                  <a:srgbClr val="000099"/>
                </a:solidFill>
                <a:latin typeface="Arial"/>
              </a:rPr>
              <a:t>th</a:t>
            </a: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 regime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FBE will comment this initiative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Commission will consider EFR’s proposals and then decide on how to take the issue forward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99"/>
                </a:solidFill>
                <a:latin typeface="Arial"/>
              </a:rPr>
              <a:t>YOUR VIEWS…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948360" y="5157720"/>
            <a:ext cx="1922760" cy="609840"/>
          </a:xfrm>
          <a:prstGeom prst="wedgeRectCallout">
            <a:avLst>
              <a:gd name="adj1" fmla="val 5407"/>
              <a:gd name="adj2" fmla="val 7005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at are the drawback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95280" y="3933720"/>
            <a:ext cx="2376360" cy="1150920"/>
          </a:xfrm>
          <a:prstGeom prst="wedgeRoundRectCallout">
            <a:avLst>
              <a:gd name="adj1" fmla="val -40847"/>
              <a:gd name="adj2" fmla="val 90138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s there an ageing population problem in your countr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843280" y="5157720"/>
            <a:ext cx="2952720" cy="1079640"/>
          </a:xfrm>
          <a:prstGeom prst="wedgeEllipseCallout">
            <a:avLst>
              <a:gd name="adj1" fmla="val -48064"/>
              <a:gd name="adj2" fmla="val 3779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s the EFR proposal the solutio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835280" y="2133720"/>
            <a:ext cx="2376360" cy="1582560"/>
          </a:xfrm>
          <a:prstGeom prst="cloudCallout">
            <a:avLst>
              <a:gd name="adj1" fmla="val -95689"/>
              <a:gd name="adj2" fmla="val 3204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ow viable is the 26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regime concep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219640" y="1700280"/>
            <a:ext cx="3097440" cy="1512720"/>
          </a:xfrm>
          <a:prstGeom prst="wedgeEllipseCallout">
            <a:avLst>
              <a:gd name="adj1" fmla="val -52972"/>
              <a:gd name="adj2" fmla="val 6154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ich other areas could make use of the 26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regime concep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076720" y="3573360"/>
            <a:ext cx="2951280" cy="1582920"/>
          </a:xfrm>
          <a:prstGeom prst="cloudCallout">
            <a:avLst>
              <a:gd name="adj1" fmla="val -86791"/>
              <a:gd name="adj2" fmla="val 3204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ny other alternatives to address the pensions crisi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99"/>
                </a:solidFill>
                <a:latin typeface="Arial"/>
              </a:rPr>
              <a:t>ANY QUESTIONS?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FBE Contact:  Stephen Fisher (</a:t>
            </a:r>
            <a:r>
              <a:rPr b="0" lang="en-GB" sz="2000" spc="-1" strike="noStrike" u="sng">
                <a:solidFill>
                  <a:srgbClr val="2a0dd9"/>
                </a:solidFill>
                <a:uFillTx/>
                <a:latin typeface="Arial"/>
              </a:rPr>
              <a:t>s.fisher@fbe.be</a:t>
            </a: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30T10:08:06Z</dcterms:created>
  <dc:creator>Johnson</dc:creator>
  <dc:description/>
  <dc:language>en-US</dc:language>
  <cp:lastModifiedBy>AlparslanM</cp:lastModifiedBy>
  <dcterms:modified xsi:type="dcterms:W3CDTF">2005-05-25T12:25:40Z</dcterms:modified>
  <cp:revision>46</cp:revision>
  <dc:subject/>
  <dc:title> CAPITAL REQUIREMENTS DIRECTIVE: OPPORTUNITIES AND CHALLENGES</dc:title>
</cp:coreProperties>
</file>