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DA8-8849-404F-8B34-4B8406E4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C77-6CA3-4810-A317-7021C03B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980-8D5A-4829-9F2B-4B9ADE8E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E4AD-5E16-4DBC-98D6-C576401B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A078-9947-4E62-9A63-F74EFD3A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B9FC-DC68-4D0B-8C2A-5A8C70D8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5686-148F-462A-AD43-5F275287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1201-BA1A-4236-A37B-3B816D28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DA64-5050-4176-928C-7913EDAF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E732-27E5-4E4B-BB22-DCBA46F5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BC37-9BC6-4408-9E74-F05E3D6B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794-CA2E-48B0-8595-066AF180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77A2-FEB5-42D6-87D5-013E9127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2824-A742-49CE-97C5-853DECE2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EFD8-B535-4E25-BE45-08DC6AA4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E527-D9F1-4615-8D91-29B4D21D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3E95-810E-4C47-928C-6A05A9D1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16E-9524-4EB0-A0CF-AD028745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F0B6-12DB-49B8-ABBB-9D942651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0650-1B5E-43FC-A524-EA892310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DC6-ED44-457C-A998-DFBE6ACB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FD3D-77C3-4DEA-A177-CE4244E6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52F-6877-4B35-95C3-6F9FD490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F0E-88DE-4703-B089-950304D5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6EF0-2DA0-41FE-BEF7-036F462BF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2D46-47EF-40A4-83EB-82A43F71C8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LARGEMENT OF THE EUROZONE: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hallenges ahead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UDAPEST, 12 MAY 200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History of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0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1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complete liberalization of capital movemen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4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2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achieving convergence targ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1999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: 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launch of the euro on financial mark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99"/>
                </a:solidFill>
                <a:uFillTx/>
                <a:latin typeface="Arial"/>
              </a:rPr>
              <a:t>2002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: stage 3b:</a:t>
            </a:r>
            <a:r>
              <a:rPr b="0" i="1" lang="en-GB" sz="3200" spc="-1" strike="noStrike">
                <a:solidFill>
                  <a:srgbClr val="000099"/>
                </a:solidFill>
                <a:latin typeface="Arial"/>
              </a:rPr>
              <a:t> introduction of euro notes and coins in 12 EMU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New EU Member States and the EMU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U enlargement on 1 May 2004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No opt-outs for new Member Sta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Treaty =&gt; straight into stage 3 of the EMU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21337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Further step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136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Joining the ERM 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Maastricht convergence criter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ccession procedu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Adoption of the Euro and introduction of Euro notes and coi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entative time-tab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Meeting the Maastricht criteria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price stability (inflation, &gt;2.2% for 2004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long-term interest rates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budget deficit ( 3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total government debt (60% of GDP);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- stability in the exchange r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Main challenges - 2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actical preparations for introduction of Euro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nd monetary policy challeng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arning from experiences of the Euro-zone coun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99"/>
                </a:solidFill>
                <a:uFillTx/>
                <a:latin typeface="Arial"/>
              </a:rPr>
              <a:t>Questions for discussion…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1844640"/>
            <a:ext cx="82818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potential entrants to the Euro Zon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n is your country planning to join the Euro Z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are the main challenges your country may 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articular questions to existing Euro Zone Member St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or existing Euro Zone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challenges in your count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ere the main lessons learn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was the impact the adoption of Euro has had on a country’s economy and on the lives of ordinary citiz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5-05-25T12:24:13Z</dcterms:modified>
  <cp:revision>60</cp:revision>
  <dc:subject/>
  <dc:title> CAPITAL REQUIREMENTS DIRECTIVE: OPPORTUNITIES AND CHALLENGES</dc:title>
</cp:coreProperties>
</file>