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B97-EDAB-4FF9-A1FF-1B8B489F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0C6-F8D4-4105-B87A-F60C4446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B2E-C6AA-41A7-9B4F-7E5F1038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5C9-8C61-4FE3-A7CF-958A5F10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10F9-E5FA-4241-852A-9776A9F4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6901-9DEE-41E7-B437-C2D72477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AA23-1020-4F29-B679-833CC432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DA6F-2DE8-4171-AAA5-CF62FA64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3473-7562-49E5-AC6D-DFF6D239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28B4-4EFC-45AD-A934-E73AA2EB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8887-83B1-449C-BEAE-A175F360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1E9-F932-4635-870E-D67D2F73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8B52-6D3D-4D47-B602-F233ACAC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B41C-2E17-4B2A-A713-0C1A46C8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7C64-9305-4B67-8698-8E464922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C04A-4865-4965-9674-2BAB5C0C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2527-3DBF-48F4-B36F-425E429B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4B7F-9740-4AC0-BB81-0A679EDA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34C-8D6E-470E-97DE-01FB5C9A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F2B9-451C-4235-B820-212D7613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14E-9C6A-4A09-A98B-C3CD02D0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CEB-ADF0-405A-8944-9DADB2FB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0D3-580D-4083-80C6-2C5A1A07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C7D-4898-4782-834B-D7725E1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2666-827E-4CEA-B940-F127BCDA3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427D-E090-4A64-A349-BBDBE7B3B6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N-EUROPEAN PENSION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US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REGIME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ptional laws to create non complicated pan-EU produc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o exist alongside national legal syste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nsumers choose between national laws and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Offered to multinational and local consumers – focus on retail sect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itable for fragmented markets (where 25 regimes exist), e.g. consumer cred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Less relevant for harmonised markets  (where a single regime has replaced national laws) e.g. wholes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grates fragmented marke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Quick to impl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onsumer choice and economies of sc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ax incentives on 26</a:t>
            </a:r>
            <a:r>
              <a:rPr b="0" lang="en-GB" sz="28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regime produ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9480" y="1915920"/>
            <a:ext cx="40384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99"/>
                </a:solidFill>
                <a:uFillTx/>
                <a:latin typeface="Arial"/>
              </a:rPr>
              <a:t>Disadvant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ultiplicity of legal system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Unlevel playing field between ban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Better alternatives to create convergence and flexibil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THE 26</a:t>
            </a:r>
            <a:r>
              <a:rPr b="1" lang="en-GB" sz="3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 REGIME IV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… 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ust one option of many to integrate the    retail financial services market…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cale of the EU’s ageing problem is so enormous that more radical alternatives to traditional approaches are needed.”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uropean Financial Services Roundtable (EFR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PAN-EUROPEAN PENSIONS II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FR has developed a series of framework principles to develop a pan-European pension product delivered through the 26</a:t>
            </a:r>
            <a:r>
              <a:rPr b="0" lang="en-GB" sz="32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BE will comment this initiativ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Commission will consider EFR’s proposals and then decide on how to take the issue forwar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YOUR VIEWS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5157720"/>
            <a:ext cx="1922760" cy="609840"/>
          </a:xfrm>
          <a:prstGeom prst="wedgeRectCallout">
            <a:avLst>
              <a:gd name="adj1" fmla="val 5407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are the drawbac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3933720"/>
            <a:ext cx="2376360" cy="1150920"/>
          </a:xfrm>
          <a:prstGeom prst="wedgeRoundRectCallout">
            <a:avLst>
              <a:gd name="adj1" fmla="val -40847"/>
              <a:gd name="adj2" fmla="val 901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 ageing population problem in your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5157720"/>
            <a:ext cx="2952720" cy="1079640"/>
          </a:xfrm>
          <a:prstGeom prst="wedgeEllipseCallout">
            <a:avLst>
              <a:gd name="adj1" fmla="val -48064"/>
              <a:gd name="adj2" fmla="val 37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 EFR proposal the solu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2133720"/>
            <a:ext cx="2376360" cy="1582560"/>
          </a:xfrm>
          <a:prstGeom prst="cloudCallout">
            <a:avLst>
              <a:gd name="adj1" fmla="val -95689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viable is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1700280"/>
            <a:ext cx="3097440" cy="1512720"/>
          </a:xfrm>
          <a:prstGeom prst="wedgeEllipseCallout">
            <a:avLst>
              <a:gd name="adj1" fmla="val -52972"/>
              <a:gd name="adj2" fmla="val 61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other areas could make use of the 2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egime concep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6720" y="3573360"/>
            <a:ext cx="2951280" cy="1582920"/>
          </a:xfrm>
          <a:prstGeom prst="cloudCallout">
            <a:avLst>
              <a:gd name="adj1" fmla="val -86791"/>
              <a:gd name="adj2" fmla="val 32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y other alternatives to address the pensions cri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99"/>
                </a:solidFill>
                <a:latin typeface="Arial"/>
              </a:rPr>
              <a:t>ANY QUESTIONS?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BE Contact:  Stephen Fisher (</a:t>
            </a:r>
            <a:r>
              <a:rPr b="0" lang="en-GB" sz="2000" spc="-1" strike="noStrike" u="sng">
                <a:solidFill>
                  <a:srgbClr val="2a0dd9"/>
                </a:solidFill>
                <a:uFillTx/>
                <a:latin typeface="Arial"/>
              </a:rPr>
              <a:t>s.fisher@fbe.be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5:40Z</dcterms:modified>
  <cp:revision>46</cp:revision>
  <dc:subject/>
  <dc:title> CAPITAL REQUIREMENTS DIRECTIVE: OPPORTUNITIES AND CHALLENGES</dc:title>
</cp:coreProperties>
</file>