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DB48-8F24-4878-9996-B9E2CD7B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FED8-1029-4C3E-BE37-E7F409FB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CB15-3142-418A-86E6-8AC9F87A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50B1-92EF-4FC6-8670-5DBCFB7F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DD7B-2826-4354-897B-FA019835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2436-52B6-4886-AE27-55BE8E27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00C9-A6AB-4A39-9E9E-0C32F098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6A8A-1CBD-4550-A437-DA6F2208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2D78-D916-4C3E-8F37-4BFEA001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5F06-9D9B-453F-BD68-935344C7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ACB3-C3EA-4FA0-866A-5B77D1C3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EF05-FE7F-438F-A8DA-84E9FD90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2B51-5B6D-4D50-8CB9-86745166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EB4B-DD57-470C-98A8-0A6D6BCB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CC1D-4BB0-4C94-9EF0-7E0B8045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8E16-E935-49C1-B586-2BF320C8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2B52-07DF-476E-910E-68FC5F39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8A15-2F92-4663-A7BC-C6DAE9C0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CD98-A37E-48A5-A78A-E666CA25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8439-52EC-41AC-ABCE-1F7DAA64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C93E-68A2-4CE0-BFEF-04CD68A7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57DA-CA65-4264-891D-AC971096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0917-BBBC-4651-9DBE-D05C4384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C0BB-A567-4742-8B8F-9B237FC4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7665-A947-4B49-B1B0-1E8F030A6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C6E7-A230-4834-A023-337D285D6F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LARGEMENT OF THE EUROZONE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allenges ahead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History of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0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1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complete liberalization of capital movemen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4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2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achieving convergence targ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9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launch of the euro on financial mark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2002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b: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 introduction of euro notes and coins in 12 EMU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New EU Member States and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U enlargement on 1 May 2004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No opt-outs for new Member Sta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Treaty =&gt; straight into stage 3 of the EMU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Further step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136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oining the ERM 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Maastricht convergence criteri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procedu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doption of the Euro and introduction of Euro notes and coi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entative time-tab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the Maastricht criteria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price stability (inflation, &gt;2.2% for 2004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long-term interest rates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budget deficit ( 3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total government debt (60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stability in the exchange r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 - 2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al preparations for introduction of Euro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conomic and monetary policy challeng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arning from experiences of the Euro-zone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Questions for discussion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844640"/>
            <a:ext cx="82818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potential entrants to the Euro Zon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n is your country planning to join the Euro Z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are the main challenges your country may 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ticular questions to existing Euro Zone Member Sta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existing Euro Zone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challenges in your count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lessons lear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as the impact the adoption of Euro has had on a country’s economy and on the lives of ordinary citiz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4:13Z</dcterms:modified>
  <cp:revision>60</cp:revision>
  <dc:subject/>
  <dc:title> CAPITAL REQUIREMENTS DIRECTIVE: OPPORTUNITIES AND CHALLENGES</dc:title>
</cp:coreProperties>
</file>