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4470-8EDA-4D7A-AAB6-B90654D15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0F45-8052-4221-9661-50AC7BA0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2B2E-BF08-4C4B-BF75-9D351FEC1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B11D-FAB3-4AB9-A539-A0E2F00DF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6C33-9BFB-437F-BC5C-48E761B41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F263-8A88-4E56-8338-04BD8629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8966-9829-4F92-BDAE-8638154E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644E-2FEE-48E7-A5DE-622FF055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F991-DB3F-4191-8850-4419D30C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6C19-DEAD-4502-A447-B3FCE38B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5B9F-516C-4850-8A7B-844DFD12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BCC3-7E81-40EE-B161-FFFF7933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E8B4-8A32-4FCF-A0B2-C25CD92A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86FF-FFB2-43FC-A003-90DE9735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A2C1-323A-4588-8552-B9BAF2AB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2BA09-F6AA-4187-BA14-D1961A4BB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D954-C4CE-40B1-B4B9-793F4FC46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2347-D100-4CC7-AD93-7E4A90C2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13C2-0571-4074-B6DD-A9C236B9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EA31-FDB7-472B-85B1-0C2AF1EB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2571-41DF-48B1-8F1F-7C8F3725A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2F82-2BEA-459D-AC86-C282AC58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7D7F-8465-4F04-BB1D-FFA94F10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3854-79D9-4695-B1A3-50C4B291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2423-C41D-433F-8C53-021C66EC2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7142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 u="sng">
                <a:solidFill>
                  <a:srgbClr val="000099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&lt;footer&gt;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www.fbe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C646-043C-4D66-B7FB-8D3F33DE0E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171360"/>
            <a:ext cx="9144000" cy="836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01080" y="-100080"/>
            <a:ext cx="8856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0"/>
            <a:ext cx="4321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European Banking Fed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Fédération bancaire européen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5280" y="6093000"/>
            <a:ext cx="144360" cy="144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9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1640" y="6093000"/>
            <a:ext cx="144360" cy="14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N-EUROPEAN PENSIONS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&amp;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US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REGIME 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6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20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MEETING OF THE ASSOC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UDAPEST, 12 MAY 200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Optional laws to create non complicated pan-EU produc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o exist alongside national legal system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Consumers choose between national laws and the 26</a:t>
            </a:r>
            <a:r>
              <a:rPr b="0" lang="en-GB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Offered to multinational and local consumers – focus on retail secto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uitable for fragmented markets (where 25 regimes exist), e.g. consumer credi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Less relevant for harmonised markets  (where a single regime has replaced national laws) e.g. wholesa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2133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384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99"/>
                </a:solidFill>
                <a:uFillTx/>
                <a:latin typeface="Arial"/>
              </a:rPr>
              <a:t>Advant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Integrates fragmented marke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Quick to implemen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Consumer choice and economies of scal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Tax incentives on 26</a:t>
            </a:r>
            <a:r>
              <a:rPr b="0" lang="en-GB" sz="28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 regime produ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9480" y="1915920"/>
            <a:ext cx="40384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99"/>
                </a:solidFill>
                <a:uFillTx/>
                <a:latin typeface="Arial"/>
              </a:rPr>
              <a:t>Disadvant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Multiplicity of legal system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Unlevel playing field between ban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Better alternatives to create convergence and flexibility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V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… 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just one option of many to integrate the    retail financial services market…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PAN-EUROPEAN PENSION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scale of the EU’s ageing problem is so enormous that more radical alternatives to traditional approaches are needed.”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uropean Financial Services Roundtable (EFR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PAN-EUROPEAN PENSIONS 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EFR has developed a series of framework principles to develop a pan-European pension product delivered through the 26</a:t>
            </a:r>
            <a:r>
              <a:rPr b="0" lang="en-GB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FBE will comment this initiativ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Commission will consider EFR’s proposals and then decide on how to take the issue forwar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YOUR VIEWS…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948360" y="5157720"/>
            <a:ext cx="1922760" cy="609840"/>
          </a:xfrm>
          <a:prstGeom prst="wedgeRectCallout">
            <a:avLst>
              <a:gd name="adj1" fmla="val 5407"/>
              <a:gd name="adj2" fmla="val 7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are the drawbac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3933720"/>
            <a:ext cx="2376360" cy="1150920"/>
          </a:xfrm>
          <a:prstGeom prst="wedgeRoundRectCallout">
            <a:avLst>
              <a:gd name="adj1" fmla="val -40847"/>
              <a:gd name="adj2" fmla="val 9013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here an ageing population problem in your count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43280" y="5157720"/>
            <a:ext cx="2952720" cy="1079640"/>
          </a:xfrm>
          <a:prstGeom prst="wedgeEllipseCallout">
            <a:avLst>
              <a:gd name="adj1" fmla="val -48064"/>
              <a:gd name="adj2" fmla="val 377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he EFR proposal the solu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2133720"/>
            <a:ext cx="2376360" cy="1582560"/>
          </a:xfrm>
          <a:prstGeom prst="cloudCallout">
            <a:avLst>
              <a:gd name="adj1" fmla="val -95689"/>
              <a:gd name="adj2" fmla="val 32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viable is the 2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gime concep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1700280"/>
            <a:ext cx="3097440" cy="1512720"/>
          </a:xfrm>
          <a:prstGeom prst="wedgeEllipseCallout">
            <a:avLst>
              <a:gd name="adj1" fmla="val -52972"/>
              <a:gd name="adj2" fmla="val 615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ich other areas could make use of the 2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gime concep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76720" y="3573360"/>
            <a:ext cx="2951280" cy="1582920"/>
          </a:xfrm>
          <a:prstGeom prst="cloudCallout">
            <a:avLst>
              <a:gd name="adj1" fmla="val -86791"/>
              <a:gd name="adj2" fmla="val 32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y other alternatives to address the pensions cris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ANY QUESTIONS?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FBE Contact:  Stephen Fisher (</a:t>
            </a:r>
            <a:r>
              <a:rPr b="0" lang="en-GB" sz="2000" spc="-1" strike="noStrike" u="sng">
                <a:solidFill>
                  <a:srgbClr val="2a0dd9"/>
                </a:solidFill>
                <a:uFillTx/>
                <a:latin typeface="Arial"/>
              </a:rPr>
              <a:t>s.fisher@fbe.be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0:08:06Z</dcterms:created>
  <dc:creator>Johnson</dc:creator>
  <dc:description/>
  <dc:language>en-US</dc:language>
  <cp:lastModifiedBy>AlparslanM</cp:lastModifiedBy>
  <dcterms:modified xsi:type="dcterms:W3CDTF">2005-05-25T12:25:40Z</dcterms:modified>
  <cp:revision>46</cp:revision>
  <dc:subject/>
  <dc:title> CAPITAL REQUIREMENTS DIRECTIVE: OPPORTUNITIES AND CHALLENGES</dc:title>
</cp:coreProperties>
</file>