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20C-9DA0-4A12-80AC-AF301E38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DCB4-3437-4AE1-AC69-B084AF79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5C77-F5D6-4BB1-93A2-F27DE132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354E-2E0B-44E8-8C94-646B7101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F1AB-7F98-4602-9192-6EDF37FC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F669-0518-4E1A-97A9-7BDFF0BA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8CB3-FDFE-4078-B5E7-2808BA92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D7E1-876A-430F-9F12-F3A6E02F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24FD-73DD-4DD4-98E8-AE93613B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0471-1E64-47E9-BB22-BD7EA13E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7E00-8EB5-42DF-A85A-514A806D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EBF-3E6B-4C09-80E4-DD1B828E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4247-E1B9-412B-B081-3AEFAC6E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4893-DDAB-465D-9B65-737F19F5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B235-8B2A-4288-AF1F-3A6CAB39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36FA-2FBD-4974-8533-AAA3A110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10E9-9F27-414E-8936-56F7E465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629-76BB-4715-B1FA-04760498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1AFD-F0E7-49AD-947C-490C93DF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F8B6-8B85-4D92-82C7-9E0E6C10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9F78-2E22-4E31-8B75-09597BC5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965-4E4D-4A77-977F-5C8589D4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5EDB-DAE3-42DC-BEA3-EB3A16E8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E56-682C-4869-878D-0C24C7C7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EBCB-64D4-4735-A0F9-0A3C90525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BC5A-8D6B-4A13-BC79-08F810420F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-EUROPEAN PENSION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REGIME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ptional laws to create non complicated pan-EU produc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exist alongside national legal syste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nsumers choose between national laws and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ffered to multinational and local consumers – focus on retail sec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itable for fragmented markets (where 25 regimes exist), e.g. consumer cred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Less relevant for harmonised markets  (where a single regime has replaced national laws) e.g. wholes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ates fragmented marke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Quick to impl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sumer choice and economies of sc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x incentives on 26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gime produ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ultiplicity of lega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nlevel playing field between ban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etter alternatives to create convergence and flexi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V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ust one option of many to integrate the    retail financial services market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cale of the EU’s ageing problem is so enormous that more radical alternatives to traditional approaches are needed.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Financial Services Roundtable (EFR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FR has developed a series of framework principles to develop a pan-European pension product delivered through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BE will comment this initiat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mmission will consider EFR’s proposals and then decide on how to take the issue forwar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YOUR VIEWS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157720"/>
            <a:ext cx="1922760" cy="609840"/>
          </a:xfrm>
          <a:prstGeom prst="wedgeRectCallout">
            <a:avLst>
              <a:gd name="adj1" fmla="val 5407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33720"/>
            <a:ext cx="2376360" cy="1150920"/>
          </a:xfrm>
          <a:prstGeom prst="wedgeRoundRectCallout">
            <a:avLst>
              <a:gd name="adj1" fmla="val -40847"/>
              <a:gd name="adj2" fmla="val 90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ageing population problem in your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157720"/>
            <a:ext cx="2952720" cy="1079640"/>
          </a:xfrm>
          <a:prstGeom prst="wedgeEllipseCallout">
            <a:avLst>
              <a:gd name="adj1" fmla="val -48064"/>
              <a:gd name="adj2" fmla="val 3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FR proposal the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2133720"/>
            <a:ext cx="2376360" cy="1582560"/>
          </a:xfrm>
          <a:prstGeom prst="cloudCallout">
            <a:avLst>
              <a:gd name="adj1" fmla="val -95689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viable is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700280"/>
            <a:ext cx="3097440" cy="1512720"/>
          </a:xfrm>
          <a:prstGeom prst="wedgeEllipseCallout">
            <a:avLst>
              <a:gd name="adj1" fmla="val -52972"/>
              <a:gd name="adj2" fmla="val 61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ther areas could make use of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573360"/>
            <a:ext cx="2951280" cy="1582920"/>
          </a:xfrm>
          <a:prstGeom prst="cloudCallout">
            <a:avLst>
              <a:gd name="adj1" fmla="val -86791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lternatives to address the pensions cri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BE Contact:  Stephen Fisher (</a:t>
            </a:r>
            <a:r>
              <a:rPr b="0" lang="en-GB" sz="2000" spc="-1" strike="noStrike" u="sng">
                <a:solidFill>
                  <a:srgbClr val="2a0dd9"/>
                </a:solidFill>
                <a:uFillTx/>
                <a:latin typeface="Arial"/>
              </a:rPr>
              <a:t>s.fisher@fbe.b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5:40Z</dcterms:modified>
  <cp:revision>46</cp:revision>
  <dc:subject/>
  <dc:title> CAPITAL REQUIREMENTS DIRECTIVE: OPPORTUNITIES AND CHALLENGES</dc:title>
</cp:coreProperties>
</file>