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D9F1-A7E0-4FD1-BAAE-136FF3A3E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4192-6FE1-4B15-B7A2-629C0385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6A61-F7CD-4D17-9403-ACE1C4B8C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1B49-9CB2-4064-B76B-0122FAF2A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9173-E16F-468C-B4BF-F951527C0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0F28-6871-446D-BD70-AC3F1FEF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8769-9B38-44BE-A976-06C8B202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A629-0B92-48BC-9E4B-BD01488C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88D7-1BB1-40C3-8D75-2A4225FE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C6D8-E71B-4F84-9A41-60C54BA6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666E-4142-4CA6-B5B1-E4D133D2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3277-2A38-481D-9796-D69C7B74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37EA-C7C0-42B3-A286-2AEFAD06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F770-0E4C-48FD-B8B0-A7296FAC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226F-62B2-4460-A9FC-CD4CF6F9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5715-BF9E-4426-BCC9-6288687B4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E1F2A-3391-40AC-A5AD-4071D5A72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6C3A-4AB3-4CE7-BB13-F499BCD7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50DA-03BB-4559-983C-15B35227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9807-E452-4C80-8DCF-C609DE55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1AF8-DABF-4182-90A5-7C79666D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DB70-58DD-49A0-B66D-17A05DFD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15E6-2610-48CC-9468-5FFD6C1F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AD22-043A-4850-A6C2-3A927446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EE23-7604-4B3B-B3CE-19AC8F67E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5D80-6E51-4D9D-A164-193D7A8A6F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NLARGEMENT OF THE EUROZONE: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hallenges ahead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UDAPEST, 12 MAY 200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History of the EMU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0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1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complete liberalization of capital movemen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4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2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achieving convergence targe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9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3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launch of the euro on financial marke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2002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3b: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 introduction of euro notes and coins in 12 EMU coun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New EU Member States and the EMU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U enlargement on 1 May 2004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No opt-outs for new Member Sta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ccession Treaty =&gt; straight into stage 3 of the EMU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2133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Further step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136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Joining the ERM 2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Meeting Maastricht convergence criteri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ccession procedu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doption of the Euro and introduction of Euro notes and coi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entative time-tab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Main challenge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Meeting the Maastricht criteria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price stability (inflation, &gt;2.2% for 2004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long-term interest rates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budget deficit ( 3% of GDP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total government debt (60% of GDP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stability in the exchange rat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Main challenges - 2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actical preparations for introduction of Euro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conomic and monetary policy challeng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arning from experiences of the Euro-zone coun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Questions for discussion…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1844640"/>
            <a:ext cx="82818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or potential entrants to the Euro Zon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en is your country planning to join the Euro Zo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are the main challenges your country may f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articular questions to existing Euro Zone Member Sta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or existing Euro Zone me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ere the main challenges in your count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ere the main lessons learn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as the impact the adoption of Euro has had on a country’s economy and on the lives of ordinary citize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5-05-25T12:24:13Z</dcterms:modified>
  <cp:revision>60</cp:revision>
  <dc:subject/>
  <dc:title> CAPITAL REQUIREMENTS DIRECTIVE: OPPORTUNITIES AND CHALLENGES</dc:title>
</cp:coreProperties>
</file>