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F2B-F5D0-4429-8EF5-62DB3430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BB03-F934-402F-BC1C-488C94F0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5514-0E91-43A0-8E24-082A7437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685-9A2E-4036-AEB3-DEDA8C65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F5F-B70A-4B1C-BCC2-03243B91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C32-14D5-4794-B52D-BDE74DF8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9BF-73C1-4260-878E-D67D4F52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083-352D-41E5-B4EE-46FA31A5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2FB-48EB-421A-8D4F-18499BD7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323-1020-4BA9-A4F6-0986E86A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C0A2-5DC3-4D65-A9EB-6A3AD4F3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741-11F4-46CE-9E29-5B9383A5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B236-ACF6-42F6-B0A6-D98C30CEF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the EU legislation concerning financial sector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8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9 December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Directors remun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should ensure that listed companies disclose their policy on directors’ remun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to adopt measures in four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muneration poli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hareholders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sclosure of the remuneration of individual directo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proval of share and share option sche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role of independent Direc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have been invited to reinforce the presence and role of independent non-executive directors on listed companies’ boa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 to protect shareholders, employees and the public against potential conflicts of interest by an independent check on management dec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ed by the European commission on 30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-ordinated action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nancial servic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any la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count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x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pervision and enforcement area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olicy initiatives in taxation and law enforcement field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elemen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nhanced transpa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mproved traceabi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etter co-ordinated enfor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of the anti-money laundering Directive (June 200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5. Propose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to amend the Second Company law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29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ed Directive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fy the formation, maintenance and alteration of companies’ capit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 the related parts of the Second Company law Dire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s proposal is a part of Commission’s Action Plan on Company Law and Corporate Gover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r key revisions of the EU’s Accounting Directiv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8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key revis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that board members are collectively responsible for financial statements and key non-financial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unlisted companies’ transactions with related parties more transpar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that all companies provide full information about off-balance sheet arrang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listed companies issue an annual “corporate governance statement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Capital requirements framework for banks and investment firm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14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al is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ing the coherent application throughout the EU of the new international capital requirements framework recently agreed by the Basel Committee (BASEL I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sure that financial institutions capital is more closely aligned with the risks they f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ing consumer protec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ing the financial s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of the 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30 June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and improve the EU’s existing anti-money laundering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en the scope of the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sure the coherent application in all Member States of the latest Recommendations of the FAT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to CESR for technical advise on possible measures concerning the credit rating agencie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. Consult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n Basic shareholders’ righ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European Commission on 16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ing the exercise of basic shareholders’ rights in company general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the problems in cross-border exercise of such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 for a Directive has been consid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the responses – 16 December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to CESR for technical advise on possible measures concerning the credit rating agenci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10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uropean commission has provided the CESR with a call for technical advice on 5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ore issues to be address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conflicts of interests within rating agen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 of rating agencies’ methodolog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treatment of rating agencies’ access to inside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s about possible lack of competition in the market for provision of credit ra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quested deadline for delivery of advice is 1 April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2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to prevent financial and corporate malpractice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IAS 39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9 Nov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 (Recognition and measure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provisions on the use of the full fair value option and on hedge accounting are exclud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egally binding from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4-12-15T13:56:13Z</dcterms:modified>
  <cp:revision>479</cp:revision>
  <dc:subject/>
  <dc:title>PROPOSED AMENDMENTS AND LATEST CHANGES IN THE EU DIRECTIVES FOR THE FINANCIAL SECTOR </dc:title>
</cp:coreProperties>
</file>