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42F9-BCF8-4411-8001-B575F731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6E3-018F-47F7-904F-4ED24E2A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29CF-30BB-41B8-B25B-4E345671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533-A2CF-45A1-98AE-BC5989B9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95B7-A261-4F49-B37E-E8E40ED0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FE27-AA35-47BB-B445-FC2B35E8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2BB3-3F0E-4E7C-B89B-3A0B3953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E74D-A13A-4897-B087-BAC54859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0024-F267-4C6C-95C5-B503C3E5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E209-1E35-4519-8D4E-6D3BD418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6D5E-CB45-4CA9-BFFE-A6CEA5BC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867-288F-4E83-A42D-8721C2C1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6866-7152-40A5-93E6-B124CD6D8D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the EU legislation concerning financial sector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8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9 December 200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Directors remuner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should ensure that listed companies disclose their policy on directors’ remun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to adopt measures in four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remuneration poli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hareholders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sclosure of the remuneration of individual director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pproval of share and share option schem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role of independent Directo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have been invited to reinforce the presence and role of independent non-executive directors on listed companies’ boar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ntion to protect shareholders, employees and the public against potential conflicts of interest by an independent check on management deci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opted by the European commission on 30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co-ordinated action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inancial servic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ompany la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ccount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ax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upervision and enforcement area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olicy initiatives in taxation and law enforcement field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element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nhanced transparen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improved traceabilit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better co-ordinated enforc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 of the anti-money laundering Directive (June 2004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5. Proposed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to amend the Second Company law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29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ed Directive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ify the formation, maintenance and alteration of companies’ capit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nd the related parts of the Second Company law Direc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is proposal is a part of Commission’s Action Plan on Company Law and Corporate Govern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ur key revisions of the EU’s Accounting Directive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8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key revis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 that board members are collectively responsible for financial statements and key non-financial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unlisted companies’ transactions with related parties more transparen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that all companies provide full information about off-balance sheet arrangement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listed companies issue an annual “corporate governance statement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4978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 Capital requirements framework for banks and investment firm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14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al is aimed 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ing the coherent application throughout the EU of the new international capital requirements framework recently agreed by the Basel Committee (BASEL II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ing sure that financial institutions capital is more closely aligned with the risks they fa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hancing consumer protec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forcing the financial st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pdate of the 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30 June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pdate and improve the EU’s existing anti-money laundering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iden the scope of the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sure the coherent application in all Member States of the latest Recommendations of the FAT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to CESR for technical advise on possible measures concerning the credit rating agencie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9. Consultatio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on Basic shareholders’ right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785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European Commission on 16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 iss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ilitating the exercise of basic shareholders’ rights in company general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ing the problems in cross-border exercise of such righ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al for a Directive has been conside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the responses – 16 December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ll to CESR for technical advise on possible measures concerning the credit rating agencie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610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European commission has provided the CESR with a call for technical advice on 5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core issues to be address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conflicts of interests within rating agenc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arency of rating agencies’ methodolog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al treatment of rating agencies’ access to inside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s about possible lack of competition in the market for provision of credit rat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quested deadline for delivery of advice is 1 April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2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y to prevent financial and corporate malpractice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IAS 39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9 Nov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 (Recognition and measurement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tain provisions on the use of the full fair value option and on hedge accounting are exclude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legally binding from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4-12-15T13:56:13Z</dcterms:modified>
  <cp:revision>479</cp:revision>
  <dc:subject/>
  <dc:title>PROPOSED AMENDMENTS AND LATEST CHANGES IN THE EU DIRECTIVES FOR THE FINANCIAL SECTOR </dc:title>
</cp:coreProperties>
</file>