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3.jpeg" ContentType="image/jpeg"/>
  <Override PartName="/ppt/media/image17.png" ContentType="image/pn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24.png" ContentType="image/png"/>
  <Override PartName="/ppt/media/image4.jpeg" ContentType="image/jpeg"/>
  <Override PartName="/ppt/media/image2.png" ContentType="image/png"/>
  <Override PartName="/ppt/media/image2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4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38880" cy="446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4984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EB535-5EC1-4588-80A5-B345FE079F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38880" cy="446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635B3-3178-443E-882C-DB9071CEE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360" y="417312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7A415-51C4-4872-8D7F-4B4297452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836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540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5B2C9-CA0C-4A00-B5E5-44290A1A5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50800" y="19159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33240" y="19159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360" y="41731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50800" y="41731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33240" y="41731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0730F-4C87-4872-A504-28BF40A9C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51315-B802-4667-81ED-49F50E607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66765-C466-47EF-A075-3DF4F4ED3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6D60B-95B5-4476-ABD8-BE7DC41C9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D4D2A-FE63-401D-A2AD-180FCEF99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C1F3D-1B8E-42D2-B262-CC711051C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68360" y="836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845D9-B64C-4607-810F-DD0E38E17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836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B4EB8-4FC2-4FC1-8FC4-3EA646C35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132FD-F100-44DC-AA62-B0662463B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8540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3788A-A372-46F9-A7CB-11379FEF4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8360" y="417312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29ED5-124F-455E-A5B6-A50B4E55E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8360" y="417312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5CD89-E6F6-4B40-99A1-F20CFE4BD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836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8540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EDEC3-CA38-405D-B8C2-16CCD4929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50800" y="19159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33240" y="19159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8360" y="41731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50800" y="41731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33240" y="41731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BC926-F04B-4197-B312-869AE7D36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16A2E-B2B0-403E-956B-D033109DB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5738C-1E42-4533-9F82-197127F34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1F504-A615-402F-93E6-2B0F4C747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68360" y="836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67FC7-B543-45E8-B4C9-DB21062EB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36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A002B-6402-4D61-B910-6BFB3E773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540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E9CE4-C559-451B-8B97-5A21B71E4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8360" y="417312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EB192-5176-416D-B04D-5441BECD8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141DE-A2BE-4087-B774-1994CE43FC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772400" y="5943600"/>
            <a:ext cx="714240" cy="542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3708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 u="sng">
                <a:solidFill>
                  <a:srgbClr val="000099"/>
                </a:solidFill>
                <a:uFillTx/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99"/>
                </a:solidFill>
                <a:uFillTx/>
                <a:latin typeface="Times New Roman"/>
              </a:rPr>
              <a:t>&lt;footer&gt;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Times New Roman"/>
              </a:rPr>
              <a:t>www.fbe.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D2603-7EED-4AB8-91DE-A8C0469A5B9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-171360"/>
            <a:ext cx="9144000" cy="83664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692280"/>
            <a:ext cx="9144000" cy="0"/>
          </a:xfrm>
          <a:prstGeom prst="line">
            <a:avLst/>
          </a:prstGeom>
          <a:ln w="507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8101080" y="-100080"/>
            <a:ext cx="885600" cy="6382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4920" y="0"/>
            <a:ext cx="432108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ffffff"/>
                </a:solidFill>
                <a:latin typeface="Century Gothic"/>
              </a:rPr>
              <a:t>European Banking Federa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ffffff"/>
                </a:solidFill>
                <a:latin typeface="Century Gothic"/>
              </a:rPr>
              <a:t>Fédération bancaire européenn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6308640"/>
            <a:ext cx="9144000" cy="0"/>
          </a:xfrm>
          <a:prstGeom prst="line">
            <a:avLst/>
          </a:prstGeom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315280" y="6093000"/>
            <a:ext cx="144360" cy="1443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8604360" y="6093000"/>
            <a:ext cx="144360" cy="1443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8891640" y="6093000"/>
            <a:ext cx="144360" cy="1443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images.google.be/imgres?imgurl=http://europa.eu.int/comm/scic/images/berlay_aerial.jpg&amp;imgrefurl=http://europa.eu.int/comm/scic/interpreting/tech_booth_en.htm&amp;h=195&amp;w=294&amp;sz=28&amp;tbnid=fgOhovyRgW8J:&amp;tbnh=73&amp;tbnw=110&amp;start=9&amp;prev=/images%3Fq%3DBERLAYMONT%252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images.google.be/imgres?imgurl=http://userpage.fu-berlin.de/~tmuehle/europa/eu/eu_dat/justus-lipsius_1.jpg&amp;imgrefurl=http://userpage.fu-berlin.de/~tmuehle/europa/eu/inst_ministerrat.htm&amp;h=221&amp;w=376&amp;sz=22&amp;tbnid=_5QyJXPnZT0J:&amp;tbnh=69&amp;tbnw=117&amp;start=6&amp;prev" TargetMode="External"/><Relationship Id="rId4" Type="http://schemas.openxmlformats.org/officeDocument/2006/relationships/image" Target="../media/image6.jpeg"/><Relationship Id="rId5" Type="http://schemas.openxmlformats.org/officeDocument/2006/relationships/hyperlink" Target="http://images.google.be/imgres?imgurl=http://www.labmeps-emids.fsnet.co.uk/ep3.jpg&amp;imgrefurl=http://www.labmeps-emids.fsnet.co.uk/pictures.htm&amp;h=767&amp;w=1208&amp;sz=238&amp;tbnid=Q7SZyG1j73MJ:&amp;tbnh=95&amp;tbnw=149&amp;start=19&amp;prev=/images%3Fq%3DEUROPEAN%2BPARLIAMENT%26hl%3Den%25" TargetMode="External"/><Relationship Id="rId6" Type="http://schemas.openxmlformats.org/officeDocument/2006/relationships/image" Target="../media/image14.jpeg"/><Relationship Id="rId7" Type="http://schemas.openxmlformats.org/officeDocument/2006/relationships/hyperlink" Target="http://www.c-ebs.org/index.htm" TargetMode="External"/><Relationship Id="rId8" Type="http://schemas.openxmlformats.org/officeDocument/2006/relationships/image" Target="../media/image24.png"/><Relationship Id="rId9" Type="http://schemas.openxmlformats.org/officeDocument/2006/relationships/image" Target="../media/image1.png"/><Relationship Id="rId10" Type="http://schemas.openxmlformats.org/officeDocument/2006/relationships/image" Target="../media/image25.jpeg"/><Relationship Id="rId11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google.be/imgres?imgurl=http://www.counton.org/numberland/12/europe.gif&amp;imgrefurl=http://www.counton.org/numberland/12/12.shtml&amp;h=287&amp;w=452&amp;sz=8&amp;tbnid=ltElaBzUZjwJ:&amp;tbnh=78&amp;tbnw=122&amp;start=7&amp;prev=/images%3Fq%3DEUROPEAN%2BFLAG%26hl%3Den%26lr%3D%26s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images.google.be/imgres?imgurl=http://europa.eu.int/comm/scic/images/berlay_aerial.jpg&amp;imgrefurl=http://europa.eu.int/comm/scic/interpreting/tech_booth_en.htm&amp;h=195&amp;w=294&amp;sz=28&amp;tbnid=fgOhovyRgW8J:&amp;tbnh=73&amp;tbnw=110&amp;start=9&amp;prev=/images%3Fq%3DBERLAYMONT%252" TargetMode="Externa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5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google.be/imgres?imgurl=http://www.eusa.org.za/images/EU02small.jpg&amp;imgrefurl=http://www.eusa.org.za/Content/Background/TheInstitutions.html&amp;h=249&amp;w=295&amp;sz=31&amp;tbnid=waMxXr8GkzAJ:&amp;tbnh=93&amp;tbnw=110&amp;start=30&amp;prev=/images%3Fq%3DCOUNCIL%2BOF%2BMINISTE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images.google.be/imgres?imgurl=http://userpage.fu-berlin.de/~tmuehle/europa/eu/eu_dat/justus-lipsius_1.jpg&amp;imgrefurl=http://userpage.fu-berlin.de/~tmuehle/europa/eu/inst_ministerrat.htm&amp;h=221&amp;w=376&amp;sz=22&amp;tbnid=_5QyJXPnZT0J:&amp;tbnh=69&amp;tbnw=117&amp;start=6&amp;prev" TargetMode="External"/><Relationship Id="rId4" Type="http://schemas.openxmlformats.org/officeDocument/2006/relationships/image" Target="../media/image6.jpeg"/><Relationship Id="rId5" Type="http://schemas.openxmlformats.org/officeDocument/2006/relationships/hyperlink" Target="http://images.google.be/imgres?imgurl=http://ue.eu.int/newsroom/eu-council/ireland/pics/jl50.jpg&amp;imgrefurl=http://ue.eu.int/newsroom/eu-council/ireland/index.asp%3Flang%3DES&amp;h=403&amp;w=542&amp;sz=104&amp;tbnid=YAfg5BFABOcJ:&amp;tbnh=96&amp;tbnw=129&amp;start=3&amp;prev=/images%3Fq%3DJUS" TargetMode="External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google.be/imgres?imgurl=http://www.labmeps-emids.fsnet.co.uk/ep3.jpg&amp;imgrefurl=http://www.labmeps-emids.fsnet.co.uk/pictures.htm&amp;h=767&amp;w=1208&amp;sz=238&amp;tbnid=Q7SZyG1j73MJ:&amp;tbnh=95&amp;tbnw=149&amp;start=19&amp;prev=/images%3Fq%3DEUROPEAN%2BPARLIAMENT%26hl%3Den%25" TargetMode="External"/><Relationship Id="rId2" Type="http://schemas.openxmlformats.org/officeDocument/2006/relationships/image" Target="../media/image14.jpeg"/><Relationship Id="rId3" Type="http://schemas.openxmlformats.org/officeDocument/2006/relationships/hyperlink" Target="http://images.google.be/imgres?imgurl=http://europa.eu.int/comm/commissioners/diamantopoulou/photos/ad111103_2.jpg&amp;imgrefurl=http://europa.eu.int/comm/commissioners/diamantopoulou/news_en.html&amp;h=480&amp;w=640&amp;sz=119&amp;tbnid=hA6RgX4FF7YJ:&amp;tbnh=101&amp;tbnw=134&amp;start=24&amp;p" TargetMode="External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epp-ed.org/" TargetMode="External"/><Relationship Id="rId2" Type="http://schemas.openxmlformats.org/officeDocument/2006/relationships/image" Target="../media/image16.png"/><Relationship Id="rId3" Type="http://schemas.openxmlformats.org/officeDocument/2006/relationships/hyperlink" Target="http://www.socialistgroup.org/" TargetMode="External"/><Relationship Id="rId4" Type="http://schemas.openxmlformats.org/officeDocument/2006/relationships/image" Target="../media/image17.png"/><Relationship Id="rId5" Type="http://schemas.openxmlformats.org/officeDocument/2006/relationships/hyperlink" Target="http://eld.europarl.eu.int/" TargetMode="External"/><Relationship Id="rId6" Type="http://schemas.openxmlformats.org/officeDocument/2006/relationships/image" Target="../media/image18.png"/><Relationship Id="rId7" Type="http://schemas.openxmlformats.org/officeDocument/2006/relationships/hyperlink" Target="http://www.greens-efa.org/" TargetMode="External"/><Relationship Id="rId8" Type="http://schemas.openxmlformats.org/officeDocument/2006/relationships/image" Target="../media/image19.png"/><Relationship Id="rId9" Type="http://schemas.openxmlformats.org/officeDocument/2006/relationships/hyperlink" Target="http://www.europarl.eu.int/gue/" TargetMode="External"/><Relationship Id="rId10" Type="http://schemas.openxmlformats.org/officeDocument/2006/relationships/image" Target="../media/image20.png"/><Relationship Id="rId11" Type="http://schemas.openxmlformats.org/officeDocument/2006/relationships/image" Target="../media/image21.png"/><Relationship Id="rId12" Type="http://schemas.openxmlformats.org/officeDocument/2006/relationships/image" Target="../media/image22.png"/><Relationship Id="rId13" Type="http://schemas.openxmlformats.org/officeDocument/2006/relationships/image" Target="../media/image23.png"/><Relationship Id="rId14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4360" y="1341360"/>
            <a:ext cx="777240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OBBYING IN BRUSSELS 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n introduction to the European Institutions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  </a:t>
            </a:r>
            <a:br>
              <a:rPr sz="3200"/>
            </a:b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71640" y="3212640"/>
            <a:ext cx="7681680" cy="25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19</a:t>
            </a:r>
            <a:r>
              <a:rPr b="1" lang="en-GB" sz="2400" spc="-1" strike="noStrike" baseline="30000">
                <a:solidFill>
                  <a:srgbClr val="000099"/>
                </a:solidFill>
                <a:latin typeface="Arial"/>
              </a:rPr>
              <a:t>th</a:t>
            </a: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 MEETING OF THE ASSOCIATE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BRUSSELS, 9 DECEMBER 2004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Stephen Fisher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99"/>
                </a:solidFill>
                <a:latin typeface="Arial"/>
              </a:rPr>
              <a:t>SHAPING THE FUTURE OF EUROPE’S BANKING INDUSTRY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5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12000" y="3933720"/>
            <a:ext cx="1728720" cy="114804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627280" y="2133720"/>
            <a:ext cx="1728720" cy="107928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292720" y="2133720"/>
            <a:ext cx="1692360" cy="107928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cebs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4067280" y="4797360"/>
            <a:ext cx="1152360" cy="93672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2916360" y="2924280"/>
            <a:ext cx="3456000" cy="2016000"/>
          </a:xfrm>
          <a:prstGeom prst="cloudCallout">
            <a:avLst>
              <a:gd name="adj1" fmla="val -45726"/>
              <a:gd name="adj2" fmla="val 50708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9"/>
          <a:stretch/>
        </p:blipFill>
        <p:spPr>
          <a:xfrm>
            <a:off x="3995640" y="3357720"/>
            <a:ext cx="1368360" cy="108900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-324000" y="5013360"/>
            <a:ext cx="356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Our Members and Associ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0"/>
          <a:stretch/>
        </p:blipFill>
        <p:spPr>
          <a:xfrm>
            <a:off x="1835280" y="3573360"/>
            <a:ext cx="1087200" cy="10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99"/>
                </a:solidFill>
                <a:latin typeface="Arial"/>
              </a:rPr>
              <a:t>THE FBE AND ITS KEY INTERLOCUTOR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4000" y="2060640"/>
            <a:ext cx="7902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Focus on the three major institution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The co-decision proces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Successfully influencing the EU legislative proces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End result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99"/>
                </a:solidFill>
                <a:latin typeface="Arial"/>
              </a:rPr>
              <a:t>THE EUROPEAN COMMISSION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Upholds the collective European interes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A politically independent bod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Guardian of the Treatie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Sole right of initiati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25 Commissioners, 36 Directorates General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0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692360" y="4292640"/>
            <a:ext cx="2663640" cy="17287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788000" y="4292640"/>
            <a:ext cx="2663640" cy="1768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99"/>
                </a:solidFill>
                <a:latin typeface="Arial"/>
              </a:rPr>
              <a:t>THE KEY DIRECTORATES GENERA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DG Internal Market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DG Enterprise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DG Competition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DG Health and Consumer Protection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COUNCIL OF THE EUROPEAN UNION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71280" y="357336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Representing Member State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Main legislative and decision making body in the EU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Rotating Presidenc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Role for Permanent Representative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Co-legislator (with the European Parliament) in financial services dossier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1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516720" y="1916280"/>
            <a:ext cx="2303280" cy="136836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492360" y="1916280"/>
            <a:ext cx="2448000" cy="14428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95280" y="1916280"/>
            <a:ext cx="2448000" cy="14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99"/>
                </a:solidFill>
                <a:latin typeface="Arial"/>
              </a:rPr>
              <a:t>VOTING &amp; THE PRESIDENCIE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The big – e.g. Germany 29 vote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The medium – e.g. Belgium 12 vote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The small – e.g. Malta 3 vote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The Presidencie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611280" y="5300640"/>
            <a:ext cx="1036440" cy="57636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1763640" y="5300640"/>
            <a:ext cx="1008000" cy="5763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3492360" y="5300640"/>
            <a:ext cx="1008360" cy="5605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4"/>
          <a:stretch/>
        </p:blipFill>
        <p:spPr>
          <a:xfrm>
            <a:off x="4572000" y="5300640"/>
            <a:ext cx="1079640" cy="5731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5"/>
          <a:stretch/>
        </p:blipFill>
        <p:spPr>
          <a:xfrm>
            <a:off x="6300720" y="5300640"/>
            <a:ext cx="935280" cy="57636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6"/>
          <a:stretch/>
        </p:blipFill>
        <p:spPr>
          <a:xfrm>
            <a:off x="7308720" y="5300640"/>
            <a:ext cx="935280" cy="57312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1406160" y="486900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Arial"/>
              </a:rPr>
              <a:t>20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214520" y="486900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Arial"/>
              </a:rPr>
              <a:t>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951240" y="494172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Arial"/>
              </a:rPr>
              <a:t>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99"/>
                </a:solidFill>
                <a:latin typeface="Arial"/>
              </a:rPr>
              <a:t>THE EUROPEAN PARLIAMENT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Representing the citizens of Europ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Directly elected to seven political group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Plenary sessions in Brussels and Strasbourg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EU’s primary debating chamber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Co-legislator (with the Council) in financial services dossiers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47640" y="4365720"/>
            <a:ext cx="2664000" cy="16984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716360" y="4365720"/>
            <a:ext cx="266400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99"/>
                </a:solidFill>
                <a:latin typeface="Arial"/>
              </a:rPr>
              <a:t>THE POLITICAL GROUPING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9" name="" descr="PPE-D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236000" y="3068640"/>
            <a:ext cx="847440" cy="80964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PS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476360" y="3789360"/>
            <a:ext cx="828720" cy="80028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ALDE/ADLE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788000" y="1844640"/>
            <a:ext cx="857160" cy="74304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Vert/ALE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1763640" y="5013360"/>
            <a:ext cx="857160" cy="80964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GUE/NGL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1835280" y="2708280"/>
            <a:ext cx="847440" cy="7999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IND/DEM"/>
          <p:cNvPicPr/>
          <p:nvPr/>
        </p:nvPicPr>
        <p:blipFill>
          <a:blip r:embed="rId11"/>
          <a:stretch/>
        </p:blipFill>
        <p:spPr>
          <a:xfrm>
            <a:off x="2843280" y="1916280"/>
            <a:ext cx="571320" cy="57132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UEN"/>
          <p:cNvPicPr/>
          <p:nvPr/>
        </p:nvPicPr>
        <p:blipFill>
          <a:blip r:embed="rId12"/>
          <a:stretch/>
        </p:blipFill>
        <p:spPr>
          <a:xfrm>
            <a:off x="7020000" y="4581360"/>
            <a:ext cx="857160" cy="80028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Seats in the EP"/>
          <p:cNvPicPr/>
          <p:nvPr/>
        </p:nvPicPr>
        <p:blipFill>
          <a:blip r:embed="rId13"/>
          <a:stretch/>
        </p:blipFill>
        <p:spPr>
          <a:xfrm>
            <a:off x="2627280" y="2565360"/>
            <a:ext cx="4419720" cy="321012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4356000" y="5516640"/>
            <a:ext cx="1295640" cy="217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99"/>
                </a:solidFill>
                <a:latin typeface="Arial"/>
              </a:rPr>
              <a:t>THE INSTITUTIONAL TRIANGLE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692360" y="3933720"/>
            <a:ext cx="3097080" cy="1800360"/>
          </a:xfrm>
          <a:prstGeom prst="triangle">
            <a:avLst>
              <a:gd name="adj" fmla="val 50000"/>
            </a:avLst>
          </a:prstGeom>
          <a:solidFill>
            <a:srgbClr val="2a0d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Counc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859280" y="3933720"/>
            <a:ext cx="3097440" cy="1800360"/>
          </a:xfrm>
          <a:prstGeom prst="triangle">
            <a:avLst>
              <a:gd name="adj" fmla="val 50000"/>
            </a:avLst>
          </a:prstGeom>
          <a:solidFill>
            <a:srgbClr val="2a0d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Parlia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276720" y="2133720"/>
            <a:ext cx="3097080" cy="1800000"/>
          </a:xfrm>
          <a:prstGeom prst="triangle">
            <a:avLst>
              <a:gd name="adj" fmla="val 50000"/>
            </a:avLst>
          </a:prstGeom>
          <a:solidFill>
            <a:srgbClr val="2a0d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Commi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rot="19158000">
            <a:off x="6732720" y="2781000"/>
            <a:ext cx="1439640" cy="2087640"/>
          </a:xfrm>
          <a:custGeom>
            <a:avLst/>
            <a:gdLst>
              <a:gd name="textAreaLeft" fmla="*/ 192600 w 1439640"/>
              <a:gd name="textAreaRight" fmla="*/ 1247040 w 1439640"/>
              <a:gd name="textAreaTop" fmla="*/ 365400 h 2087640"/>
              <a:gd name="textAreaBottom" fmla="*/ 1513800 h 208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rot="2008800">
            <a:off x="1042560" y="2852280"/>
            <a:ext cx="1800360" cy="1863720"/>
          </a:xfrm>
          <a:custGeom>
            <a:avLst/>
            <a:gdLst>
              <a:gd name="textAreaLeft" fmla="*/ 241200 w 1800360"/>
              <a:gd name="textAreaRight" fmla="*/ 1559160 w 1800360"/>
              <a:gd name="textAreaTop" fmla="*/ 326160 h 1863720"/>
              <a:gd name="textAreaBottom" fmla="*/ 1351440 h 1863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rot="16200000">
            <a:off x="4283640" y="4221360"/>
            <a:ext cx="1081080" cy="936720"/>
          </a:xfrm>
          <a:prstGeom prst="rightArrowCallout">
            <a:avLst>
              <a:gd name="adj1" fmla="val 25002"/>
              <a:gd name="adj2" fmla="val 25000"/>
              <a:gd name="adj3" fmla="val 19235"/>
              <a:gd name="adj4" fmla="val 66667"/>
            </a:avLst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541880" y="2637000"/>
            <a:ext cx="241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3399"/>
                </a:solidFill>
                <a:latin typeface="Arial"/>
              </a:rPr>
              <a:t>Commission proposes legis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574240" y="2637000"/>
            <a:ext cx="241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3399"/>
                </a:solidFill>
                <a:latin typeface="Arial"/>
              </a:rPr>
              <a:t>Commission proposes legis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354920" y="4724280"/>
            <a:ext cx="98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3399"/>
                </a:solidFill>
                <a:latin typeface="Arial"/>
              </a:rPr>
              <a:t>Co-deci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125160" y="3933720"/>
            <a:ext cx="3495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3399"/>
                </a:solidFill>
                <a:latin typeface="Arial"/>
              </a:rPr>
              <a:t>Commission acts as the Guardian of the Trea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30T10:08:06Z</dcterms:created>
  <dc:creator>Johnson</dc:creator>
  <dc:description/>
  <dc:language>en-US</dc:language>
  <cp:lastModifiedBy>AlparslanM</cp:lastModifiedBy>
  <dcterms:modified xsi:type="dcterms:W3CDTF">2004-12-15T13:57:58Z</dcterms:modified>
  <cp:revision>46</cp:revision>
  <dc:subject/>
  <dc:title> CAPITAL REQUIREMENTS DIRECTIVE: OPPORTUNITIES AND CHALLENGES</dc:title>
</cp:coreProperties>
</file>