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CF6BA-7FF0-40B8-B09B-C76B875B3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7BADF-6B5B-42EE-AE8A-D8C05732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C998E-8216-4069-BE43-5C27C543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9BCDC-AC13-4998-AD3B-E25AADBD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6E9CC-D4ED-452C-84CC-795486A2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1D29F-AD0C-4E5A-B2AF-AEAB5ACE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C9203-C4CD-44F4-8277-B9F2EEBD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040D4-79B8-45EF-BAD2-018CB0AF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28A60-F91C-4EFC-8335-4C5C8C78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82274-7D4D-42F1-8DCE-E0727D42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69B59-78C4-4741-88E3-7400D77F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888A8-99E9-48DA-AD6F-81117494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229FB-CE29-4549-9B90-FE356279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F42041-C320-48EE-A7D1-E90F946BFD93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0FB4BE0-9279-42C6-9B3F-148EEF42DF6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I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610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CBA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000" y="1955880"/>
            <a:ext cx="820908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remely active role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ensive media coverage (reduc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questions to banks ended up with us - coordinating respon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BA “vademecum” since February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ddition, coordination of CRD, PSD, CCD transposition and many more..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436760"/>
            <a:ext cx="82087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44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131 - “value” close to €240K (2009-53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21 presences - “value” above €500K (2009-13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22, additional web port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8% “neutral”, 2% “positiv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28680" y="198576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eems we survived the first wave......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Good luck and thank you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2120" y="3794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eal GDP growth r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nnual growth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NB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, national statistical off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with final annual calculation of the 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987480"/>
            <a:ext cx="3780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880" y="521964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7280" y="2422440"/>
            <a:ext cx="4175280" cy="258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2411280"/>
            <a:ext cx="3959280" cy="2605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40360" y="988920"/>
            <a:ext cx="3862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verage lending interest 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9892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1068120"/>
            <a:ext cx="3598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ent account deficit and FDI inflows in Croat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3760" y="2987640"/>
            <a:ext cx="404316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0000" y="3005280"/>
            <a:ext cx="3924360" cy="248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32480" y="1438200"/>
            <a:ext cx="4187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External debt by deb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82920" y="54007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590040"/>
            <a:ext cx="3827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Total assets of all bank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0360" y="2340000"/>
            <a:ext cx="401652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88000" y="2340000"/>
            <a:ext cx="3992400" cy="25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0000" y="1035000"/>
            <a:ext cx="4367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pital adequacy of ban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075280"/>
            <a:ext cx="4103640" cy="3070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gulatory capital</a:t>
            </a:r>
            <a:r>
              <a:rPr b="0" lang="hr-HR" sz="1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otal exposure to risk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54784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9880" y="723960"/>
            <a:ext cx="3078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A and 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0120" y="2421000"/>
            <a:ext cx="4168800" cy="258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26080" y="2441520"/>
            <a:ext cx="4093920" cy="2543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19640" y="1106640"/>
            <a:ext cx="472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assification of placements</a:t>
            </a:r>
            <a:r>
              <a:rPr b="0" lang="hr-HR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conting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monetary authoritie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796760"/>
            <a:ext cx="82087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argeted to public sector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rolled exchange rate and liquidity on open market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10 – further relaxation of reserve requirement – targeted to increase credit availability through government plan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aintained stable exchange rate and low inflation in spite of the pressur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inuously called on structural reforms and fiscal response to monetary mov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government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0000" y="1800000"/>
            <a:ext cx="82090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ognized recession 6 months l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balanced the budget 3 times – from March to Jul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roduced “crisis tax” and increased VAT by 1%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750 mill € bonds in Ma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1,5 bill $ bonds in October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d 2009 – announced several models to increase lending/decrease interest ra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ril 2010 – announced a complete, hopefully more concrete plan to make necessary reforms and fiscal adjust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49360"/>
            <a:ext cx="86374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bank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87640"/>
            <a:ext cx="8208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like some other countries – banks helped bail out the government – 2,8 bln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squeezing out of private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intained reasonable credit activ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ndicated loan to government – 750 mill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aised interest ra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price (due to risk) on international marke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competition on domestic mark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ccessfully avoided financial crisis, but risks lie in real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10-05-26T10:22:12Z</dcterms:modified>
  <cp:revision>75</cp:revision>
  <dc:subject/>
  <dc:title>KREDITNI REGISTAR KAO INSTITUCIJA RAZVIJENOG FINANCIJSKOG TRŽIŠ</dc:title>
</cp:coreProperties>
</file>