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746875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464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382068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07560" y="739800"/>
            <a:ext cx="49294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-360" y="936288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3820680" y="936288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B11D-9B9B-4209-AA9C-36570B21DC44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854C-2ACE-4EF8-B8A5-6DEEA32EA988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5AB3-909D-4F33-9618-F82F419FE818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00C2-15E0-4312-B7D9-1DDF9BC47931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42B0-96BA-497E-B862-964804D57B42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55B-6CA2-4F4C-A33C-7C49193F230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8E18-B39B-4DE4-A0AC-35CDFA168245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5881-1CB4-46E9-9CB0-12FF9D409B01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1CA3-A614-43C3-9178-487508DDC0A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B547-C0F6-4ED7-A9E0-AE63CCFA0218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F898-0466-4A2C-A14D-5944FE332BDC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9DC4-F136-4C38-8C7C-610045E3AB23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80D3-6F60-4FD8-AF41-802DE08E6EF5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28E0-662C-4663-847A-C065581DCD4C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FE11-8742-4C7D-B793-F3D38BB9900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7C2D-B81F-4B5F-B78F-DEB764315F50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7ABE-A9BC-4879-80A7-D493EFD91F75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A77B-DA35-4C0B-A4E8-2D12837C6824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EB70-6EA2-4076-8575-A959E82E8182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4F3E-A49D-4DB4-A1B3-9DD20E1E95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7D37C-7EE0-42EE-9212-7B4FC3FD28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AC70-975F-49C2-BDD1-D1822FC7FF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C2CC-3DC1-4896-8713-6C9C69805D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CCAE-8B1D-4C9F-99EE-9DDBDCDAE7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FCC8-D91A-4939-BFF9-FC8728BA83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CAEE4-C202-40C0-85AE-0B34E282C7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2F830-1AB8-42EA-B623-57D02BD962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34A65-34D2-440D-AB10-C52465EC63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54A7-E14C-4800-B08D-E1A92C31A3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1A69-F4D7-4307-9FBE-FF4312AD21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51E38-46F3-4685-9DDE-BDE0D8EC2D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6E6D1-16C6-4690-A92F-6BEE0590B0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E518B-5842-4A2D-AC9E-2958B76448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08ED0-5AF5-4658-ADA0-7148709A7D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7493F-EAD5-42E2-8C2F-3919775452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A0433-0314-4D92-9C07-299921E77D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55A9E-1B13-4705-93CF-DBF8621906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F24EE-7480-467D-97D8-07DD7F7351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C9755-A9D0-471A-B14D-2806FD7A58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B3DAB-5AA5-40C6-B755-2DF9845F95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D4740-7527-4199-B29E-80F1DD5201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F995C-80FA-4D59-9FE0-223008F1F9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0A1CA-FBB4-4445-B803-5B8E1F76AD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0C28-9416-49DB-8FF1-1547C2FFF0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D5C1-8552-47B6-A6C4-C65DB0F20F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044C-A54E-45DF-B66E-E3E56249F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0902-1E63-4A5A-991E-301B497389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610C-5C86-4FD9-AB6E-EA2A2144F9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558F-2493-4637-BE44-261EFABA0F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0776-F779-4699-A547-92FBBF009D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21DF-B80A-464D-84E0-98CE6EE652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FDF7-B707-4910-B540-F6FC5F19B0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3B36-F8A4-4ED4-A2D4-6BD66D6D29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45D3-374E-4FEE-97AD-25144902CC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9780-10B7-48AD-9B72-659C6BCC8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9" descr="logoen2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10764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logoen2"/>
          <p:cNvPicPr/>
          <p:nvPr/>
        </p:nvPicPr>
        <p:blipFill>
          <a:blip r:embed="rId3"/>
          <a:stretch/>
        </p:blipFill>
        <p:spPr>
          <a:xfrm>
            <a:off x="8310600" y="6021360"/>
            <a:ext cx="83340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D313-9424-4C82-AF90-31B6DD2140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logoen2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3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AB79-4338-46B7-82DE-ABC40E0786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logoen2"/>
          <p:cNvPicPr/>
          <p:nvPr/>
        </p:nvPicPr>
        <p:blipFill>
          <a:blip r:embed="rId3"/>
          <a:stretch/>
        </p:blipFill>
        <p:spPr>
          <a:xfrm>
            <a:off x="8310600" y="6021360"/>
            <a:ext cx="833400" cy="836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10764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9339-A9FA-41CF-A346-7B0A812543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32860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in economy and banking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in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İstanb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May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22960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516720" y="6381720"/>
            <a:ext cx="826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8317080" y="6524640"/>
            <a:ext cx="826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36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Higher capital flows </a:t>
            </a:r>
            <a:br>
              <a:rPr sz="2800"/>
            </a:b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with dramatic change i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88120" cy="403236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5CEC-FF97-435A-8784-719CED5121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36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Lower Government external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0B02-ECD2-4108-89E4-B01B6ABD4E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255080" cy="424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694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TL began to apriciate in 2012 again, </a:t>
            </a:r>
            <a:br>
              <a:rPr sz="2800"/>
            </a:b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following a rapid depreciation in 20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84D0-2308-4508-8BF1-52413D2F89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00720" cy="38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Lower public sector borrowing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655C-1CD9-455C-8FA6-1FF5772C57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32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694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Rapid disinflation: </a:t>
            </a:r>
            <a:br>
              <a:rPr sz="2800"/>
            </a:b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lowest during free market econom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ic reg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60FE-AF54-45CB-891E-2786340F8EA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92800" cy="403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12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Less crowding out, more loans to privat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0FF0-CAC4-4898-8D3A-4139359EE1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32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95280" y="198900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66"/>
                </a:solidFill>
                <a:latin typeface="Arial"/>
              </a:rPr>
              <a:t>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618E-7ED4-4201-AAD0-02887F233F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2440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Financial sector;supervision and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230B-218B-4D7F-B544-3E27E08314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0" descr=""/>
          <p:cNvPicPr/>
          <p:nvPr/>
        </p:nvPicPr>
        <p:blipFill>
          <a:blip r:embed="rId1"/>
          <a:stretch/>
        </p:blipFill>
        <p:spPr>
          <a:xfrm>
            <a:off x="1030320" y="1062000"/>
            <a:ext cx="708192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Banks b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7248-ADE1-40EF-B714-3029BA0951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88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360" y="-3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Foreign owned-banks’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9A82-78CC-4FE9-B111-8073BFBF74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223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126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39640" y="1773360"/>
            <a:ext cx="81360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Economic features and environme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Near-term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CE47-4878-4FE8-80BF-9D0B585B94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The largest ten account for 87% of tot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56AE-1626-4EE2-A85E-C61DC23F02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Rapid growth in banking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80280" cy="410544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00CB-E201-4B47-9D39-AA7666BF9E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Remarkable resilience to global cri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761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No “high risky”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Small investments in housing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Well-diversified lending portfolio, mainly to private sector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G-secu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igh-capital adequacy level with 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igh-liquid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No change in deposit-quaranty limit, current level is TL 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No financial support form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Banking sector has kept financing economic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Decrease in NPLs following a slight rise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The years of 2009, 2010, 2011; became most profitabl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Efficent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0EA1-B658-4218-B511-1B064EB2E2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Dramatic change in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6719-C980-4FD9-9A45-38E0C27892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010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Strong deposit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863A-3FAF-4BAC-99DC-19303BFEB3E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Strong lending grow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9145-608C-414F-A6AF-F8FBE727E1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Lending to consumer’s share has r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52C6-771C-49DD-8447-BF9931B7C00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NPLs have remanied at  a rather low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976320" y="1700280"/>
            <a:ext cx="7213680" cy="3744720"/>
          </a:xfrm>
          <a:prstGeom prst="rect">
            <a:avLst/>
          </a:prstGeom>
          <a:ln w="0">
            <a:noFill/>
          </a:ln>
        </p:spPr>
      </p:pic>
      <p:sp>
        <p:nvSpPr>
          <p:cNvPr id="275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8959-7AE5-4CD5-A3FA-88C6163091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Stronger shareholders’ equity; </a:t>
            </a:r>
            <a:br>
              <a:rPr sz="2800"/>
            </a:b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enabled the banking sector to change its risk structu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84880" cy="4176720"/>
          </a:xfrm>
          <a:prstGeom prst="rect">
            <a:avLst/>
          </a:prstGeom>
          <a:ln w="0">
            <a:noFill/>
          </a:ln>
        </p:spPr>
      </p:pic>
      <p:sp>
        <p:nvSpPr>
          <p:cNvPr id="279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A7E5-3C10-45A7-8A15-9B370D8FA2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ROE exceeded interest on G-securities aft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78760" cy="4032360"/>
          </a:xfrm>
          <a:prstGeom prst="rect">
            <a:avLst/>
          </a:prstGeom>
          <a:ln w="0">
            <a:noFill/>
          </a:ln>
        </p:spPr>
      </p:pic>
      <p:sp>
        <p:nvSpPr>
          <p:cNvPr id="283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7437-FF84-4264-A2E3-EBFBDAE24A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95280" y="198900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66"/>
                </a:solidFill>
                <a:latin typeface="Arial"/>
              </a:rPr>
              <a:t>Economic features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9E82-DDA6-4767-8C6F-D26B0148B3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Financial institutions have a share of 32 percent recently in total market capi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2FB3-AB5F-417C-9C21-9BBC9E5F18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35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High growth pota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CBE6-02D4-4178-9DFD-8B86771E25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7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Compared with the EU fig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A131-8975-40EB-AC3A-B5497EFBFC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6" descr=""/>
          <p:cNvPicPr/>
          <p:nvPr/>
        </p:nvPicPr>
        <p:blipFill>
          <a:blip r:embed="rId1"/>
          <a:stretch/>
        </p:blipFill>
        <p:spPr>
          <a:xfrm>
            <a:off x="1095480" y="1341360"/>
            <a:ext cx="72961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4"/>
          <p:cNvSpPr/>
          <p:nvPr/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Assets to grow faster than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74CC-C32B-4991-9E87-DD469AAD3F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1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Leading to larger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431E-096D-415D-8312-FAC039C965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D480-5A07-4FA9-B097-40BDC5EFA1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900000" y="1268280"/>
            <a:ext cx="770436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and deeper financial marke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asures to encourage domestic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ening the maturities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of deposits and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nding to 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ntense competition in retai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etter risk management and risk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 earnings to feed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ine in margin with widening business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clim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foreign inv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0" y="-19080"/>
            <a:ext cx="9144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xpect</a:t>
            </a: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ations for th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near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0" y="2492280"/>
            <a:ext cx="914400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66"/>
                </a:solidFill>
                <a:latin typeface="Arial"/>
              </a:rPr>
              <a:t>Thank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1F32-272C-4804-B1BD-7CD037B142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Member of G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CDCF-0FD0-4D06-8263-59D86448C6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1042920" y="1268280"/>
            <a:ext cx="712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key 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a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functioning market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conomy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pital flows are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fre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there is no exchange rate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restri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residents and non-resid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Central Bank has been implementing a formal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inflation-targeting framework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under a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floating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hange rate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vereign credit rating, currently is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B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with ‘stable commen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ng term average growth rate is about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4.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cent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NP is about USD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770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ill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7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th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rgest in the world,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6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the EU;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2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the region after Russi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Open economy and young population</a:t>
            </a:r>
            <a:r>
              <a:rPr b="1" lang="tr-TR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41F3-1AA0-4B18-81E5-B46BECC6CC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971640" y="1179360"/>
            <a:ext cx="712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Income per capita is around USD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10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s and industry have shares of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cent and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cent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Foreign trade volume to G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 is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about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48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per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lmost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half of Turkey's total trade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is with the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EU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In terms of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total assets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of banks, Turkey is ranked the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15th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in the E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Population is about 74 million in which the group of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15-64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age has a share of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65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perc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Unemployment rate is about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10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percent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, rec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High and rather stable grow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2C3A-6400-4B35-994A-54D26C874A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430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Steady increase in income per ca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613B-EE8B-4266-832A-D855125751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062840" cy="410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Decline in savings ratio in privat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91360" cy="4248360"/>
          </a:xfrm>
          <a:prstGeom prst="rect">
            <a:avLst/>
          </a:prstGeom>
          <a:ln w="0">
            <a:noFill/>
          </a:ln>
        </p:spPr>
      </p:pic>
      <p:sp>
        <p:nvSpPr>
          <p:cNvPr id="200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2579-17D1-42DE-B3F7-5DDE39FFD5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6944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New measures are likely to narrow savings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084800" cy="4176720"/>
          </a:xfrm>
          <a:prstGeom prst="rect">
            <a:avLst/>
          </a:prstGeom>
          <a:ln w="0">
            <a:noFill/>
          </a:ln>
        </p:spPr>
      </p:pic>
      <p:sp>
        <p:nvSpPr>
          <p:cNvPr id="204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94A2-AA03-42AD-B888-DAEC68F600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4:56:17Z</dcterms:created>
  <dc:creator>KeskinE</dc:creator>
  <dc:description/>
  <dc:language>en-US</dc:language>
  <cp:lastModifiedBy>keskine</cp:lastModifiedBy>
  <cp:lastPrinted>2012-04-30T13:37:08Z</cp:lastPrinted>
  <dcterms:modified xsi:type="dcterms:W3CDTF">2012-05-07T10:11:39Z</dcterms:modified>
  <cp:revision>703</cp:revision>
  <dc:subject/>
  <dc:title>No Slide Title</dc:title>
</cp:coreProperties>
</file>