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2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C589C2-8069-4D13-925C-642AE8371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838349-4A71-44E2-A02A-E42935D7A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4E298C-DC66-4EEA-8BD9-E1EBEB154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21C74E-8809-4B43-8ABA-B947E3C80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3F3E96-FC4B-4119-9D85-DBFCB5E0C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D5D3F6-25C7-46C9-A9F9-405F1730B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F9EC2C-9BC3-485E-9602-A8966EF7A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EE7DFD-14F5-4B96-ABCD-DF4BD6042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D33E6D-D9EC-4D07-B778-D723AADFB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BDF032-8B72-4DE7-8F4F-267C06690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625490-E491-4A58-AD6C-3E59068E2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2117AE-8DD2-4827-BA46-44E79CB2D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084EFD-B983-4855-9956-9435A6A76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6ABA1D-64FC-45F1-BD30-901FEDEE1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E15AF9-D599-4245-ABD0-C81D9E540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8BD6A9-1541-4533-9CFE-020462D3F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57EE7C-D6A6-47DD-B9A8-90A991351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DEEE77-DCF1-4E8D-A964-54DD4B4D8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A246E3-8D47-49E3-B740-6B08A67E9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19BDF8-B583-4628-9555-302A69BB7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1A780E-4662-44CF-A902-72B8CB642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DF1574-900B-4537-B649-EF07E8068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8B1A51-BC57-4C62-98D3-BC3E8D832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D68550-4960-48DA-BE01-ACA30C320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FA7833-51A5-4698-8912-9DDE32FDA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F11C4E-9D87-4D5B-849F-BCA0BD9B6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12774A-006D-4A32-94D8-C0BCB600B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DA8CF4-242D-491A-BB90-4C40A76B9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37BD4D-CF08-4F1C-B8E9-9EA83A9F8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22EE11-A5E4-4751-B676-02EC34803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B02135-A770-4572-A2AC-504B3BFE3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208036-DE97-4197-B654-689B2D39B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248A05-0296-4198-82AB-27268A4BB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3D3D92-EE0C-4A5D-9C8A-6829D2908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5BC14F-1560-48B0-8DB9-AFB87C8F6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1D20DE-FA86-4488-BDD5-A23A7A083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E06C07-B2C9-405D-98B3-8D34E43DA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68CECA-35ED-4C7C-9373-5AC0C8D98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1343F-A902-458C-917A-ADF26137FC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54A4B-6BB2-4987-8223-E465AFB886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29B48-7C29-4D0E-B53E-55028D5A5E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F119A-CB64-4CEE-8C35-392373A532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7F69-CF39-450B-A812-4EBF79B8F6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DAAA4-DF54-4498-ACC2-49403EDFC3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3E4E-B2F2-43C7-8D65-2F73D58FB8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7C99E-BDF9-431D-A8A9-8159FEF015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49B5F-4F3D-4587-8D96-74BB5EE185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FF73-2919-43E6-BE29-813C55E40A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34B03-1DE3-4159-BC2E-DC0C61788F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8259A-26D5-40CD-B94A-72EF605009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logotr2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F95F-C26F-4206-A6D9-0DE7570CB26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logotr2"/>
          <p:cNvPicPr/>
          <p:nvPr/>
        </p:nvPicPr>
        <p:blipFill>
          <a:blip r:embed="rId3"/>
          <a:stretch/>
        </p:blipFill>
        <p:spPr>
          <a:xfrm>
            <a:off x="8321760" y="6021360"/>
            <a:ext cx="82224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9"/>
          <p:cNvSpPr/>
          <p:nvPr/>
        </p:nvSpPr>
        <p:spPr>
          <a:xfrm>
            <a:off x="20520" y="3198960"/>
            <a:ext cx="914400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Ekonomide ve Bankacılık Sektörü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Gelişm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Hüseyin Aydı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Yönetim Kurulu Başkan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Mayı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E098-ADEC-4CEE-ADC8-7D3859006DA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0" y="33480"/>
            <a:ext cx="8893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roje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08000" y="1338120"/>
            <a:ext cx="70596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4D0D-5C8B-4AF2-A560-9C2CE5F0A09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 kalite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302400" y="45925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-28440" y="1297080"/>
            <a:ext cx="4600440" cy="285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" descr=""/>
          <p:cNvPicPr/>
          <p:nvPr/>
        </p:nvPicPr>
        <p:blipFill>
          <a:blip r:embed="rId2"/>
          <a:stretch/>
        </p:blipFill>
        <p:spPr>
          <a:xfrm>
            <a:off x="4560840" y="1297080"/>
            <a:ext cx="4583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19C4-A720-4AC5-A9E8-7760560A3A7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pılandırılan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200" y="1268280"/>
            <a:ext cx="4546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, bölgesel veya jeopolitik nedenler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fon akımı bozu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ireysel ve kurum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sa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l müşterile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rekli kolaylıklar sağlanmaktadı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ca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mali durumu sürekli sorunlu ve iyileşemeyecek müşteriler için kurallar uygulanmakta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4597560" y="1700280"/>
            <a:ext cx="4565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E631-B651-4956-AC41-6B002899EBE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56320" y="46339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0" y="0"/>
            <a:ext cx="91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Mevduat daha sınırl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4575240" cy="288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4610160" y="1268280"/>
            <a:ext cx="4568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06D7-EFA9-4FAB-9854-BE99AC7EEB4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Mevduat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seyri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400680" y="56149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552920" y="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üyüme farkı azal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"/>
          <p:cNvPicPr/>
          <p:nvPr/>
        </p:nvPicPr>
        <p:blipFill>
          <a:blip r:embed="rId1"/>
          <a:stretch/>
        </p:blipFill>
        <p:spPr>
          <a:xfrm>
            <a:off x="0" y="1365120"/>
            <a:ext cx="4560840" cy="2711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"/>
          <p:cNvPicPr/>
          <p:nvPr/>
        </p:nvPicPr>
        <p:blipFill>
          <a:blip r:embed="rId2"/>
          <a:stretch/>
        </p:blipFill>
        <p:spPr>
          <a:xfrm>
            <a:off x="4560840" y="1309680"/>
            <a:ext cx="45831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4878-FFA6-4386-A64D-2F41405AB87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4551840" y="4635360"/>
            <a:ext cx="30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zine Müsteşarlığı, BDDK,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10160" y="0"/>
            <a:ext cx="45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TL kredi büyümesin</a:t>
            </a: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in üçte biri Hazine itfası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Mevduat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oranı düşü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43560" y="1266840"/>
            <a:ext cx="4600440" cy="2954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0" y="1266840"/>
            <a:ext cx="4572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EC98-5306-4141-BA58-52FBD0596DD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610160" y="0"/>
            <a:ext cx="45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Yurtdışı finansman önem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Mevduat dışı kaynakların sey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4594320" y="1281240"/>
            <a:ext cx="4576680" cy="286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0" y="1281240"/>
            <a:ext cx="45943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B18C-470F-4682-BFAF-C393F4C94C0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bancı para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1440" y="1341360"/>
            <a:ext cx="4559400" cy="2820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4560840" y="1177920"/>
            <a:ext cx="45831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3B84-BB52-4DB1-BAB1-B83CBD85520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 büyümesi yavaşlad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-20520" y="1268280"/>
            <a:ext cx="4592520" cy="295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2"/>
          <a:stretch/>
        </p:blipFill>
        <p:spPr>
          <a:xfrm>
            <a:off x="4579920" y="1247760"/>
            <a:ext cx="4564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3952-8B85-4206-BD7B-DC613C13F09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 yeterlil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-11160" y="1260360"/>
            <a:ext cx="4572000" cy="293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4560840" y="1260360"/>
            <a:ext cx="458316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C49C-B57F-4F5F-BB97-08A7E17753B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onuşmanın içer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270080"/>
            <a:ext cx="840744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Dünyada ve Türkiye’de ekonomik gelişme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nkacılık sektöründeki gelişme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 ve sektörün talep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8433-4B48-4A68-8C91-09A58F732F0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Fiili sermaye yeterliliği yüzde 13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1225440"/>
            <a:ext cx="6084720" cy="3989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084360" y="1017720"/>
            <a:ext cx="30229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Mevcut eğil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evam eder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2018’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fiili sınıra ulaşıl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 d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kredi büyü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vaşlay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5028-294C-4AB3-9EEB-268538553C1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07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 sınırlandıran neden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240" y="1017720"/>
            <a:ext cx="456876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ade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piyasalardaki dalgalanmaları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neden olduğu riskler vey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yönetim kararları değild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570560" y="1017720"/>
            <a:ext cx="456876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üzenleme değişiklikle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Sürdürülebilir karlılığı sınırlandıran yük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Maliyet arttıran ek yük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elir azaltan düzenlem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ri alanlarda cezalandırıcı yaklaşı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Tahsili gecikmiş alacaklarda artı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094C-1F75-4715-9619-9FBD42527A9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 düşerk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4548240" y="0"/>
            <a:ext cx="45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dış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m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rj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katkısı da aza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0" y="1289160"/>
            <a:ext cx="4560840" cy="2860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2"/>
          <a:stretch/>
        </p:blipFill>
        <p:spPr>
          <a:xfrm>
            <a:off x="4572000" y="1316160"/>
            <a:ext cx="45720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5FC6-777D-4406-9D83-ACEAE4D58EA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nın düşmesi beklenen bir du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578480" y="0"/>
            <a:ext cx="453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Risk için ayrılan karş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0" y="1482840"/>
            <a:ext cx="453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Faiz oranları yükselir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sağlıklı ve faize duyarlı müşterilerin kredi talebi azalı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büyüme hızı yava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kredi kalitesi düşe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riskler için karşılıklar arta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4572000" y="1187280"/>
            <a:ext cx="4572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2FF8-8BEB-4E30-9D91-547A044A745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Net özkaynak karlılığı düşü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578480" y="0"/>
            <a:ext cx="45385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Sermayenin getirisi maliyet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-33480" y="1303200"/>
            <a:ext cx="4577040" cy="2846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"/>
          <p:cNvPicPr/>
          <p:nvPr/>
        </p:nvPicPr>
        <p:blipFill>
          <a:blip r:embed="rId2"/>
          <a:stretch/>
        </p:blipFill>
        <p:spPr>
          <a:xfrm>
            <a:off x="4578480" y="1303200"/>
            <a:ext cx="45655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7985-7828-4FA6-AAF8-7886518F399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0"/>
            <a:ext cx="9136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ye sahip çıkma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ekonominin geleceğine sahip çıkmakt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9360" y="1494000"/>
            <a:ext cx="913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Net karın tamamı özkaynağa ekleniyor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krediye ve büyümeye dönüşüy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50920" y="3451320"/>
            <a:ext cx="86421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CBC4-68C7-41D7-81F6-ADAD16A9379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n ön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456876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Kredi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 büyümesinin 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ürdürül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Uluslararası rekabet gücünün art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Şoklara dayanma gücünün korun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ıkılaşan uluslararası kurallara uy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641840" y="1268280"/>
            <a:ext cx="456876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70c0"/>
                </a:solidFill>
                <a:latin typeface="Arial"/>
              </a:rPr>
              <a:t>Özkaynakların güçlendirilmesi gerek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A875-601E-4F31-89E7-99757F037C3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iyasa değ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248040" y="4592520"/>
            <a:ext cx="222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-11160" y="1276200"/>
            <a:ext cx="4583160" cy="2873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4559400" y="1262160"/>
            <a:ext cx="45846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7C66-CCD4-4282-A8CD-95E0501ACF3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83600" y="4581360"/>
            <a:ext cx="184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-3240" y="44280"/>
            <a:ext cx="4568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ankalar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 1’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0" y="1333440"/>
            <a:ext cx="4568760" cy="2857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" descr=""/>
          <p:cNvPicPr/>
          <p:nvPr/>
        </p:nvPicPr>
        <p:blipFill>
          <a:blip r:embed="rId2"/>
          <a:stretch/>
        </p:blipFill>
        <p:spPr>
          <a:xfrm>
            <a:off x="4572000" y="1306440"/>
            <a:ext cx="4572000" cy="2884680"/>
          </a:xfrm>
          <a:prstGeom prst="rect">
            <a:avLst/>
          </a:prstGeom>
          <a:ln w="0">
            <a:noFill/>
          </a:ln>
        </p:spPr>
      </p:pic>
      <p:sp>
        <p:nvSpPr>
          <p:cNvPr id="245" name="Title 1"/>
          <p:cNvSpPr/>
          <p:nvPr/>
        </p:nvSpPr>
        <p:spPr>
          <a:xfrm>
            <a:off x="4575240" y="47520"/>
            <a:ext cx="45687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Karlılık bankalar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ha yüksek değ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4530240" y="4568760"/>
            <a:ext cx="25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İSO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DCE4-3647-4C51-BBF8-A87C92FB610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Düzenlemeler etkili ve maliyet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9880" y="1196640"/>
            <a:ext cx="886284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Gelişmişlik farkı gözetilm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ankaların yapısını, davranışını ve maliyet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şterileri ve ekonomiy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rekli değişiklik uyum sürecini, iş modeller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6E9C-F84A-44BA-A670-5B2484950DD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üresel r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iskler yüksek ve dalgal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40" y="808200"/>
            <a:ext cx="454032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Belirsizlik ve riskler yüksek, risk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iştahı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üyüme ve ticaret hacmi artışı yava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lişmiş ülkelerde farklılaşan para politikas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GOÜ’den s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ermaye 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çıkış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 para ve sermaye piyasaları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Risk primleri yükse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62640" y="692280"/>
            <a:ext cx="45417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573440" y="765000"/>
            <a:ext cx="432144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731E-E05D-484F-8830-828E0F19A72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-74520" y="0"/>
            <a:ext cx="92185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909720"/>
            <a:ext cx="91504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DDK’nın görüşü alınmalı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koordinasyon sağ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Olağanüstü durumlar tanım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sit, uygulanabilir, tutarl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ol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Sektörü büyütmeli, rekabet gücünü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ı güçlendi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Teknolojik ürün ve hizmetleri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4FC4-1969-40AA-A9AF-AE3F81F2B7B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480" y="879480"/>
            <a:ext cx="889632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Alacakların tahsilatını hızlandır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Kredi verme iştahını düşür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Risk yönetiminde rehber olmalı, riskin alınmasına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müdahale et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Risk primini düşü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Güven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sağla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Piyasaları büyütmeli ve derinleştiril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2D34-71E0-4C11-9DBB-8DD2A775AA2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Finansal istikrar ve büyü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şletme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irey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kredi ve bankacılık hiz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taleplerinin karşılanma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finansal istikrarı tanım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Mevcut kredilerin çev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alacakların zamanında tahsil edilmesine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yeni kredilerin ve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ekonomide büyümenin sürekliliğine bağlıd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FFE1-AB07-4E12-A8E5-9056248F390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789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form;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kabet, büyüme ve refah artışı demekt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am makro d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Hızlanan refor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ıklı bankac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Öngörülebilir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üyüme potansiy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efah artış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7E9B-43A3-4AA0-B0B7-5225C5836E0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Ülkemizin geleceğine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inanıyor ve güveniyoru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15840" y="1268280"/>
            <a:ext cx="4556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yimser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eklentilerimiz olum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htiyatlıyı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Gerçekçi bir yaklaşım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iskleri 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fırsatlar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irlik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değerlendiriyor, yönetiyor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C521-406D-4C4A-B55F-8C1D6031F9C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nin geleceğine yatırıma dev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6640" y="942480"/>
            <a:ext cx="8937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İstikrardan ve büyümeden güç alan bankacılı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zorluklara ve giderek sıkılaşan kurallara rağm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htiyatlı bir yaklaşım için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redileri reel olarak arttıra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Türkiye’nin geleceğine yatırım  yapıyor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138C-C123-45C7-A5F2-561B2BA651A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Şükran ve teşekkü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39760" y="836640"/>
            <a:ext cx="43275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ankacılık sektörü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üyüme potansiyel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sağlıklı bilanço yapısı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ürün ve hizmet kalit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yönetim tecrüb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yi eğitimli insan kaynağı 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stikrara ve büyümeye katkı verd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567320" y="836640"/>
            <a:ext cx="45766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Emeği geçen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kişi ve kuruluşlar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banka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sermayedar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yöneticilerimiz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çalışanlarımız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şükranlarımızı sunar</a:t>
            </a:r>
            <a:r>
              <a:rPr b="1" lang="en-US" sz="2700" spc="-1" strike="noStrike">
                <a:solidFill>
                  <a:srgbClr val="0070c0"/>
                </a:solidFill>
                <a:latin typeface="Arial"/>
              </a:rPr>
              <a:t>ız.</a:t>
            </a: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9560-571E-4327-8303-F0A95FDA55E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971640" y="2421000"/>
            <a:ext cx="7200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2060"/>
                </a:solidFill>
                <a:latin typeface="Arial"/>
              </a:rPr>
              <a:t>Teşekkür eder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05D1-82BC-4E22-814F-1C9B77B50C0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de büyüme hızland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7000" y="942480"/>
            <a:ext cx="4572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Gsyh yüzde 4 büyü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Tasarruf oranı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Bütçe disiplini s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Kamunun borç stoku/gsyh oranı düşt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Net sermaye girişi ol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Finansal sektör işlevini sürd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99000" y="942840"/>
            <a:ext cx="385128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Gıda fiyatları ve zayıf TL nedeniyle e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nflasyon yüksek ka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TL reel olarak değer kaybet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Likidite sıkılaştırı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Faiz oranları 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6F53-F809-4230-A829-CAD0D03E1DA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büyümesi yavaşlı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760" y="4437000"/>
            <a:ext cx="176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Uİ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440" y="1268280"/>
            <a:ext cx="4570560" cy="288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3425-16FB-4693-BFA2-842BEC29030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Ölçek küç</a:t>
            </a: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1697400" y="4437000"/>
            <a:ext cx="187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lbanks.com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738440" y="1238400"/>
            <a:ext cx="57132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09FC-F358-4FC2-8384-0C24C51C63C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-2700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yapısında değiş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668600" y="1268280"/>
            <a:ext cx="5783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F2B3-61D4-4E72-A56C-0D7B27DB2E3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Kredilerin sey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93040" y="4938840"/>
            <a:ext cx="140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0" y="1303200"/>
            <a:ext cx="4572000" cy="284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20520" y="1270080"/>
            <a:ext cx="4551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CEEF-FB20-44E3-AF76-FB9AF0F2206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5840" y="439596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4503600" y="0"/>
            <a:ext cx="45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Kurumsal kred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14400"/>
            <a:ext cx="4586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ireysel kredi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p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yı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 öngörülen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Sirin Mutluturk</dc:creator>
  <dc:description/>
  <dc:language>en-US</dc:language>
  <cp:lastModifiedBy>Ekrem Keskin</cp:lastModifiedBy>
  <cp:lastPrinted>2016-05-24T10:29:15Z</cp:lastPrinted>
  <dcterms:modified xsi:type="dcterms:W3CDTF">2016-05-25T06:48:50Z</dcterms:modified>
  <cp:revision>638</cp:revision>
  <dc:subject/>
  <dc:title>Slide 1</dc:title>
</cp:coreProperties>
</file>