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2.wmf" ContentType="image/x-wmf"/>
  <Override PartName="/ppt/media/image33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31.wmf" ContentType="image/x-wmf"/>
  <Override PartName="/ppt/media/image29.wmf" ContentType="image/x-wmf"/>
  <Override PartName="/ppt/media/image32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35.wmf" ContentType="image/x-wmf"/>
  <Override PartName="/ppt/media/image28.wmf" ContentType="image/x-wmf"/>
  <Override PartName="/ppt/media/image3.jpeg" ContentType="image/jpeg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3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728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4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5"/>
          </p:nvPr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8B7780-ED65-493D-AD59-0BD2F4CCC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A04480-BEC3-4E9A-84DE-F416B7024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BE7631-9B2D-4AE1-A61E-3523160A8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91B4DA-E10B-44E6-BDF5-B1709A4D9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2E98CC-3576-4850-AE78-59AD468D3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716F4A-C3C9-434F-84D4-BF23D298C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0D1F73-94AF-4BC6-A5E4-854A116D3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9B569D-074D-4705-BC21-F3E4920ED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2EAA41-4946-43ED-827C-783437D75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CBFD208-3078-473D-82A7-EE9573EE3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884239-3898-4BD0-9376-82CF760F7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7320AF-EF89-4D6A-881C-E2DB056F1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AB34E2-D48B-47E6-8239-AF83E1E13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60CDEE-E9DB-440B-B5D7-041ED31B7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D22278-B640-466F-BCCE-268E045D5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CFDB9E-CEBB-4FCC-854E-85F53BC7D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60588B-69F3-4189-8907-A27573ECE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151BF0-8E93-4CFF-8AF2-7AFDC283A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91DF17-BB09-4F58-98ED-CA46F1DCF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18AE3C-EDFB-40A7-A659-5EA0A4A1D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75E5AB6-5ABE-403D-9F63-DD3C5CA2E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A76957-9FDD-4667-B8D6-1433DA12E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0601E8-84EC-4A5D-80D9-EB5836CEB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633D25-6B97-4C38-892D-09E73FA56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3197905-F298-48CC-B7A8-E56587BD4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D92E6F-D5DA-4F68-8F6E-C4A3C1B60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4CDD62E-35AB-4C99-AEAE-9A828F1E6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948B6F-BD59-41D8-840E-30BEBA0AE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44A666-C1F5-4275-B983-58F3D2E8D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F50584-8C51-40F8-B96B-F729A8907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5165F6-B5AE-4370-96C3-C112D6358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696D34-3597-4236-861B-EB112939F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7FE8F0-D0CC-4BEF-A857-3490D77E4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EB20D9-B15C-45DA-9DEF-B5D791A15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3F0148-EEA9-43D1-AE28-87F9120FF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8534B80-5973-4A6D-BC82-90564AA87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8245C8C-550F-49CB-8A5A-D96C75BA0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9FC214-AA50-436A-9DF5-ECA9D895E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965BF-4D9E-49DC-94A0-28874BA6FD0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770BE-C1BB-4BDE-BC97-00254C6EA6F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3B385-66AC-45A3-8AAE-D899E9E8081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3BBAC-65D8-4E9E-AF14-6277514C91E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DAE12-5524-4259-9593-1ACD1DB51FF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57E37-2EED-4F63-BA65-38CAC8A1D51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787FB-837F-4A21-9521-506AFBEBD0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D12B6-7784-43E5-B975-B763EFA6E56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E6989-78F4-44E2-B8C9-057D176790E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D72BB-C449-4684-9FB7-F0FC29AD650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D77EC-3DB1-4DAC-A1BB-AAB90A96536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2CB05-5DC4-4C9D-936C-A3911578AE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tbb1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280" y="3284280"/>
            <a:ext cx="793116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7" descr="logotr2"/>
          <p:cNvPicPr/>
          <p:nvPr/>
        </p:nvPicPr>
        <p:blipFill>
          <a:blip r:embed="rId3"/>
          <a:stretch/>
        </p:blipFill>
        <p:spPr>
          <a:xfrm>
            <a:off x="3492360" y="836640"/>
            <a:ext cx="2195640" cy="22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8" descr="tbb1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609300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0" y="6381360"/>
            <a:ext cx="378000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3995640" y="6381360"/>
            <a:ext cx="7192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1C430-AE02-40C5-B3CC-20BEDC073841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5" descr="logotr2"/>
          <p:cNvPicPr/>
          <p:nvPr/>
        </p:nvPicPr>
        <p:blipFill>
          <a:blip r:embed="rId3"/>
          <a:stretch/>
        </p:blipFill>
        <p:spPr>
          <a:xfrm>
            <a:off x="8321760" y="6021360"/>
            <a:ext cx="822240" cy="83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9"/>
          <p:cNvSpPr/>
          <p:nvPr/>
        </p:nvSpPr>
        <p:spPr>
          <a:xfrm>
            <a:off x="20520" y="3198960"/>
            <a:ext cx="9144000" cy="47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66"/>
                </a:solidFill>
                <a:latin typeface="Arial"/>
              </a:rPr>
              <a:t>Ekonomide ve Bankacılık Sektörün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66"/>
                </a:solidFill>
                <a:latin typeface="Arial"/>
              </a:rPr>
              <a:t>Gelişme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Hüseyin Aydı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Yönetim Kurulu Başkan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Mayıs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46255-DBE3-4F72-9542-FF54D4AED653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"/>
          <p:cNvSpPr/>
          <p:nvPr/>
        </p:nvSpPr>
        <p:spPr>
          <a:xfrm>
            <a:off x="0" y="33480"/>
            <a:ext cx="88930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Proje</a:t>
            </a:r>
            <a:r>
              <a:rPr b="1" lang="en-US" sz="3600" spc="-1" strike="noStrike">
                <a:solidFill>
                  <a:srgbClr val="7f7f7f"/>
                </a:solidFill>
                <a:latin typeface="Arial"/>
              </a:rPr>
              <a:t> </a:t>
            </a: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kredile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1008000" y="1338120"/>
            <a:ext cx="7059600" cy="34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D619D-F857-4994-9D5E-6686937AD22E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2"/>
          <p:cNvSpPr/>
          <p:nvPr/>
        </p:nvSpPr>
        <p:spPr>
          <a:xfrm>
            <a:off x="-20520" y="0"/>
            <a:ext cx="916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Kredi kalite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"/>
          <p:cNvSpPr/>
          <p:nvPr/>
        </p:nvSpPr>
        <p:spPr>
          <a:xfrm>
            <a:off x="302400" y="4592520"/>
            <a:ext cx="158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DDK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, T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" descr=""/>
          <p:cNvPicPr/>
          <p:nvPr/>
        </p:nvPicPr>
        <p:blipFill>
          <a:blip r:embed="rId1"/>
          <a:stretch/>
        </p:blipFill>
        <p:spPr>
          <a:xfrm>
            <a:off x="-28440" y="1297080"/>
            <a:ext cx="4600440" cy="2852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" descr=""/>
          <p:cNvPicPr/>
          <p:nvPr/>
        </p:nvPicPr>
        <p:blipFill>
          <a:blip r:embed="rId2"/>
          <a:stretch/>
        </p:blipFill>
        <p:spPr>
          <a:xfrm>
            <a:off x="4560840" y="1297080"/>
            <a:ext cx="45831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996C7-AD35-491A-9D43-F6AFCA2E38B4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-20520" y="0"/>
            <a:ext cx="916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Yapılandırılan kredi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25200" y="1268280"/>
            <a:ext cx="454644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Küresel, bölgesel veya jeopolitik nedenlerl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fon akımı bozul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bireysel ve kurum</a:t>
            </a:r>
            <a:r>
              <a:rPr b="1" lang="tr-TR" sz="2000" spc="-1" strike="noStrike">
                <a:solidFill>
                  <a:srgbClr val="002060"/>
                </a:solidFill>
                <a:latin typeface="Arial"/>
              </a:rPr>
              <a:t>sa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l müşteriler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gerekli kolaylıklar sağlanmaktadı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Ancak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mali durumu sürekli sorunlu ve iyileşemeyecek müşteriler için kurallar uygulanmaktadı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" descr=""/>
          <p:cNvPicPr/>
          <p:nvPr/>
        </p:nvPicPr>
        <p:blipFill>
          <a:blip r:embed="rId1"/>
          <a:stretch/>
        </p:blipFill>
        <p:spPr>
          <a:xfrm>
            <a:off x="4597560" y="1700280"/>
            <a:ext cx="4565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8EBEE-67B2-4134-9132-620F63B1FC1A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256320" y="4633920"/>
            <a:ext cx="158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BDDK, T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"/>
          <p:cNvSpPr/>
          <p:nvPr/>
        </p:nvSpPr>
        <p:spPr>
          <a:xfrm>
            <a:off x="0" y="0"/>
            <a:ext cx="911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Arial"/>
              </a:rPr>
              <a:t>Mevduat daha sınırl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0" y="1268280"/>
            <a:ext cx="4575240" cy="2881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"/>
          <p:cNvPicPr/>
          <p:nvPr/>
        </p:nvPicPr>
        <p:blipFill>
          <a:blip r:embed="rId2"/>
          <a:stretch/>
        </p:blipFill>
        <p:spPr>
          <a:xfrm>
            <a:off x="4610160" y="1268280"/>
            <a:ext cx="45687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B33C9-3277-4FBE-A9F1-0488C738A19C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"/>
          <p:cNvSpPr/>
          <p:nvPr/>
        </p:nvSpPr>
        <p:spPr>
          <a:xfrm>
            <a:off x="-20520" y="-27000"/>
            <a:ext cx="458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Mevduat</a:t>
            </a: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ın seyri</a:t>
            </a: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6"/>
          <p:cNvSpPr/>
          <p:nvPr/>
        </p:nvSpPr>
        <p:spPr>
          <a:xfrm>
            <a:off x="400680" y="5614920"/>
            <a:ext cx="162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 BDDK, T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4552920" y="0"/>
            <a:ext cx="458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…</a:t>
            </a: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üyüme farkı azald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2" descr=""/>
          <p:cNvPicPr/>
          <p:nvPr/>
        </p:nvPicPr>
        <p:blipFill>
          <a:blip r:embed="rId1"/>
          <a:stretch/>
        </p:blipFill>
        <p:spPr>
          <a:xfrm>
            <a:off x="0" y="1365120"/>
            <a:ext cx="4560840" cy="27115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6" descr=""/>
          <p:cNvPicPr/>
          <p:nvPr/>
        </p:nvPicPr>
        <p:blipFill>
          <a:blip r:embed="rId2"/>
          <a:stretch/>
        </p:blipFill>
        <p:spPr>
          <a:xfrm>
            <a:off x="4560840" y="1309680"/>
            <a:ext cx="458316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9E977-4A5F-4E42-BB3C-609F28E96CBA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6"/>
          <p:cNvSpPr/>
          <p:nvPr/>
        </p:nvSpPr>
        <p:spPr>
          <a:xfrm>
            <a:off x="4551840" y="4635360"/>
            <a:ext cx="306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azine Müsteşarlığı, BDDK,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 T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4610160" y="0"/>
            <a:ext cx="454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f7f7f"/>
                </a:solidFill>
                <a:latin typeface="Arial"/>
              </a:rPr>
              <a:t>TL kredi büyümesin</a:t>
            </a:r>
            <a:r>
              <a:rPr b="1" lang="en-US" sz="2400" spc="-1" strike="noStrike">
                <a:solidFill>
                  <a:srgbClr val="7f7f7f"/>
                </a:solidFill>
                <a:latin typeface="Arial"/>
              </a:rPr>
              <a:t>in üçte biri Hazine itfasınd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3"/>
          <p:cNvSpPr/>
          <p:nvPr/>
        </p:nvSpPr>
        <p:spPr>
          <a:xfrm>
            <a:off x="0" y="0"/>
            <a:ext cx="454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Arial"/>
              </a:rPr>
              <a:t>Mevduatı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Arial"/>
              </a:rPr>
              <a:t>oranı düşü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4543560" y="1266840"/>
            <a:ext cx="4600440" cy="29541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" descr=""/>
          <p:cNvPicPr/>
          <p:nvPr/>
        </p:nvPicPr>
        <p:blipFill>
          <a:blip r:embed="rId2"/>
          <a:stretch/>
        </p:blipFill>
        <p:spPr>
          <a:xfrm>
            <a:off x="0" y="1266840"/>
            <a:ext cx="457200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99EEC-379E-4789-8865-E13C9DD89553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4610160" y="0"/>
            <a:ext cx="45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f7f7f"/>
                </a:solidFill>
                <a:latin typeface="Arial"/>
              </a:rPr>
              <a:t>Yurtdışı finansman önem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0" y="0"/>
            <a:ext cx="454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f7f7f"/>
                </a:solidFill>
                <a:latin typeface="Arial"/>
              </a:rPr>
              <a:t>Mevduat dışı kaynakların sey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4594320" y="1281240"/>
            <a:ext cx="4576680" cy="2868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"/>
          <p:cNvPicPr/>
          <p:nvPr/>
        </p:nvPicPr>
        <p:blipFill>
          <a:blip r:embed="rId2"/>
          <a:stretch/>
        </p:blipFill>
        <p:spPr>
          <a:xfrm>
            <a:off x="0" y="1281240"/>
            <a:ext cx="459432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E328C-D8AE-45FD-A2A9-09043FE9CE7D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"/>
          <p:cNvSpPr/>
          <p:nvPr/>
        </p:nvSpPr>
        <p:spPr>
          <a:xfrm>
            <a:off x="-20520" y="-27000"/>
            <a:ext cx="916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Yabancı para kredi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9" descr=""/>
          <p:cNvPicPr/>
          <p:nvPr/>
        </p:nvPicPr>
        <p:blipFill>
          <a:blip r:embed="rId1"/>
          <a:stretch/>
        </p:blipFill>
        <p:spPr>
          <a:xfrm>
            <a:off x="1440" y="1341360"/>
            <a:ext cx="4559400" cy="2820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"/>
          <p:cNvPicPr/>
          <p:nvPr/>
        </p:nvPicPr>
        <p:blipFill>
          <a:blip r:embed="rId2"/>
          <a:stretch/>
        </p:blipFill>
        <p:spPr>
          <a:xfrm>
            <a:off x="4560840" y="1177920"/>
            <a:ext cx="458316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485D-9267-46CC-9E3E-F5BF13B91E83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0734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"/>
          <p:cNvSpPr/>
          <p:nvPr/>
        </p:nvSpPr>
        <p:spPr>
          <a:xfrm>
            <a:off x="-20520" y="-27000"/>
            <a:ext cx="916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Özkaynak büyümesi yavaşladı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6"/>
          <p:cNvSpPr/>
          <p:nvPr/>
        </p:nvSpPr>
        <p:spPr>
          <a:xfrm>
            <a:off x="256320" y="4653000"/>
            <a:ext cx="162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 BDDK, T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0" descr=""/>
          <p:cNvPicPr/>
          <p:nvPr/>
        </p:nvPicPr>
        <p:blipFill>
          <a:blip r:embed="rId1"/>
          <a:stretch/>
        </p:blipFill>
        <p:spPr>
          <a:xfrm>
            <a:off x="-20520" y="1268280"/>
            <a:ext cx="4592520" cy="29527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1" descr=""/>
          <p:cNvPicPr/>
          <p:nvPr/>
        </p:nvPicPr>
        <p:blipFill>
          <a:blip r:embed="rId2"/>
          <a:stretch/>
        </p:blipFill>
        <p:spPr>
          <a:xfrm>
            <a:off x="4579920" y="1247760"/>
            <a:ext cx="456408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B457-2ECC-4FC0-BBD0-E586259EC8E0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0734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"/>
          <p:cNvSpPr/>
          <p:nvPr/>
        </p:nvSpPr>
        <p:spPr>
          <a:xfrm>
            <a:off x="-20520" y="-27000"/>
            <a:ext cx="916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Sermaye yeterliliğ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256320" y="4653000"/>
            <a:ext cx="162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 BDDK, T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-11160" y="1260360"/>
            <a:ext cx="4572000" cy="29386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"/>
          <p:cNvPicPr/>
          <p:nvPr/>
        </p:nvPicPr>
        <p:blipFill>
          <a:blip r:embed="rId2"/>
          <a:stretch/>
        </p:blipFill>
        <p:spPr>
          <a:xfrm>
            <a:off x="4560840" y="1260360"/>
            <a:ext cx="4583160" cy="29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E010F-B148-4AB6-AA95-FB38459A0134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0" y="0"/>
            <a:ext cx="9144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Konuşmanın içeriğ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95280" y="1270080"/>
            <a:ext cx="8407440" cy="42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Dünyada ve Türkiye’de ekonomik gelişme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Bankacılık sektöründeki gelişmel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Özkaynaklar ve sektörün taleple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1B692-5589-48A7-807C-9A53A35C79E0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0" y="0"/>
            <a:ext cx="9144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Fiili sermaye yeterliliği yüzde 13.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0" y="1225440"/>
            <a:ext cx="6084720" cy="398952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084360" y="1017720"/>
            <a:ext cx="3022920" cy="48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c0"/>
                </a:solidFill>
                <a:latin typeface="Arial"/>
              </a:rPr>
              <a:t>Mevcut eğili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c0"/>
                </a:solidFill>
                <a:latin typeface="Arial"/>
              </a:rPr>
              <a:t>devam eders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c0"/>
                </a:solidFill>
                <a:latin typeface="Arial"/>
              </a:rPr>
              <a:t>2018’d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c0"/>
                </a:solidFill>
                <a:latin typeface="Arial"/>
              </a:rPr>
              <a:t>fiili sınıra ulaşılaca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c0"/>
                </a:solidFill>
                <a:latin typeface="Arial"/>
              </a:rPr>
              <a:t>ya da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70c0"/>
                </a:solidFill>
                <a:latin typeface="Arial"/>
              </a:rPr>
              <a:t>kredi büyümes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c0"/>
                </a:solidFill>
                <a:latin typeface="Arial"/>
              </a:rPr>
              <a:t>yavaşlayaca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B4C67-EE14-4B17-96D1-390452B4CBE7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0" y="0"/>
            <a:ext cx="914076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Özkaynakları sınırlandıran neden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2240" y="1017720"/>
            <a:ext cx="4568760" cy="48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Sadece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piyasalardaki dalgalanmaları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neden olduğu riskler vey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yönetim kararları değildi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4570560" y="1017720"/>
            <a:ext cx="4568760" cy="50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c0"/>
                </a:solidFill>
                <a:latin typeface="Arial"/>
              </a:rPr>
              <a:t>Düzenleme değişiklikler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c0"/>
                </a:solidFill>
                <a:latin typeface="Arial"/>
              </a:rPr>
              <a:t>Sürdürülebilir karlılığı sınırlandıran yükl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70c0"/>
                </a:solidFill>
                <a:latin typeface="Arial"/>
              </a:rPr>
              <a:t>Maliyet arttıran ek yük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70c0"/>
                </a:solidFill>
                <a:latin typeface="Arial"/>
              </a:rPr>
              <a:t>Gelir azaltan düzenleme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70c0"/>
                </a:solidFill>
                <a:latin typeface="Arial"/>
              </a:rPr>
              <a:t>Gri alanlarda cezalandırıcı yaklaşı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c0"/>
                </a:solidFill>
                <a:latin typeface="Arial"/>
              </a:rPr>
              <a:t>Tahsili gecikmiş alacaklarda artı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B8D6D-FBA9-4AFC-B55A-E45F5CF17CDD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0734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"/>
          <p:cNvSpPr/>
          <p:nvPr/>
        </p:nvSpPr>
        <p:spPr>
          <a:xfrm>
            <a:off x="-20520" y="-27000"/>
            <a:ext cx="458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Faiz marjı düşerke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6"/>
          <p:cNvSpPr/>
          <p:nvPr/>
        </p:nvSpPr>
        <p:spPr>
          <a:xfrm>
            <a:off x="256320" y="4653000"/>
            <a:ext cx="162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 BDDK, T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9"/>
          <p:cNvSpPr/>
          <p:nvPr/>
        </p:nvSpPr>
        <p:spPr>
          <a:xfrm>
            <a:off x="4548240" y="0"/>
            <a:ext cx="45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Faiz dış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m</a:t>
            </a: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arj</a:t>
            </a: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ın katkısı da azalı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0" descr=""/>
          <p:cNvPicPr/>
          <p:nvPr/>
        </p:nvPicPr>
        <p:blipFill>
          <a:blip r:embed="rId1"/>
          <a:stretch/>
        </p:blipFill>
        <p:spPr>
          <a:xfrm>
            <a:off x="0" y="1289160"/>
            <a:ext cx="4560840" cy="28605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"/>
          <p:cNvPicPr/>
          <p:nvPr/>
        </p:nvPicPr>
        <p:blipFill>
          <a:blip r:embed="rId2"/>
          <a:stretch/>
        </p:blipFill>
        <p:spPr>
          <a:xfrm>
            <a:off x="4572000" y="1316160"/>
            <a:ext cx="4572000" cy="28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B816E-D631-4B78-813B-D31511CBDF71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3120" y="-19080"/>
            <a:ext cx="453852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Faiz marjının düşmesi beklenen bir du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4578480" y="0"/>
            <a:ext cx="45385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Risk için ayrılan karşılı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"/>
          <p:cNvSpPr/>
          <p:nvPr/>
        </p:nvSpPr>
        <p:spPr>
          <a:xfrm>
            <a:off x="0" y="1482840"/>
            <a:ext cx="4532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19194d"/>
                </a:solidFill>
                <a:latin typeface="Arial"/>
              </a:rPr>
              <a:t>Faiz oranları yükselirs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19194d"/>
                </a:solidFill>
                <a:latin typeface="Arial"/>
              </a:rPr>
              <a:t>sağlıklı ve faize duyarlı müşterilerin kredi talebi azalı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19194d"/>
                </a:solidFill>
                <a:latin typeface="Arial"/>
              </a:rPr>
              <a:t>büyüme hızı yavaş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19194d"/>
                </a:solidFill>
                <a:latin typeface="Arial"/>
              </a:rPr>
              <a:t>kredi kalitesi düşer</a:t>
            </a:r>
            <a:r>
              <a:rPr b="1" lang="en-US" sz="2400" spc="-1" strike="noStrike">
                <a:solidFill>
                  <a:srgbClr val="19194d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19194d"/>
                </a:solidFill>
                <a:latin typeface="Arial"/>
              </a:rPr>
              <a:t>riskler için karşılıklar artar</a:t>
            </a:r>
            <a:r>
              <a:rPr b="1" lang="en-US" sz="2400" spc="-1" strike="noStrike">
                <a:solidFill>
                  <a:srgbClr val="19194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4572000" y="1187280"/>
            <a:ext cx="457200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96F25-D9FC-4252-9B9C-5A903F0EBDE2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3120" y="-19080"/>
            <a:ext cx="453852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Net özkaynak karlılığı düşü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4578480" y="0"/>
            <a:ext cx="45385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Sermayenin getirisi maliyetin altı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7" descr=""/>
          <p:cNvPicPr/>
          <p:nvPr/>
        </p:nvPicPr>
        <p:blipFill>
          <a:blip r:embed="rId1"/>
          <a:stretch/>
        </p:blipFill>
        <p:spPr>
          <a:xfrm>
            <a:off x="-33480" y="1303200"/>
            <a:ext cx="4577040" cy="28465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9" descr=""/>
          <p:cNvPicPr/>
          <p:nvPr/>
        </p:nvPicPr>
        <p:blipFill>
          <a:blip r:embed="rId2"/>
          <a:stretch/>
        </p:blipFill>
        <p:spPr>
          <a:xfrm>
            <a:off x="4578480" y="1303200"/>
            <a:ext cx="4565520" cy="28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4E76E-4036-4E57-AEFF-9F159A76051E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0" y="0"/>
            <a:ext cx="913608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Sermayeye sahip çıkmak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ekonominin geleceğine sahip çıkmaktı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"/>
          <p:cNvSpPr/>
          <p:nvPr/>
        </p:nvSpPr>
        <p:spPr>
          <a:xfrm>
            <a:off x="9360" y="1494000"/>
            <a:ext cx="9134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b050"/>
                </a:solidFill>
                <a:latin typeface="Arial"/>
              </a:rPr>
              <a:t>Net karın tamamı özkaynağa ekleniyor;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b050"/>
                </a:solidFill>
                <a:latin typeface="Arial"/>
              </a:rPr>
              <a:t>krediye ve büyümeye dönüşüy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250920" y="3451320"/>
            <a:ext cx="8642160" cy="18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286F9-BBEC-40DE-BF87-43830748EFEE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"/>
          <p:cNvSpPr/>
          <p:nvPr/>
        </p:nvSpPr>
        <p:spPr>
          <a:xfrm>
            <a:off x="0" y="0"/>
            <a:ext cx="9144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Özkaynakların önem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-360" y="1267920"/>
            <a:ext cx="456876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Kredi</a:t>
            </a: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 büyümesinin </a:t>
            </a: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sürdürülmes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Uluslararası rekabet gücünün artmas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Şoklara dayanma gücünün korunmas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Sıkılaşan uluslararası kurallara uy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4641840" y="1268280"/>
            <a:ext cx="4568760" cy="48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70c0"/>
                </a:solidFill>
                <a:latin typeface="Arial"/>
              </a:rPr>
              <a:t>Özkaynakların güçlendirilmesi gerek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4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8FD26-BF13-462B-8B0C-A9957AE99322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Piyasa değe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6"/>
          <p:cNvSpPr/>
          <p:nvPr/>
        </p:nvSpPr>
        <p:spPr>
          <a:xfrm>
            <a:off x="248040" y="4592520"/>
            <a:ext cx="222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Borsa İstanbu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-11160" y="1276200"/>
            <a:ext cx="4583160" cy="28735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"/>
          <p:cNvPicPr/>
          <p:nvPr/>
        </p:nvPicPr>
        <p:blipFill>
          <a:blip r:embed="rId2"/>
          <a:stretch/>
        </p:blipFill>
        <p:spPr>
          <a:xfrm>
            <a:off x="4559400" y="1262160"/>
            <a:ext cx="45846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4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FAFA3-65E5-4191-9D08-E1C1833AC0B1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6"/>
          <p:cNvSpPr/>
          <p:nvPr/>
        </p:nvSpPr>
        <p:spPr>
          <a:xfrm>
            <a:off x="183600" y="4581360"/>
            <a:ext cx="184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Borsa İstanb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itle 1"/>
          <p:cNvSpPr/>
          <p:nvPr/>
        </p:nvSpPr>
        <p:spPr>
          <a:xfrm>
            <a:off x="-3240" y="44280"/>
            <a:ext cx="4568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Bankalar</a:t>
            </a: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da 1’in altı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" descr=""/>
          <p:cNvPicPr/>
          <p:nvPr/>
        </p:nvPicPr>
        <p:blipFill>
          <a:blip r:embed="rId1"/>
          <a:stretch/>
        </p:blipFill>
        <p:spPr>
          <a:xfrm>
            <a:off x="0" y="1333440"/>
            <a:ext cx="4568760" cy="28576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" descr=""/>
          <p:cNvPicPr/>
          <p:nvPr/>
        </p:nvPicPr>
        <p:blipFill>
          <a:blip r:embed="rId2"/>
          <a:stretch/>
        </p:blipFill>
        <p:spPr>
          <a:xfrm>
            <a:off x="4572000" y="1306440"/>
            <a:ext cx="4572000" cy="2884680"/>
          </a:xfrm>
          <a:prstGeom prst="rect">
            <a:avLst/>
          </a:prstGeom>
          <a:ln w="0">
            <a:noFill/>
          </a:ln>
        </p:spPr>
      </p:pic>
      <p:sp>
        <p:nvSpPr>
          <p:cNvPr id="245" name="Title 1"/>
          <p:cNvSpPr/>
          <p:nvPr/>
        </p:nvSpPr>
        <p:spPr>
          <a:xfrm>
            <a:off x="4575240" y="47520"/>
            <a:ext cx="456876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Karlılık bankalar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daha yüksek değ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6"/>
          <p:cNvSpPr/>
          <p:nvPr/>
        </p:nvSpPr>
        <p:spPr>
          <a:xfrm>
            <a:off x="4530240" y="4568760"/>
            <a:ext cx="257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Borsa İstanbu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İSO, T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4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09EC3-B142-41E9-BD2D-A7A43A7E68E0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7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808080"/>
                </a:solidFill>
                <a:latin typeface="Arial"/>
              </a:rPr>
              <a:t>Düzenlemeler etkili ve maliyet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9880" y="1196640"/>
            <a:ext cx="886284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66"/>
                </a:solidFill>
                <a:latin typeface="Arial"/>
              </a:rPr>
              <a:t>Gelişmişlik farkı gözetilmi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1" lang="tr-TR" sz="2400" spc="-1" strike="noStrike">
                <a:solidFill>
                  <a:srgbClr val="000066"/>
                </a:solidFill>
                <a:latin typeface="Arial"/>
              </a:rPr>
              <a:t>ankaların yapısını, davranışını ve maliyetini etkili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1" lang="tr-TR" sz="2400" spc="-1" strike="noStrike">
                <a:solidFill>
                  <a:srgbClr val="000066"/>
                </a:solidFill>
                <a:latin typeface="Arial"/>
              </a:rPr>
              <a:t>üşterileri ve ekonomiyi etkili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tr-TR" sz="2400" spc="-1" strike="noStrike">
                <a:solidFill>
                  <a:srgbClr val="000066"/>
                </a:solidFill>
                <a:latin typeface="Arial"/>
              </a:rPr>
              <a:t>ürekli değişiklik uyum sürecini, iş modellerini etkili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4572000" y="1197000"/>
            <a:ext cx="43210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FC929-C12A-4A83-B2C1-F254CB27E5CB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0" y="0"/>
            <a:ext cx="9144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Küresel r</a:t>
            </a:r>
            <a:r>
              <a:rPr b="1" lang="en-US" sz="3600" spc="-1" strike="noStrike">
                <a:solidFill>
                  <a:srgbClr val="7f7f7f"/>
                </a:solidFill>
                <a:latin typeface="Arial"/>
              </a:rPr>
              <a:t>iskler yüksek ve dalgalı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440" y="808200"/>
            <a:ext cx="4540320" cy="52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2060"/>
                </a:solidFill>
                <a:latin typeface="Arial"/>
              </a:rPr>
              <a:t>Belirsizlik ve riskler yüksek, risk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iştahı</a:t>
            </a:r>
            <a:r>
              <a:rPr b="1" lang="tr-TR" sz="2000" spc="-1" strike="noStrike">
                <a:solidFill>
                  <a:srgbClr val="002060"/>
                </a:solidFill>
                <a:latin typeface="Arial"/>
              </a:rPr>
              <a:t> dalgal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Büyüme ve ticaret hacmi artışı yava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Gelişmiş ülkelerde farklılaşan para politikas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2060"/>
                </a:solidFill>
                <a:latin typeface="Arial"/>
              </a:rPr>
              <a:t>GOÜ’den s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ermaye </a:t>
            </a:r>
            <a:r>
              <a:rPr b="1" lang="tr-TR" sz="2000" spc="-1" strike="noStrike">
                <a:solidFill>
                  <a:srgbClr val="002060"/>
                </a:solidFill>
                <a:latin typeface="Arial"/>
              </a:rPr>
              <a:t>çıkış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Küresel para ve sermaye piyasaları dalgal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Risk primleri yükse</a:t>
            </a:r>
            <a:r>
              <a:rPr b="1" lang="tr-TR" sz="2000" spc="-1" strike="noStrike">
                <a:solidFill>
                  <a:srgbClr val="00206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62640" y="692280"/>
            <a:ext cx="454176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4573440" y="765000"/>
            <a:ext cx="4321440" cy="52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4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044DD-49A3-437D-B97B-66EDD71896D4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4572000" y="1197000"/>
            <a:ext cx="43210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-74520" y="0"/>
            <a:ext cx="92185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808080"/>
                </a:solidFill>
                <a:latin typeface="Arial"/>
              </a:rPr>
              <a:t>TBB’nin taleb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0" y="909720"/>
            <a:ext cx="9150480" cy="51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BDDK’nın görüşü alınmalı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, </a:t>
            </a: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koordinasyon sağlanmal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70c0"/>
                </a:solidFill>
                <a:latin typeface="Arial"/>
              </a:rPr>
              <a:t>Olağanüstü durumlar tanımlanmal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Basit, uygulanabilir, tutarlı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olmal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70c0"/>
                </a:solidFill>
                <a:latin typeface="Arial"/>
              </a:rPr>
              <a:t>Sektörü büyütmeli, rekabet gücünü destekleme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Özkaynakları güçlendirme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70c0"/>
                </a:solidFill>
                <a:latin typeface="Arial"/>
              </a:rPr>
              <a:t>Teknolojik ürün ve hizmetleri destekleme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4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8ED89-BB0F-4036-861A-1756042EFD48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808080"/>
                </a:solidFill>
                <a:latin typeface="Arial"/>
              </a:rPr>
              <a:t>TBB’nin taleb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480" y="879480"/>
            <a:ext cx="8896320" cy="52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Alacakların tahsilatını hızlandırmal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70c0"/>
                </a:solidFill>
                <a:latin typeface="Arial"/>
              </a:rPr>
              <a:t>Kredi verme iştahını düşürmeme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Risk yönetiminde rehber olmalı, riskin alınmasına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müdahale etmeme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70c0"/>
                </a:solidFill>
                <a:latin typeface="Arial"/>
              </a:rPr>
              <a:t>Risk primini düşürme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Güven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 sağlamal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70c0"/>
                </a:solidFill>
                <a:latin typeface="Arial"/>
              </a:rPr>
              <a:t>Piyasaları büyütmeli ve derinleştirilme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4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3C866-F01A-4208-955F-56E8A8C1DCAF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789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808080"/>
                </a:solidFill>
                <a:latin typeface="Arial"/>
              </a:rPr>
              <a:t>Finansal istikrar ve büyü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15840" y="1268280"/>
            <a:ext cx="45925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İşletmeler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bireyler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kredi ve bankacılık hizm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taleplerinin karşılanmas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finansal istikrarı tanıml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4572000" y="1262160"/>
            <a:ext cx="459252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Mevcut kredilerin çevrilme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alacakların zamanında tahsil edilmesine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yeni kredilerin verilme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ekonomide büyümenin sürekliliğine bağlıdı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lide Number Placeholder 4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EE062-7D38-41A4-8AB2-640A9FA5554B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7892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808080"/>
                </a:solidFill>
                <a:latin typeface="Arial"/>
              </a:rPr>
              <a:t>Reform; </a:t>
            </a:r>
            <a:br>
              <a:rPr sz="3600"/>
            </a:br>
            <a:r>
              <a:rPr b="1" lang="tr-TR" sz="3600" spc="-1" strike="noStrike">
                <a:solidFill>
                  <a:srgbClr val="808080"/>
                </a:solidFill>
                <a:latin typeface="Arial"/>
              </a:rPr>
              <a:t>rekabet, büyüme ve refah artışı demekt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5840" y="1268280"/>
            <a:ext cx="45925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Sağlam makro de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Hızlanan reform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Sağlıklı bankacılı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0" y="1262160"/>
            <a:ext cx="459252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Öngörülebilirl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Büyüme potansiye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Refah artış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4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C2FD3-98F9-474C-9E9D-34FD3D32B0AF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789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808080"/>
                </a:solidFill>
                <a:latin typeface="Arial"/>
              </a:rPr>
              <a:t>Ülkemizin geleceğine </a:t>
            </a:r>
            <a:br>
              <a:rPr sz="3600"/>
            </a:br>
            <a:r>
              <a:rPr b="1" lang="tr-TR" sz="3600" spc="-1" strike="noStrike">
                <a:solidFill>
                  <a:srgbClr val="808080"/>
                </a:solidFill>
                <a:latin typeface="Arial"/>
              </a:rPr>
              <a:t>inanıyor ve güveniyoru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15840" y="1268280"/>
            <a:ext cx="455616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İyimser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Beklentilerimiz olum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İhtiyatlıyı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0" y="1262160"/>
            <a:ext cx="459252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Gerçekçi bir yaklaşıml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riskleri v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fırsatlar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birlik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değerlendiriyor, yönetiyoru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3752C-49FA-4295-8FD4-993F44D3DAF8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"/>
          <p:cNvSpPr/>
          <p:nvPr/>
        </p:nvSpPr>
        <p:spPr>
          <a:xfrm>
            <a:off x="0" y="0"/>
            <a:ext cx="9144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Arial"/>
              </a:rPr>
              <a:t>Türkiye’nin geleceğine yatırıma dev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6640" y="942480"/>
            <a:ext cx="893772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İstikrardan ve büyümeden güç alan bankacılı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zorluklara ve giderek sıkılaşan kurallara rağme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ihtiyatlı bir yaklaşım için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kredileri reel olarak arttırar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Türkiye’nin geleceğine yatırım  yapıyor</a:t>
            </a: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u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lide Number Placeholder 4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39CF4-F499-404E-8B4F-5271013A0DC5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-2700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Şükran ve teşekkü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239760" y="836640"/>
            <a:ext cx="432756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19194d"/>
                </a:solidFill>
                <a:latin typeface="Arial"/>
              </a:rPr>
              <a:t>Bankacılık sektörü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19194d"/>
                </a:solidFill>
                <a:latin typeface="Arial"/>
              </a:rPr>
              <a:t>büyüme potansiyeli</a:t>
            </a:r>
            <a:r>
              <a:rPr b="1" lang="en-US" sz="2700" spc="-1" strike="noStrike">
                <a:solidFill>
                  <a:srgbClr val="19194d"/>
                </a:solidFill>
                <a:latin typeface="Arial"/>
              </a:rPr>
              <a:t>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19194d"/>
                </a:solidFill>
                <a:latin typeface="Arial"/>
              </a:rPr>
              <a:t>sağlıklı bilanço yapısı</a:t>
            </a:r>
            <a:r>
              <a:rPr b="1" lang="en-US" sz="2700" spc="-1" strike="noStrike">
                <a:solidFill>
                  <a:srgbClr val="19194d"/>
                </a:solidFill>
                <a:latin typeface="Arial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19194d"/>
                </a:solidFill>
                <a:latin typeface="Arial"/>
              </a:rPr>
              <a:t>ürün ve hizmet kalitesi</a:t>
            </a:r>
            <a:r>
              <a:rPr b="1" lang="en-US" sz="2700" spc="-1" strike="noStrike">
                <a:solidFill>
                  <a:srgbClr val="19194d"/>
                </a:solidFill>
                <a:latin typeface="Arial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19194d"/>
                </a:solidFill>
                <a:latin typeface="Arial"/>
              </a:rPr>
              <a:t>yönetim tecrübesi</a:t>
            </a:r>
            <a:r>
              <a:rPr b="1" lang="en-US" sz="2700" spc="-1" strike="noStrike">
                <a:solidFill>
                  <a:srgbClr val="19194d"/>
                </a:solidFill>
                <a:latin typeface="Arial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19194d"/>
                </a:solidFill>
                <a:latin typeface="Arial"/>
              </a:rPr>
              <a:t>iyi eğitimli insan kaynağı i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19194d"/>
                </a:solidFill>
                <a:latin typeface="Arial"/>
              </a:rPr>
              <a:t>istikrara ve büyümeye katkı verd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4567320" y="836640"/>
            <a:ext cx="45766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0070c0"/>
                </a:solidFill>
                <a:latin typeface="Arial"/>
              </a:rPr>
              <a:t>Emeği geçen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0070c0"/>
                </a:solidFill>
                <a:latin typeface="Arial"/>
              </a:rPr>
              <a:t>kişi ve kuruluşlara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0070c0"/>
                </a:solidFill>
                <a:latin typeface="Arial"/>
              </a:rPr>
              <a:t>bankalarımıza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0070c0"/>
                </a:solidFill>
                <a:latin typeface="Arial"/>
              </a:rPr>
              <a:t>sermayedarlarımıza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0070c0"/>
                </a:solidFill>
                <a:latin typeface="Arial"/>
              </a:rPr>
              <a:t>yöneticilerimize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0070c0"/>
                </a:solidFill>
                <a:latin typeface="Arial"/>
              </a:rPr>
              <a:t>çalışanlarımıza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0070c0"/>
                </a:solidFill>
                <a:latin typeface="Arial"/>
              </a:rPr>
              <a:t>şükranlarımızı sunar</a:t>
            </a:r>
            <a:r>
              <a:rPr b="1" lang="en-US" sz="2700" spc="-1" strike="noStrike">
                <a:solidFill>
                  <a:srgbClr val="0070c0"/>
                </a:solidFill>
                <a:latin typeface="Arial"/>
              </a:rPr>
              <a:t>ız.</a:t>
            </a:r>
            <a:r>
              <a:rPr b="1" lang="tr-TR" sz="27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4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A255B-F7D2-4835-A741-DAED7EF352DA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itle 1"/>
          <p:cNvSpPr/>
          <p:nvPr/>
        </p:nvSpPr>
        <p:spPr>
          <a:xfrm>
            <a:off x="971640" y="2421000"/>
            <a:ext cx="720072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2060"/>
                </a:solidFill>
                <a:latin typeface="Arial"/>
              </a:rPr>
              <a:t>Teşekkür ederiz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2F7C4-F588-4B3B-B33E-6C84F68C56A9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0" y="0"/>
            <a:ext cx="9144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Arial"/>
              </a:rPr>
              <a:t>Türkiye’de büyüme hızland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7000" y="942480"/>
            <a:ext cx="45720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Gsyh yüzde 4 büyüd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Tasarruf oranı</a:t>
            </a: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yükseld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Bütçe disiplini sürd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Kamunun borç stoku/gsyh oranı düşt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Net sermaye girişi old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Finansal sektör işlevini sürdürd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4599000" y="942840"/>
            <a:ext cx="3851280" cy="48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55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c0"/>
                </a:solidFill>
                <a:latin typeface="Arial"/>
              </a:rPr>
              <a:t>Gıda fiyatları ve zayıf TL nedeniyle e</a:t>
            </a:r>
            <a:r>
              <a:rPr b="1" lang="en-US" sz="2200" spc="-1" strike="noStrike">
                <a:solidFill>
                  <a:srgbClr val="0070c0"/>
                </a:solidFill>
                <a:latin typeface="Arial"/>
              </a:rPr>
              <a:t>nflasyon yüksek kald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70c0"/>
                </a:solidFill>
                <a:latin typeface="Arial"/>
              </a:rPr>
              <a:t>TL reel olarak değer kaybet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70c0"/>
                </a:solidFill>
                <a:latin typeface="Arial"/>
              </a:rPr>
              <a:t>Likidite sıkılaştırıld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70c0"/>
                </a:solidFill>
                <a:latin typeface="Arial"/>
              </a:rPr>
              <a:t>Faiz oranları yükseld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14640-BAB9-496B-9C5D-251CFE03F2E3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0" y="0"/>
            <a:ext cx="9144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Arial"/>
              </a:rPr>
              <a:t>Bilanço büyümesi yavaşlıy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5760" y="4437000"/>
            <a:ext cx="176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BDD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UİK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1440" y="1268280"/>
            <a:ext cx="4570560" cy="2881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4572000" y="1268280"/>
            <a:ext cx="45720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2572C-F529-42E1-B8F4-46888798671A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0" y="0"/>
            <a:ext cx="9144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Arial"/>
              </a:rPr>
              <a:t>Ölçek küç</a:t>
            </a:r>
            <a:r>
              <a:rPr b="1" lang="en-US" sz="3200" spc="-1" strike="noStrike">
                <a:solidFill>
                  <a:srgbClr val="7f7f7f"/>
                </a:solidFill>
                <a:latin typeface="Arial"/>
              </a:rPr>
              <a:t>ü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1697400" y="4437000"/>
            <a:ext cx="187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lbanks.com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1738440" y="1238400"/>
            <a:ext cx="571320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E7BCC-69FB-4887-8085-565C7B477F16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0" y="-27000"/>
            <a:ext cx="9144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Arial"/>
              </a:rPr>
              <a:t>Bilanço yapısında değiş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1668600" y="1268280"/>
            <a:ext cx="57830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6A887-855D-4D9C-B93A-BE1F44B8E10F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0" y="0"/>
            <a:ext cx="9144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Arial"/>
              </a:rPr>
              <a:t>Kredilerin sey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293040" y="4938840"/>
            <a:ext cx="1409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Arial"/>
              </a:rPr>
              <a:t>Kaynak: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1000" spc="-1" strike="noStrike">
                <a:solidFill>
                  <a:srgbClr val="000000"/>
                </a:solidFill>
                <a:latin typeface="Arial"/>
              </a:rPr>
              <a:t>BDDK, TB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0" y="1303200"/>
            <a:ext cx="4572000" cy="2846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"/>
          <p:cNvPicPr/>
          <p:nvPr/>
        </p:nvPicPr>
        <p:blipFill>
          <a:blip r:embed="rId2"/>
          <a:stretch/>
        </p:blipFill>
        <p:spPr>
          <a:xfrm>
            <a:off x="20520" y="1270080"/>
            <a:ext cx="45514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AA91-E4A5-4707-AE21-8DDBD65EE08E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15840" y="4395960"/>
            <a:ext cx="158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BDDK, T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4503600" y="0"/>
            <a:ext cx="4586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Kurumsal kred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0" y="14400"/>
            <a:ext cx="4586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Bireysel krediler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p</a:t>
            </a: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ayı</a:t>
            </a: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 öngörülenin altı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4572000" y="1268280"/>
            <a:ext cx="4572000" cy="2881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0" y="1268280"/>
            <a:ext cx="45720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3T07:33:45Z</dcterms:created>
  <dc:creator>Sirin Mutluturk</dc:creator>
  <dc:description/>
  <dc:language>en-US</dc:language>
  <cp:lastModifiedBy>Ekrem Keskin</cp:lastModifiedBy>
  <cp:lastPrinted>2016-05-24T10:29:15Z</cp:lastPrinted>
  <dcterms:modified xsi:type="dcterms:W3CDTF">2016-05-25T06:48:50Z</dcterms:modified>
  <cp:revision>638</cp:revision>
  <dc:subject/>
  <dc:title>Slide 1</dc:title>
</cp:coreProperties>
</file>