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2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1.wmf" ContentType="image/x-wmf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728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E4FDCF-9103-4C71-8914-68ABA6CE6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5D7A35-C6B1-4EFC-AAFC-4B5A56A26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04FF54-17DD-483D-AE4C-9CF538F7B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D27399-1627-4C1C-AF1D-14FB09B4F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9988B6-E895-4A67-AC5F-8289B5310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90D581-66D6-4298-8B69-B9C52B196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08E1DF-0E4D-418F-BE0D-9EEDEE07C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22D453-56D0-4BBA-A961-2A1833F72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88228C-7E2C-4404-9FB5-6D7B0FFAB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FFB2CF-D7FB-4C3B-A917-CF47131E8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5DA0F1-472B-4ACC-AA3D-D51408E17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1AD7A4-E4B2-4412-A028-779931654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9F8FFD-BE64-4D3F-AF81-933CD3289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B75FC0-A730-4F7E-91CD-4C573C17F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953887-083F-44F6-A24D-29B7B7F87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70B86E-FED0-4FC7-A96F-F7AEF26BF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86F6F5-6DE7-420B-AA2D-B0C133E95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8606A6-D968-4E51-B00A-19374994A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960120-B6CE-4D00-970F-71081AB60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B29918-521A-4AE3-91FF-C66016868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72A42F-052E-4F30-8CAA-CDF17F5D5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87970D-15BE-4D4D-8BFC-6B1ABA0E4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F22101-4D75-4366-9995-C03FC314D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D0B94C-1778-419D-80A8-2E3D242C1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211CB2-26F8-4551-A580-CB3A29901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549D33-9F3F-4AA4-9D98-D48C21B56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F009AF-C089-42EA-8CE4-9945EA930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A3661E-42AF-4B32-97F8-E13A80337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EAAB37-8677-437B-8693-F1B306634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69CE87-6B1C-4729-8878-15EEBA95F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520CB6-D3EC-4668-9338-1CD63D226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3DF132-D2B4-43B9-AA59-6191B79CE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A11BEE-96F8-4E62-B744-FB418942F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B759BE-7F51-4EBB-8EF2-183807923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DEE079-A364-4A63-9DE8-127F09C95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1978D6-15EC-48CE-BF34-698A89F84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D63A6A-E25F-4E2E-8B42-2B437B595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4EF1BD-187E-4DFB-B0A3-54DF50989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8C4A-3EA1-4B2D-B460-FBA1368147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E3AA1-20C7-448E-A7EE-880CD6A0C8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A072D-A718-4372-83F0-F029421173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955B3-C0AF-4EFC-B0F1-106161D11C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0FA8A-47AF-4E34-9BA6-90A07BCE00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7BA8-489C-4A66-8D42-6EBE1BC8B6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7A02-FD95-4FE3-81BD-3F835FEB55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EB9A-58B4-418C-9C50-5FACB40A79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97D5-64AA-49A4-A060-454FC51227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4ED5E-6879-47FF-A075-A0E528A17C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D866D-7686-488E-9263-7C0E15A3AB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3AAF-9416-4190-94F5-09D40638CD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logotr2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tbb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C68A-A58D-4BBF-80A8-CB24FF79DF3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5" descr="logotr2"/>
          <p:cNvPicPr/>
          <p:nvPr/>
        </p:nvPicPr>
        <p:blipFill>
          <a:blip r:embed="rId3"/>
          <a:stretch/>
        </p:blipFill>
        <p:spPr>
          <a:xfrm>
            <a:off x="8321760" y="6021360"/>
            <a:ext cx="82224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9"/>
          <p:cNvSpPr/>
          <p:nvPr/>
        </p:nvSpPr>
        <p:spPr>
          <a:xfrm>
            <a:off x="20520" y="3198960"/>
            <a:ext cx="914400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Ekonomide ve Bankacılık Sektörü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66"/>
                </a:solidFill>
                <a:latin typeface="Arial"/>
              </a:rPr>
              <a:t>Gelişm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Hüseyin Aydı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Yönetim Kurulu Başkan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Mayıs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EBCF-3731-4C81-A6F0-6F3A1ABE95B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0" y="33480"/>
            <a:ext cx="8893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roje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l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08000" y="1338120"/>
            <a:ext cx="70596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918D-0F2B-4CA2-95DD-DD8BCB9B7F0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redi kalite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"/>
          <p:cNvSpPr/>
          <p:nvPr/>
        </p:nvSpPr>
        <p:spPr>
          <a:xfrm>
            <a:off x="302400" y="45925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-28440" y="1297080"/>
            <a:ext cx="4600440" cy="285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4560840" y="1297080"/>
            <a:ext cx="45831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6990-6915-43D6-8EDC-0592A698BC4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-20520" y="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pılandırılan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200" y="1268280"/>
            <a:ext cx="4546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, bölgesel veya jeopolitik nedenler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fon akımı bozu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ireysel ve kurum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sa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l müşterile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rekli kolaylıklar sağlanmaktadı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cak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mali durumu sürekli sorunlu ve iyileşemeyecek müşteriler için kurallar uygulanmaktadı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4597560" y="1700280"/>
            <a:ext cx="4565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B102-D177-4EA8-A0EF-39FA18398A0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56320" y="463392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0" y="0"/>
            <a:ext cx="91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Mevduat daha sınırl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4575240" cy="288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4610160" y="1268280"/>
            <a:ext cx="4568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5A47-54EE-46BF-9479-5181CAD163D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Mevduat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seyri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400680" y="561492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552920" y="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…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üyüme farkı azald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"/>
          <p:cNvPicPr/>
          <p:nvPr/>
        </p:nvPicPr>
        <p:blipFill>
          <a:blip r:embed="rId1"/>
          <a:stretch/>
        </p:blipFill>
        <p:spPr>
          <a:xfrm>
            <a:off x="0" y="1365120"/>
            <a:ext cx="4560840" cy="2711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"/>
          <p:cNvPicPr/>
          <p:nvPr/>
        </p:nvPicPr>
        <p:blipFill>
          <a:blip r:embed="rId2"/>
          <a:stretch/>
        </p:blipFill>
        <p:spPr>
          <a:xfrm>
            <a:off x="4560840" y="1309680"/>
            <a:ext cx="45831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7C81-9FDB-493F-A477-EB234DDECDE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551840" y="4635360"/>
            <a:ext cx="30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zine Müsteşarlığı, BDDK,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10160" y="0"/>
            <a:ext cx="454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TL kredi büyümesin</a:t>
            </a: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in üçte biri Hazine itfasın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evduatı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oranı düşü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43560" y="1266840"/>
            <a:ext cx="4600440" cy="2954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0" y="1266840"/>
            <a:ext cx="4572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4C48-8E22-4AEA-991B-B5E3DFC3221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610160" y="0"/>
            <a:ext cx="45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Yurtdışı finansman önem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0" y="0"/>
            <a:ext cx="45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f7f7f"/>
                </a:solidFill>
                <a:latin typeface="Arial"/>
              </a:rPr>
              <a:t>Mevduat dışı kaynakların sey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4594320" y="1281240"/>
            <a:ext cx="4576680" cy="286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0" y="1281240"/>
            <a:ext cx="459432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5573-3651-48A7-B63E-7835A5A11BE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Yabancı para kred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1440" y="1341360"/>
            <a:ext cx="4559400" cy="2820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4560840" y="1177920"/>
            <a:ext cx="45831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3461-457C-44E9-BA85-E5CA0F95476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 büyümesi yavaşlad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-20520" y="1268280"/>
            <a:ext cx="4592520" cy="295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2"/>
          <a:stretch/>
        </p:blipFill>
        <p:spPr>
          <a:xfrm>
            <a:off x="4579920" y="1247760"/>
            <a:ext cx="4564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1744-0148-448D-B1CF-CD5C960F708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-20520" y="-27000"/>
            <a:ext cx="91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 yeterlil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-11160" y="1260360"/>
            <a:ext cx="4572000" cy="2938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4560840" y="1260360"/>
            <a:ext cx="458316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45C5-6640-4B0B-A9EC-C633CE789A9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onuşmanın içeriğ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1270080"/>
            <a:ext cx="840744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Dünyada ve Türkiye’de ekonomik gelişm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nkacılık sektöründeki gelişme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 ve sektörün talepl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4421-359E-4042-81CF-A69E9DD7262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Fiili sermaye yeterliliği yüzde 13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1225440"/>
            <a:ext cx="6084720" cy="39895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84360" y="1017720"/>
            <a:ext cx="302292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Mevcut eğil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evam eder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2018’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fiili sınıra ulaşıl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 d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kredi büyü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yavaşlayac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A237-70EA-49FF-9CC0-6240040DFCF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07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 sınırlandıran neden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240" y="1017720"/>
            <a:ext cx="456876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ade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piyasalardaki dalgalanmaları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neden olduğu riskler vey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yönetim kararları değild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570560" y="1017720"/>
            <a:ext cx="45687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Düzenleme değişiklikle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Sürdürülebilir karlılığı sınırlandıran yük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Maliyet arttıran ek yük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elir azaltan düzenlem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70c0"/>
                </a:solidFill>
                <a:latin typeface="Arial"/>
              </a:rPr>
              <a:t>Gri alanlarda cezalandırıcı yaklaşı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Tahsili gecikmiş alacaklarda artı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C2C0-7FAE-4C1B-AE33-1F6C00EEFF5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734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-20520" y="-27000"/>
            <a:ext cx="45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 düşerk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256320" y="465300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4548240" y="0"/>
            <a:ext cx="45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dış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m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rj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ın katkısı da azalı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0" y="1289160"/>
            <a:ext cx="4560840" cy="2860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2"/>
          <a:stretch/>
        </p:blipFill>
        <p:spPr>
          <a:xfrm>
            <a:off x="4572000" y="1316160"/>
            <a:ext cx="457200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B943-1F06-4A5F-9C3A-4133DE5C611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Faiz marjının düşmesi beklenen bir du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578480" y="0"/>
            <a:ext cx="453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Risk için ayrılan karş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0" y="1482840"/>
            <a:ext cx="453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Faiz oranları yükselir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sağlıklı ve faize duyarlı müşterilerin kredi talebi azalı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büyüme hızı yavaş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kredi kalitesi düşe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19194d"/>
                </a:solidFill>
                <a:latin typeface="Arial"/>
              </a:rPr>
              <a:t>riskler için karşılıklar artar</a:t>
            </a: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4572000" y="1187280"/>
            <a:ext cx="4572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5442-265A-4D80-BF95-BF9F36F8D62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3120" y="-19080"/>
            <a:ext cx="45385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Net özkaynak karlılığı düşü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578480" y="0"/>
            <a:ext cx="45385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Sermayenin getirisi maliyet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-33480" y="1303200"/>
            <a:ext cx="4577040" cy="2846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"/>
          <p:cNvPicPr/>
          <p:nvPr/>
        </p:nvPicPr>
        <p:blipFill>
          <a:blip r:embed="rId2"/>
          <a:stretch/>
        </p:blipFill>
        <p:spPr>
          <a:xfrm>
            <a:off x="4578480" y="1303200"/>
            <a:ext cx="45655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18E2-E4AB-4DFF-A183-2A7431EF585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36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Sermayeye sahip çıkma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ekonominin geleceğine sahip çıkmakt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9360" y="1494000"/>
            <a:ext cx="913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Net karın tamamı özkaynağa ekleniyor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b050"/>
                </a:solidFill>
                <a:latin typeface="Arial"/>
              </a:rPr>
              <a:t>krediye ve büyümeye dönüşüy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50920" y="3451320"/>
            <a:ext cx="86421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BBD8-A83B-4DBD-A107-DA0C63A26E2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Özkaynakların ön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-360" y="1267920"/>
            <a:ext cx="456876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Kredi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 büyümesinin 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ürdürülme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Uluslararası rekabet gücünün art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Şoklara dayanma gücünün korunmas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Sıkılaşan uluslararası kurallara uy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641840" y="1268280"/>
            <a:ext cx="456876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70c0"/>
                </a:solidFill>
                <a:latin typeface="Arial"/>
              </a:rPr>
              <a:t>Özkaynakların güçlendirilmesi gerek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4A9D-AC0D-49A8-9970-38A9B9CF468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Piyasa değ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248040" y="4592520"/>
            <a:ext cx="222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-11160" y="1276200"/>
            <a:ext cx="4583160" cy="2873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2"/>
          <a:stretch/>
        </p:blipFill>
        <p:spPr>
          <a:xfrm>
            <a:off x="4559400" y="1262160"/>
            <a:ext cx="45846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60A7-8D2B-4AB1-B280-FDC4DC8FBFC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83600" y="4581360"/>
            <a:ext cx="184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-3240" y="44280"/>
            <a:ext cx="4568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ankalar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 1’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0" y="1333440"/>
            <a:ext cx="4568760" cy="2857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" descr=""/>
          <p:cNvPicPr/>
          <p:nvPr/>
        </p:nvPicPr>
        <p:blipFill>
          <a:blip r:embed="rId2"/>
          <a:stretch/>
        </p:blipFill>
        <p:spPr>
          <a:xfrm>
            <a:off x="4572000" y="1306440"/>
            <a:ext cx="4572000" cy="2884680"/>
          </a:xfrm>
          <a:prstGeom prst="rect">
            <a:avLst/>
          </a:prstGeom>
          <a:ln w="0">
            <a:noFill/>
          </a:ln>
        </p:spPr>
      </p:pic>
      <p:sp>
        <p:nvSpPr>
          <p:cNvPr id="245" name="Title 1"/>
          <p:cNvSpPr/>
          <p:nvPr/>
        </p:nvSpPr>
        <p:spPr>
          <a:xfrm>
            <a:off x="4575240" y="47520"/>
            <a:ext cx="45687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Karlılık bankalar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daha yüksek değ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4530240" y="4568760"/>
            <a:ext cx="25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orsa İstanbu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İSO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8D25-E7B9-43BF-B16C-E36C361EED4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Düzenlemeler etkili ve maliyet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9880" y="1196640"/>
            <a:ext cx="886284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Gelişmişlik farkı gözetilm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ankaların yapısını, davranışını ve maliyet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şterileri ve ekonomiy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tr-TR" sz="2400" spc="-1" strike="noStrike">
                <a:solidFill>
                  <a:srgbClr val="000066"/>
                </a:solidFill>
                <a:latin typeface="Arial"/>
              </a:rPr>
              <a:t>ürekli değişiklik uyum sürecini, iş modellerini etkili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42E1-D6F3-425B-A800-ED71D2C92D3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Küresel r</a:t>
            </a: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iskler yüksek ve dalgal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440" y="808200"/>
            <a:ext cx="454032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Belirsizlik ve riskler yüksek, risk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iştahı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Büyüme ve ticaret hacmi artışı yava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Gelişmiş ülkelerde farklılaşan para politikas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GOÜ’den s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ermaye 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çıkış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üresel para ve sermaye piyasaları dalgal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Risk primleri yükse</a:t>
            </a: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62640" y="692280"/>
            <a:ext cx="4541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573440" y="765000"/>
            <a:ext cx="432144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4B18-0A3A-4BA8-B2B3-3C35D146C1E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0" y="1197000"/>
            <a:ext cx="43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-74520" y="0"/>
            <a:ext cx="9218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909720"/>
            <a:ext cx="91504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DDK’nın görüşü alınmalı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koordinasyon sağ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Olağanüstü durumlar tanımlan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Basit, uygulanabilir, tutarl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l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Sektörü büyütmeli, rekabet gücünü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Özkaynakları güçlendi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Teknolojik ürün ve hizmetleri destekl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DF16-1163-47DA-9FF3-B254CEBF2ED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TBB’nin tale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480" y="879480"/>
            <a:ext cx="889632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Alacakların tahsilatını hızlandır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Kredi verme iştahını düşür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Risk yönetiminde rehber olmalı, riskin alınmasına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müdahale etme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Risk primini düşür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Güven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sağlamal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70c0"/>
                </a:solidFill>
                <a:latin typeface="Arial"/>
              </a:rPr>
              <a:t>Piyasaları büyütmeli ve derinleştirilm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3317-50FF-4A69-9E87-CC40C48D512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Finansal istikrar ve büyü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şletme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irey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kredi ve bankacılık hiz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taleplerinin karşılanmas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finansal istikrarı tanım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Mevcut kredilerin çev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alacakların zamanında tahsil edilmesine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yeni kredilerin veril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ekonomide büyümenin sürekliliğine bağlıd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B3C9-9570-4A29-9FE8-823E6916130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789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form;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rekabet, büyüme ve refah artışı demek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5840" y="1268280"/>
            <a:ext cx="4592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am makro d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Hızlanan refor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Sağlıklı bankacılı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Öngörülebilirl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üyüme potansiy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efah artış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7A5A-6E88-4783-ADFA-89E55996B2F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789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Ülkemizin geleceğine </a:t>
            </a:r>
            <a:br>
              <a:rPr sz="3600"/>
            </a:br>
            <a:r>
              <a:rPr b="1" lang="tr-TR" sz="3600" spc="-1" strike="noStrike">
                <a:solidFill>
                  <a:srgbClr val="808080"/>
                </a:solidFill>
                <a:latin typeface="Arial"/>
              </a:rPr>
              <a:t>inanıyor ve güveniyoru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5840" y="1268280"/>
            <a:ext cx="4556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yimser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Beklentilerimiz olum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2060"/>
                </a:solidFill>
                <a:latin typeface="Arial"/>
              </a:rPr>
              <a:t>İhtiyatlıyı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0" y="1262160"/>
            <a:ext cx="45925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Gerçekçi bir yaklaşım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riskleri 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fırsatlar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birlik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70c0"/>
                </a:solidFill>
                <a:latin typeface="Arial"/>
              </a:rPr>
              <a:t>değerlendiriyor, yönetiyoru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352C-99F0-4496-A378-6329B6D64DA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nin geleceğine yatırıma dev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6640" y="942480"/>
            <a:ext cx="8937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İstikrardan ve büyümeden güç alan bankacılı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zorluklara ve giderek sıkılaşan kurallara rağm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ihtiyatlı bir yaklaşım için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redileri reel olarak arttıra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Türkiye’nin geleceğine yatırım  yapıyor</a:t>
            </a:r>
            <a:r>
              <a:rPr b="1" lang="tr-TR" sz="2400" spc="-1" strike="noStrike">
                <a:solidFill>
                  <a:srgbClr val="002060"/>
                </a:solidFill>
                <a:latin typeface="Arial"/>
              </a:rPr>
              <a:t>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6104-0680-4209-BAAE-CDEE974F6C5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f7f7f"/>
                </a:solidFill>
                <a:latin typeface="Arial"/>
              </a:rPr>
              <a:t>Şükran ve teşekkü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39760" y="836640"/>
            <a:ext cx="43275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ankacılık sektörü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büyüme potansiyel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sağlıklı bilanço yapısı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ürün ve hizmet kalit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yönetim tecrübesi</a:t>
            </a:r>
            <a:r>
              <a:rPr b="1" lang="en-US" sz="2700" spc="-1" strike="noStrike">
                <a:solidFill>
                  <a:srgbClr val="19194d"/>
                </a:solidFill>
                <a:latin typeface="Arial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yi eğitimli insan kaynağı 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19194d"/>
                </a:solidFill>
                <a:latin typeface="Arial"/>
              </a:rPr>
              <a:t>istikrara ve büyümeye katkı verd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67320" y="836640"/>
            <a:ext cx="45766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Emeği geçen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kişi ve kuruluşlar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banka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sermayedarlarımıza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yöneticilerimiz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çalışanlarımız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şükranlarımızı sunar</a:t>
            </a:r>
            <a:r>
              <a:rPr b="1" lang="en-US" sz="2700" spc="-1" strike="noStrike">
                <a:solidFill>
                  <a:srgbClr val="0070c0"/>
                </a:solidFill>
                <a:latin typeface="Arial"/>
              </a:rPr>
              <a:t>ız.</a:t>
            </a:r>
            <a:r>
              <a:rPr b="1" lang="tr-TR" sz="27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7D38-9E69-48CA-9DAD-E003D2C60A2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971640" y="2421000"/>
            <a:ext cx="7200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2060"/>
                </a:solidFill>
                <a:latin typeface="Arial"/>
              </a:rPr>
              <a:t>Teşekkür eder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C6A5-C309-495B-A744-57E3FC50B5E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Türkiye’de büyüme hızland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7000" y="942480"/>
            <a:ext cx="4572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Gsyh yüzde 4 büyü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Tasarruf oranı</a:t>
            </a:r>
            <a:r>
              <a:rPr b="1" lang="tr-TR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Bütçe disiplini s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Kamunun borç stoku/gsyh oranı düşt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Net sermaye girişi ol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Finansal sektör işlevini sürdürd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99000" y="942840"/>
            <a:ext cx="385128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70c0"/>
                </a:solidFill>
                <a:latin typeface="Arial"/>
              </a:rPr>
              <a:t>Gıda fiyatları ve zayıf TL nedeniyle e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nflasyon yüksek ka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TL reel olarak değer kaybet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Likidite sıkılaştırıld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Faiz oranları yüksel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BD2D-6B4F-4188-8DD6-E10B973F91B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büyümesi yavaşlı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760" y="4437000"/>
            <a:ext cx="176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BDD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UİK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1440" y="1268280"/>
            <a:ext cx="4570560" cy="288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9272-220A-4E7F-ACBB-A67F2A1BAC3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Ölçek küç</a:t>
            </a: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ü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1697400" y="4437000"/>
            <a:ext cx="187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lbanks.com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738440" y="1238400"/>
            <a:ext cx="57132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3795-2212-4F23-B302-5C4145B6C74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-2700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Bilanço yapısında değiş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668600" y="1268280"/>
            <a:ext cx="5783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ABDA-B802-41C2-AB4B-8B145A9A380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0" y="0"/>
            <a:ext cx="9144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Kredilerin sey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93040" y="4938840"/>
            <a:ext cx="1409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Kaynak: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BDDK, TB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0" y="1303200"/>
            <a:ext cx="4572000" cy="284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2"/>
          <a:stretch/>
        </p:blipFill>
        <p:spPr>
          <a:xfrm>
            <a:off x="20520" y="1270080"/>
            <a:ext cx="4551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381720"/>
            <a:ext cx="378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ffffff"/>
                </a:solidFill>
                <a:latin typeface="Arial"/>
              </a:rPr>
              <a:t>59 uncu Genel Kurul, 27 Mayıs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3995640" y="6381720"/>
            <a:ext cx="71928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2B22-215C-4076-B6EC-8A9F2B3C4DD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15840" y="439596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Kaynak: BDDK, T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4503600" y="0"/>
            <a:ext cx="45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Kurumsal kred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14400"/>
            <a:ext cx="4586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Bireysel krediler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73080"/>
                <a:tab algn="l" pos="1949400"/>
                <a:tab algn="l" pos="2925720"/>
                <a:tab algn="l" pos="3902040"/>
                <a:tab algn="l" pos="4878360"/>
                <a:tab algn="l" pos="5854680"/>
                <a:tab algn="l" pos="6829560"/>
                <a:tab algn="l" pos="7805880"/>
                <a:tab algn="l" pos="8782200"/>
                <a:tab algn="l" pos="9758520"/>
                <a:tab algn="l" pos="1014588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p</a:t>
            </a:r>
            <a:r>
              <a:rPr b="1" lang="tr-TR" sz="2800" spc="-1" strike="noStrike">
                <a:solidFill>
                  <a:srgbClr val="7f7f7f"/>
                </a:solidFill>
                <a:latin typeface="Arial"/>
              </a:rPr>
              <a:t>ayı</a:t>
            </a: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 öngörülenin altı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4572000" y="1268280"/>
            <a:ext cx="4572000" cy="28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Sirin Mutluturk</dc:creator>
  <dc:description/>
  <dc:language>en-US</dc:language>
  <cp:lastModifiedBy>Ekrem Keskin</cp:lastModifiedBy>
  <cp:lastPrinted>2016-05-24T10:29:15Z</cp:lastPrinted>
  <dcterms:modified xsi:type="dcterms:W3CDTF">2016-05-25T06:48:50Z</dcterms:modified>
  <cp:revision>638</cp:revision>
  <dc:subject/>
  <dc:title>Slide 1</dc:title>
</cp:coreProperties>
</file>